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860-1E83-4B31-98A8-68F339D4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D221-705A-4B38-95E9-FB6CAFFF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2A0-F541-4DBD-B5C3-324E649A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8B4-DBD9-4AB3-A72F-2C5CB1DD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0FBD-C2EC-4322-96B1-DE96C186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0875-B55D-450A-B409-39AC578E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687E-E915-443E-8E61-2A33B5BE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63E6-61E6-43E3-83AF-A586F604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F0EB-26BE-446E-9E7E-BB332C20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789C-B126-4172-8111-787B191C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81C7-4FD0-42F5-88D9-9D71B5AA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FB0-7141-48AB-99BA-3FCB9800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59BB-573C-4FBD-ABC9-A177E8BE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E9A7-5E1F-4298-BF13-007482B6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BDCE-D161-4DC7-8F36-A1BB5855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1897-8448-4358-AE56-B5D41A14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CB80-1DB7-4F04-8A5D-4B0A8EB7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FDB-895A-4D01-AD27-E33B02E4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559-549E-4404-B315-0E86D7DD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4A3-B1E6-4D41-A9D7-AA15DD2B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D81-330A-4E34-98A7-E992A958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DF34-C9CF-46E1-8F2A-EAD03E31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F67-B80E-4BF3-B0A6-8413E2B1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F58-C37C-4C2E-B42B-C150E327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5959"/>
            </a:gs>
            <a:gs pos="100000">
              <a:srgbClr val="eaeaea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2D90-7961-481A-9673-1F2D45C966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5959"/>
            </a:gs>
            <a:gs pos="100000">
              <a:srgbClr val="eaeaea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A1E5-1906-478A-9870-67562CB5DD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88;&#1082;&#1086;&#1090;&#1080;&#1082;&#1080;" TargetMode="External"/><Relationship Id="rId2" Type="http://schemas.openxmlformats.org/officeDocument/2006/relationships/hyperlink" Target="http://ru.wikipedia.org/wiki/&#1040;&#1083;&#1082;&#1086;&#1075;&#1086;&#1083;&#1100;&#1085;&#1099;&#1077;_&#1085;&#1072;&#1087;&#1080;&#1090;&#1082;&#1080;" TargetMode="External"/><Relationship Id="rId3" Type="http://schemas.openxmlformats.org/officeDocument/2006/relationships/hyperlink" Target="http://ru.wikipedia.org/wiki/&#1057;&#1080;&#1085;&#1076;&#1088;&#1086;&#1084;_&#1087;&#1089;&#1080;&#1093;&#1080;&#1095;&#1077;&#1089;&#1082;&#1086;&#1081;_&#1079;&#1072;&#1074;&#1080;&#1089;&#1080;&#1084;&#1086;&#1089;&#1090;&#1080;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85680" y="1785600"/>
            <a:ext cx="6172200" cy="25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Вредные привычки. Употребление алкоголя и его влияние на здоровье человека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10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0019"/>
          <p:cNvPicPr/>
          <p:nvPr/>
        </p:nvPicPr>
        <p:blipFill>
          <a:blip r:embed="rId1"/>
          <a:stretch/>
        </p:blipFill>
        <p:spPr>
          <a:xfrm>
            <a:off x="122400" y="-23760"/>
            <a:ext cx="294948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642960" y="50004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данным специалистов, употребление спиртных напитков лицами моложе 20 лет примерно в 76% случаев приводит к алкоголиз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4" descr="20081028151940.jpg"/>
          <p:cNvPicPr/>
          <p:nvPr/>
        </p:nvPicPr>
        <p:blipFill>
          <a:blip r:embed="rId1"/>
          <a:stretch/>
        </p:blipFill>
        <p:spPr>
          <a:xfrm>
            <a:off x="285840" y="1357200"/>
            <a:ext cx="3375000" cy="354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230279"/>
          <p:cNvPicPr/>
          <p:nvPr/>
        </p:nvPicPr>
        <p:blipFill>
          <a:blip r:embed="rId2"/>
          <a:stretch/>
        </p:blipFill>
        <p:spPr>
          <a:xfrm>
            <a:off x="4214880" y="2928960"/>
            <a:ext cx="4643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571680" y="142920"/>
            <a:ext cx="8215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кого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шный, злейший порок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, душу и раз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щадишь, а жестоко калечишь 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я с седой стари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идёшь, собирая ужасную д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их ты искалечи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вращая в пропойную рван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ял молодость, си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увёл за собой от люби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в жизни прош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мо радости, счастья мим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ты загуб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отцов, и детей, и таланто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оёт, а доро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ипка в пьяных руках музыка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губи род людс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дых пожалей, не тра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порочную д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собою их всех не зо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чь, с дороги уйд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полню стакан твоим я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ишь, жизнь вперед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не лишних проблем в ней не над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7" descr="alkogolizm.jpg"/>
          <p:cNvPicPr/>
          <p:nvPr/>
        </p:nvPicPr>
        <p:blipFill>
          <a:blip r:embed="rId1"/>
          <a:stretch/>
        </p:blipFill>
        <p:spPr>
          <a:xfrm>
            <a:off x="4643280" y="2357280"/>
            <a:ext cx="429264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20147_Preview.jpg"/>
          <p:cNvPicPr/>
          <p:nvPr/>
        </p:nvPicPr>
        <p:blipFill>
          <a:blip r:embed="rId1"/>
          <a:stretch/>
        </p:blipFill>
        <p:spPr>
          <a:xfrm>
            <a:off x="714240" y="2357280"/>
            <a:ext cx="8048880" cy="40244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857160" y="71424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умайся!       Выбор за тобо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photo08.jpg"/>
          <p:cNvPicPr/>
          <p:nvPr/>
        </p:nvPicPr>
        <p:blipFill>
          <a:blip r:embed="rId1"/>
          <a:stretch/>
        </p:blipFill>
        <p:spPr>
          <a:xfrm>
            <a:off x="490680" y="233280"/>
            <a:ext cx="3510000" cy="49626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" descr="photo11.jpg"/>
          <p:cNvPicPr/>
          <p:nvPr/>
        </p:nvPicPr>
        <p:blipFill>
          <a:blip r:embed="rId2"/>
          <a:stretch/>
        </p:blipFill>
        <p:spPr>
          <a:xfrm>
            <a:off x="5143680" y="2071800"/>
            <a:ext cx="328608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NoAlcoholics"/>
          <p:cNvPicPr/>
          <p:nvPr/>
        </p:nvPicPr>
        <p:blipFill>
          <a:blip r:embed="rId1"/>
          <a:stretch/>
        </p:blipFill>
        <p:spPr>
          <a:xfrm>
            <a:off x="826920" y="404640"/>
            <a:ext cx="749016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02373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395280" y="404640"/>
            <a:ext cx="8353440" cy="6072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3642840"/>
            <a:ext cx="822960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«Действие алкоголя сказывается своим губительным влиянием на качестве и количестве нашей работы, на нашем здоровье, в том числе и на здоровье нового поколения, на нашей семье и на всём нашем быту». (А.В.Луначарский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Latha"/>
              </a:rPr>
              <a:t>Алкоголиз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1213920"/>
            <a:ext cx="835344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из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наркотическ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висимость, характеризующаяся болезненным пристрастием к употреблению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алкогольных напит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психическ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физическая зависимость) и алкогольным поражением внутренних органов. При алкоголизме происходит деградация человека как лич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вседневной жизни и исторически алкоголизмом называют состояние, которое приводит к постоянному употреблению алкогольных напитков, несмотря на проблемы со здоровьем и негативные социальные послед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ое определение в медицине описывает алкоголизм как болезнь и наркотическую зависимость, которая приводит к систематическому потреблению алкоголя, несмотря на негативные послед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684360" y="476280"/>
            <a:ext cx="7559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Мотивы пьянства подрост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250920" y="1628640"/>
            <a:ext cx="3529080" cy="2159280"/>
          </a:xfrm>
          <a:prstGeom prst="flowChartDecision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2843280" y="2637000"/>
            <a:ext cx="3529080" cy="2158920"/>
          </a:xfrm>
          <a:prstGeom prst="flowChartDecision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5219640" y="3789360"/>
            <a:ext cx="3529080" cy="2158920"/>
          </a:xfrm>
          <a:prstGeom prst="flowChartDecision">
            <a:avLst/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818640" y="2325600"/>
            <a:ext cx="243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ание след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адиц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570120" y="342576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Для храбр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073560" y="4508640"/>
            <a:ext cx="15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нять с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пря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1979640" y="1125360"/>
            <a:ext cx="144360" cy="503280"/>
          </a:xfrm>
          <a:prstGeom prst="downArrow">
            <a:avLst>
              <a:gd name="adj1" fmla="val 50000"/>
              <a:gd name="adj2" fmla="val 8715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4643280" y="1125360"/>
            <a:ext cx="216000" cy="1656000"/>
          </a:xfrm>
          <a:prstGeom prst="downArrow">
            <a:avLst>
              <a:gd name="adj1" fmla="val 50000"/>
              <a:gd name="adj2" fmla="val 191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7020000" y="1125360"/>
            <a:ext cx="216000" cy="2735280"/>
          </a:xfrm>
          <a:prstGeom prst="downArrow">
            <a:avLst>
              <a:gd name="adj1" fmla="val 50000"/>
              <a:gd name="adj2" fmla="val 316583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14200" y="285840"/>
            <a:ext cx="8248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Calibri"/>
              </a:rPr>
              <a:t>Лицо подросткового алкогол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alco05"/>
          <p:cNvPicPr/>
          <p:nvPr/>
        </p:nvPicPr>
        <p:blipFill>
          <a:blip r:embed="rId1"/>
          <a:stretch/>
        </p:blipFill>
        <p:spPr>
          <a:xfrm>
            <a:off x="477720" y="2251080"/>
            <a:ext cx="3768840" cy="360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alco14"/>
          <p:cNvPicPr/>
          <p:nvPr/>
        </p:nvPicPr>
        <p:blipFill>
          <a:blip r:embed="rId2"/>
          <a:stretch/>
        </p:blipFill>
        <p:spPr>
          <a:xfrm>
            <a:off x="4708440" y="2243160"/>
            <a:ext cx="395784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214200"/>
            <a:ext cx="7993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0000"/>
                </a:solidFill>
                <a:latin typeface="Calibri"/>
              </a:rPr>
              <a:t>Влияние алкоголя на нервную систему  человека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8360" y="1785960"/>
          <a:ext cx="8424720" cy="4846680"/>
        </p:xfrm>
        <a:graphic>
          <a:graphicData uri="http://schemas.openxmlformats.org/drawingml/2006/table">
            <a:tbl>
              <a:tblPr/>
              <a:tblGrid>
                <a:gridCol w="2808360"/>
                <a:gridCol w="5616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оголя в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 - 0,0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ключается кора головного мозга, человек теряет контроль над соб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гнетаются более глубокие отделы головного мозга, контролирующие движения(беспричинная радость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лияет на области мозга, контролирующие эмоциональное поведение человека(внезапная агрессивность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ходится хоть и в сознании, но непонимает того, что видит и слыши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дет к потери созн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 - 0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жет наступить смер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357120" y="857160"/>
            <a:ext cx="792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Алкоголь- это порождение варварства- мёртвой хваткой держит человечество со времён седой старины и собирает с него чудовищную дань, пожирая молодость, подрывая силы, подавляя энергию, губя лучший цвет рода люд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Д.Лонд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329"/>
          <p:cNvPicPr/>
          <p:nvPr/>
        </p:nvPicPr>
        <p:blipFill>
          <a:blip r:embed="rId1"/>
          <a:srcRect l="0" t="0" r="269" b="8332"/>
          <a:stretch/>
        </p:blipFill>
        <p:spPr>
          <a:xfrm>
            <a:off x="1643040" y="2357280"/>
            <a:ext cx="5286240" cy="39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785880" y="64296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ино губит телесное здоровье людей, губит умственные способности, губит благосостояние семей и, что всего ужаснее, губит души людей и их потом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Гё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alcoholic__no__580_no"/>
          <p:cNvPicPr/>
          <p:nvPr/>
        </p:nvPicPr>
        <p:blipFill>
          <a:blip r:embed="rId1"/>
          <a:stretch/>
        </p:blipFill>
        <p:spPr>
          <a:xfrm>
            <a:off x="1500120" y="1785960"/>
            <a:ext cx="61786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571680" y="7142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Чем моложе пьющее лицо, тем скорее оно становится алкоголик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русский психиатр А.М. Коров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30d2ba3982b4958b753b00d798c9a692"/>
          <p:cNvPicPr/>
          <p:nvPr/>
        </p:nvPicPr>
        <p:blipFill>
          <a:blip r:embed="rId1"/>
          <a:stretch/>
        </p:blipFill>
        <p:spPr>
          <a:xfrm>
            <a:off x="1143000" y="1571760"/>
            <a:ext cx="682164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0:42:11Z</dcterms:created>
  <dc:creator>Admin</dc:creator>
  <dc:description/>
  <dc:language>en-US</dc:language>
  <cp:lastModifiedBy>биология</cp:lastModifiedBy>
  <dcterms:modified xsi:type="dcterms:W3CDTF">2010-11-27T05:31:15Z</dcterms:modified>
  <cp:revision>10</cp:revision>
  <dc:subject/>
  <dc:title>Урок ОБЖ в 10 классе Тема: «Вредные привычки. Употребление алкоголя и его влияние на здоровье человека».</dc:title>
</cp:coreProperties>
</file>