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3C5D-D79F-418E-A3EE-DBA2186D5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F5CC-F9B1-42C0-826E-92D45ED3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B96-41AE-4F9A-996D-D5C65A41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B9E0-0FE9-4865-A704-D1F6DD7B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3D9E-9F23-47A4-8263-57A4B6DC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EC6F-5377-4E54-95CE-A91E7E2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12B-901A-438B-842C-E8B4A1A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3D42-06C2-4AC5-B753-BB5DE17D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B2E-D057-4E94-BAC4-AC93602F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9A26-3E8E-4DC8-8240-F1451F75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C6CB-247C-4BC0-8CF9-7C90380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B94D-FD1C-4DFD-90F9-6AAA41E8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DA91-32A6-4C30-BA28-E40FB13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D81C-009E-4521-89E8-FF78830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E4D6-B362-4229-9E80-C2C26919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3F33-873E-4213-8963-D4F255C7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261-5D81-4BBD-A33A-08F2A0A4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5BC-DBDE-4C62-9485-04FF38E7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3C1-7AF4-4474-B731-74DC80EB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AF06-CA6D-4F61-B4C7-CEAB62F5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1535-5681-4482-839F-A57EE1F5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110-502C-415F-ACE4-DAA984F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2A0D-5DFC-4B20-8724-5A2768A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C459-3E05-4160-BDCB-6E26F5F9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67DF-FB20-4AE3-A826-FA19C42D3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5959"/>
            </a:gs>
            <a:gs pos="100000">
              <a:srgbClr val="eaeaea"/>
            </a:gs>
          </a:gsLst>
          <a:lin ang="4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3C80-E644-4B9F-9976-393F0A5876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3;&#1072;&#1088;&#1082;&#1086;&#1090;&#1080;&#1082;&#1080;" TargetMode="External"/><Relationship Id="rId2" Type="http://schemas.openxmlformats.org/officeDocument/2006/relationships/hyperlink" Target="http://ru.wikipedia.org/wiki/&#1040;&#1083;&#1082;&#1086;&#1075;&#1086;&#1083;&#1100;&#1085;&#1099;&#1077;_&#1085;&#1072;&#1087;&#1080;&#1090;&#1082;&#1080;" TargetMode="External"/><Relationship Id="rId3" Type="http://schemas.openxmlformats.org/officeDocument/2006/relationships/hyperlink" Target="http://ru.wikipedia.org/wiki/&#1057;&#1080;&#1085;&#1076;&#1088;&#1086;&#1084;_&#1087;&#1089;&#1080;&#1093;&#1080;&#1095;&#1077;&#1089;&#1082;&#1086;&#1081;_&#1079;&#1072;&#1074;&#1080;&#1089;&#1080;&#1084;&#1086;&#1089;&#1090;&#1080;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85680" y="1785600"/>
            <a:ext cx="6172200" cy="25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Calibri"/>
              </a:rPr>
              <a:t>Вредные привычки. Употребление алкоголя и его влияние на здоровье человека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0019"/>
          <p:cNvPicPr/>
          <p:nvPr/>
        </p:nvPicPr>
        <p:blipFill>
          <a:blip r:embed="rId1"/>
          <a:stretch/>
        </p:blipFill>
        <p:spPr>
          <a:xfrm>
            <a:off x="122400" y="-23760"/>
            <a:ext cx="294948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642960" y="50004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анным специалистов, употребление спиртных напитков лицами моложе 20 лет примерно в 76% случаев приводит к алкогол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Содержимое 4" descr="20081028151940.jpg"/>
          <p:cNvPicPr/>
          <p:nvPr/>
        </p:nvPicPr>
        <p:blipFill>
          <a:blip r:embed="rId1"/>
          <a:stretch/>
        </p:blipFill>
        <p:spPr>
          <a:xfrm>
            <a:off x="285840" y="1357200"/>
            <a:ext cx="3375000" cy="354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230279"/>
          <p:cNvPicPr/>
          <p:nvPr/>
        </p:nvPicPr>
        <p:blipFill>
          <a:blip r:embed="rId2"/>
          <a:stretch/>
        </p:blipFill>
        <p:spPr>
          <a:xfrm>
            <a:off x="4214880" y="2928960"/>
            <a:ext cx="4643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571680" y="142920"/>
            <a:ext cx="82152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коголь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ашный, злейший порок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о, душу и раз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щадишь, а жестоко калечишь 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иная с седой старин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идёшь, собирая ужасную да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их ты искалечи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ращая в пропойную рван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ял молодость, си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вёл за собой от люби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в жизни прош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мо радости, счастья мим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лько ты загуб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тцов, и детей, и таланто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оёт, а дорож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ипка в пьяных руках музыка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губи род людс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ых пожалей, не тра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 порочную 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собою их всех не з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чь, с дороги уй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полню стакан твоим я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дишь, жизнь вперед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мне лишних проблем в ней не на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одержимое 7" descr="alkogolizm.jpg"/>
          <p:cNvPicPr/>
          <p:nvPr/>
        </p:nvPicPr>
        <p:blipFill>
          <a:blip r:embed="rId1"/>
          <a:stretch/>
        </p:blipFill>
        <p:spPr>
          <a:xfrm>
            <a:off x="4643280" y="2357280"/>
            <a:ext cx="42926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20147_Preview.jpg"/>
          <p:cNvPicPr/>
          <p:nvPr/>
        </p:nvPicPr>
        <p:blipFill>
          <a:blip r:embed="rId1"/>
          <a:stretch/>
        </p:blipFill>
        <p:spPr>
          <a:xfrm>
            <a:off x="714240" y="2357280"/>
            <a:ext cx="8048880" cy="40244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857160" y="714240"/>
            <a:ext cx="792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Задумайся!       Выбор за тобой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photo08.jpg"/>
          <p:cNvPicPr/>
          <p:nvPr/>
        </p:nvPicPr>
        <p:blipFill>
          <a:blip r:embed="rId1"/>
          <a:stretch/>
        </p:blipFill>
        <p:spPr>
          <a:xfrm>
            <a:off x="490680" y="233280"/>
            <a:ext cx="3510000" cy="49626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2" descr="photo11.jpg"/>
          <p:cNvPicPr/>
          <p:nvPr/>
        </p:nvPicPr>
        <p:blipFill>
          <a:blip r:embed="rId2"/>
          <a:stretch/>
        </p:blipFill>
        <p:spPr>
          <a:xfrm>
            <a:off x="5143680" y="2071800"/>
            <a:ext cx="328608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NoAlcoholics"/>
          <p:cNvPicPr/>
          <p:nvPr/>
        </p:nvPicPr>
        <p:blipFill>
          <a:blip r:embed="rId1"/>
          <a:stretch/>
        </p:blipFill>
        <p:spPr>
          <a:xfrm>
            <a:off x="826920" y="404640"/>
            <a:ext cx="74901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02373"/>
          <p:cNvPicPr/>
          <p:nvPr/>
        </p:nvPicPr>
        <p:blipFill>
          <a:blip r:embed="rId1">
            <a:lum bright="38000"/>
          </a:blip>
          <a:stretch/>
        </p:blipFill>
        <p:spPr>
          <a:xfrm>
            <a:off x="395280" y="404640"/>
            <a:ext cx="8353440" cy="60724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3642840"/>
            <a:ext cx="822960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c00000"/>
                </a:solidFill>
                <a:latin typeface="Calibri"/>
              </a:rPr>
              <a:t>«Действие алкоголя сказывается своим губительным влиянием на качестве и количестве нашей работы, на нашем здоровье, в том числе и на здоровье нового поколения, на нашей семье и на всём нашем быту». (А.В.Луначарский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Latha"/>
              </a:rPr>
              <a:t>Алкоголиз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1213920"/>
            <a:ext cx="835344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коголиз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наркот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мость, характеризующаяся болезненным пристрастием к употреблению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алкогольных напитк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психическа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физическая зависимость) и алкогольным поражением внутренних органов. При алкоголизме происходит деградация человека как ли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и исторически алкоголизмом называют состояние, которое приводит к постоянному употреблению алкогольных напитков, несмотря на проблемы со здоровьем и негативные социальные послед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ое определение в медицине описывает алкоголизм как болезнь и наркотическую зависимость, которая приводит к систематическому потреблению алкоголя, несмотря на негативные послед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684360" y="476280"/>
            <a:ext cx="75596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2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Impact"/>
              </a:rPr>
              <a:t>Мотивы пьянства подрост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Impact"/>
              <a:ea typeface="Impact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250920" y="1628640"/>
            <a:ext cx="3529080" cy="2159280"/>
          </a:xfrm>
          <a:prstGeom prst="flowChartDecision">
            <a:avLst/>
          </a:prstGeom>
          <a:solidFill>
            <a:srgbClr val="fac09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2843280" y="2637000"/>
            <a:ext cx="3529080" cy="2158920"/>
          </a:xfrm>
          <a:prstGeom prst="flowChartDecision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5219640" y="3789360"/>
            <a:ext cx="3529080" cy="2158920"/>
          </a:xfrm>
          <a:prstGeom prst="flowChartDecision">
            <a:avLst/>
          </a:prstGeom>
          <a:solidFill>
            <a:srgbClr val="e6b9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818640" y="2325600"/>
            <a:ext cx="243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Желание след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адиц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570120" y="34257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Для храбр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6073560" y="4508640"/>
            <a:ext cx="15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ять с себ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пря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1979640" y="112536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0"/>
          <p:cNvSpPr/>
          <p:nvPr/>
        </p:nvSpPr>
        <p:spPr>
          <a:xfrm>
            <a:off x="4643280" y="1125360"/>
            <a:ext cx="216000" cy="1656000"/>
          </a:xfrm>
          <a:prstGeom prst="downArrow">
            <a:avLst>
              <a:gd name="adj1" fmla="val 50000"/>
              <a:gd name="adj2" fmla="val 191667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1"/>
          <p:cNvSpPr/>
          <p:nvPr/>
        </p:nvSpPr>
        <p:spPr>
          <a:xfrm>
            <a:off x="7020000" y="1125360"/>
            <a:ext cx="216000" cy="2735280"/>
          </a:xfrm>
          <a:prstGeom prst="downArrow">
            <a:avLst>
              <a:gd name="adj1" fmla="val 50000"/>
              <a:gd name="adj2" fmla="val 316583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14200" y="285840"/>
            <a:ext cx="8248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Calibri"/>
              </a:rPr>
              <a:t>Лицо подросткового алкого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alco05"/>
          <p:cNvPicPr/>
          <p:nvPr/>
        </p:nvPicPr>
        <p:blipFill>
          <a:blip r:embed="rId1"/>
          <a:stretch/>
        </p:blipFill>
        <p:spPr>
          <a:xfrm>
            <a:off x="477720" y="2251080"/>
            <a:ext cx="376884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alco14"/>
          <p:cNvPicPr/>
          <p:nvPr/>
        </p:nvPicPr>
        <p:blipFill>
          <a:blip r:embed="rId2"/>
          <a:stretch/>
        </p:blipFill>
        <p:spPr>
          <a:xfrm>
            <a:off x="4708440" y="2243160"/>
            <a:ext cx="39578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0920" y="214200"/>
            <a:ext cx="79930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0000"/>
                </a:solidFill>
                <a:latin typeface="Calibri"/>
              </a:rPr>
              <a:t>Влияние алкоголя на нервную систему  человека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1785960"/>
          <a:ext cx="8424720" cy="4846680"/>
        </p:xfrm>
        <a:graphic>
          <a:graphicData uri="http://schemas.openxmlformats.org/drawingml/2006/table">
            <a:tbl>
              <a:tblPr/>
              <a:tblGrid>
                <a:gridCol w="2808360"/>
                <a:gridCol w="5616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лкоголя в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йств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4 - 0,0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ключается кора головного мозга, человек теряет контроль над собо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аются более глубокие отделы головного мозга, контролирующие движения(беспричинная радость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ияет на области мозга, контролирующие эмоциональное поведение человека(внезапная агрессивность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ходится хоть и в сознании, но непонимает того, что видит и слыши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дет к потери созн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 - 0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ожет наступить смерть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357120" y="85716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Алкоголь- это порождение варварства- мёртвой хваткой держит человечество со времён седой старины и собирает с него чудовищную дань, пожирая молодость, подрывая силы, подавляя энергию, губя лучший цвет рода людског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Д.Лонд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329"/>
          <p:cNvPicPr/>
          <p:nvPr/>
        </p:nvPicPr>
        <p:blipFill>
          <a:blip r:embed="rId1"/>
          <a:srcRect l="0" t="0" r="269" b="8332"/>
          <a:stretch/>
        </p:blipFill>
        <p:spPr>
          <a:xfrm>
            <a:off x="1643040" y="2357280"/>
            <a:ext cx="5286240" cy="39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785880" y="64296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ино губит телесное здоровье людей, губит умственные способности, губит благосостояние семей и, что всего ужаснее, губит души людей и их потом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Гё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alcoholic__no__580_no"/>
          <p:cNvPicPr/>
          <p:nvPr/>
        </p:nvPicPr>
        <p:blipFill>
          <a:blip r:embed="rId1"/>
          <a:stretch/>
        </p:blipFill>
        <p:spPr>
          <a:xfrm>
            <a:off x="1500120" y="1785960"/>
            <a:ext cx="617868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571680" y="7142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Чем моложе пьющее лицо, тем скорее оно становится алкоголик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русский психиатр А.М. Коров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30d2ba3982b4958b753b00d798c9a692"/>
          <p:cNvPicPr/>
          <p:nvPr/>
        </p:nvPicPr>
        <p:blipFill>
          <a:blip r:embed="rId1"/>
          <a:stretch/>
        </p:blipFill>
        <p:spPr>
          <a:xfrm>
            <a:off x="1143000" y="1571760"/>
            <a:ext cx="682164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0:42:11Z</dcterms:created>
  <dc:creator>Admin</dc:creator>
  <dc:description/>
  <dc:language>en-US</dc:language>
  <cp:lastModifiedBy>биология</cp:lastModifiedBy>
  <dcterms:modified xsi:type="dcterms:W3CDTF">2010-11-27T05:31:15Z</dcterms:modified>
  <cp:revision>10</cp:revision>
  <dc:subject/>
  <dc:title>Урок ОБЖ в 10 классе Тема: «Вредные привычки. Употребление алкоголя и его влияние на здоровье человека».</dc:title>
</cp:coreProperties>
</file>