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9B5-AC37-4B6B-9630-44BE044F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430-A607-46CF-BCC4-0A41DA0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F0F-6BCD-4502-9CD3-4F92845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9D9-70D5-47AB-BBD7-34940BED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B8E-A28E-4AEF-8B22-D00426A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77E-96BC-4EBC-83FC-46CB672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ACE-AC14-48A6-9A39-A6DD5F76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16E-A1AD-4804-8F74-5A39D6C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5CC-E7AE-4E0D-B355-CBA035A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C4B-216D-466F-92D7-DBDD4CA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DBF-37C4-47E7-8196-63E762E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B9F-1A63-4A85-8E56-20FC46B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38C-8878-4851-9B4C-AD17FB17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484280"/>
            <a:ext cx="7345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лены 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157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ы 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 Павло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льц 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40360" y="135720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о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раз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3240" y="1557360"/>
            <a:ext cx="34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06720" cy="220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357720"/>
            <a:ext cx="806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синем небе звёзды блещут,   В синем море волны хлещ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/>
          <p:nvPr/>
        </p:nvCxnSpPr>
        <p:spPr>
          <a:xfrm flipV="1" rot="10800000">
            <a:off x="538920" y="7243920"/>
            <a:ext cx="432720" cy="144720"/>
          </a:xfrm>
          <a:prstGeom prst="curvedConnector5">
            <a:avLst>
              <a:gd name="adj1" fmla="val 49958"/>
              <a:gd name="adj2" fmla="val 49875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" name=""/>
          <p:cNvGrpSpPr/>
          <p:nvPr/>
        </p:nvGrpSpPr>
        <p:grpSpPr>
          <a:xfrm>
            <a:off x="1042920" y="4005360"/>
            <a:ext cx="7201080" cy="1008000"/>
            <a:chOff x="1042920" y="4005360"/>
            <a:chExt cx="7201080" cy="1008000"/>
          </a:xfrm>
        </p:grpSpPr>
        <p:sp>
          <p:nvSpPr>
            <p:cNvPr id="96" name=""/>
            <p:cNvSpPr/>
            <p:nvPr/>
          </p:nvSpPr>
          <p:spPr>
            <a:xfrm>
              <a:off x="6227640" y="4221000"/>
              <a:ext cx="201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042920" y="4005360"/>
              <a:ext cx="7201080" cy="863280"/>
              <a:chOff x="1042920" y="4005360"/>
              <a:chExt cx="7201080" cy="8632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042920" y="4005360"/>
                <a:ext cx="7201080" cy="144360"/>
                <a:chOff x="1042920" y="4005360"/>
                <a:chExt cx="7201080" cy="1443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27640" y="4076640"/>
                  <a:ext cx="1655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27640" y="4076640"/>
                  <a:ext cx="2016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059280" y="4076640"/>
                  <a:ext cx="12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42920" y="4076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0"/>
                <p:cNvSpPr/>
                <p:nvPr/>
              </p:nvSpPr>
              <p:spPr>
                <a:xfrm>
                  <a:off x="1619280" y="4005360"/>
                  <a:ext cx="1224000" cy="144360"/>
                </a:xfrm>
                <a:prstGeom prst="pi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1042920" y="4724280"/>
                <a:ext cx="7201080" cy="144360"/>
                <a:chOff x="1042920" y="4724280"/>
                <a:chExt cx="7201080" cy="1443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427640" y="4795560"/>
                  <a:ext cx="1655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227640" y="4795560"/>
                  <a:ext cx="2016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59280" y="4795560"/>
                  <a:ext cx="12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042920" y="4795560"/>
                  <a:ext cx="433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0"/>
                <p:cNvSpPr/>
                <p:nvPr/>
              </p:nvSpPr>
              <p:spPr>
                <a:xfrm>
                  <a:off x="1619280" y="4724280"/>
                  <a:ext cx="1224000" cy="144360"/>
                </a:xfrm>
                <a:prstGeom prst="pi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227640" y="5013360"/>
              <a:ext cx="201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6920" y="1844640"/>
            <a:ext cx="734544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сь  на  отлич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58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ЛЕНЫ 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31640" y="1916280"/>
            <a:ext cx="3818520" cy="1800000"/>
            <a:chOff x="3131640" y="1916280"/>
            <a:chExt cx="3818520" cy="1800000"/>
          </a:xfrm>
        </p:grpSpPr>
        <p:sp>
          <p:nvSpPr>
            <p:cNvPr id="46" name=""/>
            <p:cNvSpPr/>
            <p:nvPr/>
          </p:nvSpPr>
          <p:spPr>
            <a:xfrm>
              <a:off x="5437080" y="1916280"/>
              <a:ext cx="151308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131640" y="1916280"/>
              <a:ext cx="151308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6920" y="400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4076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584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132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е  члены  пред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степенные  члены  пред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одлежаще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казуемое</a:t>
                      </a: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тоятельст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длежащ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ежащее  обозначает, о  ком  или  о  чем  говорится  в  предложении, отвечает  на  вопросы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ТО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667640" y="476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584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уемое  обозначает, что в  предложении  говорится  о  подлежащем; отвечает  на  вопросы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ЧТО  ДЕЛАЕТ?  ЧТО  СДЕЛАЕТ?  ЧТО  ДЕЛАЮТ?  ЧТО  СДЕЛАЮТ?  ЧТО  ДЕЛАЛ?  ЧТО  СДЕЛАЛ? 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ДЕЛАЛИ 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и  друг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620640"/>
            <a:ext cx="649440" cy="7207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3969">
                <a:moveTo>
                  <a:pt x="0" y="0"/>
                </a:moveTo>
                <a:lnTo>
                  <a:pt x="21600" y="0"/>
                </a:lnTo>
                <a:lnTo>
                  <a:pt x="21600" y="23969"/>
                </a:lnTo>
                <a:lnTo>
                  <a:pt x="0" y="23969"/>
                </a:lnTo>
                <a:close/>
              </a:path>
              <a:path fill="lightenLess" w="21600" h="23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9">
                <a:moveTo>
                  <a:pt x="21600" y="0"/>
                </a:moveTo>
                <a:lnTo>
                  <a:pt x="21600" y="23969"/>
                </a:lnTo>
                <a:lnTo>
                  <a:pt x="20200" y="22569"/>
                </a:lnTo>
                <a:lnTo>
                  <a:pt x="20200" y="1400"/>
                </a:lnTo>
                <a:close/>
              </a:path>
              <a:path fill="darkenLess" w="21600" h="23969">
                <a:moveTo>
                  <a:pt x="21600" y="23969"/>
                </a:moveTo>
                <a:lnTo>
                  <a:pt x="0" y="23969"/>
                </a:lnTo>
                <a:lnTo>
                  <a:pt x="1400" y="22569"/>
                </a:lnTo>
                <a:lnTo>
                  <a:pt x="20200" y="22569"/>
                </a:lnTo>
                <a:close/>
              </a:path>
              <a:path fill="lighten" w="21600" h="23969">
                <a:moveTo>
                  <a:pt x="0" y="23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9"/>
                </a:lnTo>
                <a:close/>
              </a:path>
              <a:path fill="darken" w="21600" h="23969">
                <a:moveTo>
                  <a:pt x="3794" y="11985"/>
                </a:moveTo>
                <a:lnTo>
                  <a:pt x="17806" y="4978"/>
                </a:lnTo>
                <a:lnTo>
                  <a:pt x="17806" y="189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знак  предмета  или 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значает  опреде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ЧЕЙ?  КАКОЙ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ответы  про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шь  не  хватает  волнистой  че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476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 косвенных  паде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ы  безошибочно  знаешь  у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сли  задашь  их  без  промедлен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ут  же  отыщутся  допол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76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 вопросы: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ГДЕ? КОГ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АК? ОТКУ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стоятельства  всегд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адут  ответы  вам, да-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8317080" y="76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" w="21600" h="23988">
                <a:moveTo>
                  <a:pt x="14299" y="11994"/>
                </a:moveTo>
                <a:lnTo>
                  <a:pt x="3794" y="19000"/>
                </a:lnTo>
                <a:lnTo>
                  <a:pt x="3794" y="4988"/>
                </a:lnTo>
                <a:close/>
              </a:path>
              <a:path fill="darken" w="21600" h="23988">
                <a:moveTo>
                  <a:pt x="16144" y="4988"/>
                </a:moveTo>
                <a:lnTo>
                  <a:pt x="16144" y="19000"/>
                </a:lnTo>
                <a:lnTo>
                  <a:pt x="17806" y="19000"/>
                </a:lnTo>
                <a:lnTo>
                  <a:pt x="17806" y="49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914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ожения для раз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201760" cy="230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0560" y="292428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тер весело шум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удно весело бе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 царству славного Салт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981000"/>
            <a:ext cx="591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50920" y="2924280"/>
            <a:ext cx="7993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тер весело шум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удно весело бе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 царству славного Салт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3500280"/>
            <a:ext cx="6480000" cy="2016360"/>
            <a:chOff x="1258920" y="3500280"/>
            <a:chExt cx="6480000" cy="2016360"/>
          </a:xfrm>
        </p:grpSpPr>
        <p:sp>
          <p:nvSpPr>
            <p:cNvPr id="78" name=""/>
            <p:cNvSpPr/>
            <p:nvPr/>
          </p:nvSpPr>
          <p:spPr>
            <a:xfrm>
              <a:off x="1330200" y="350028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498920" y="3500280"/>
              <a:ext cx="1512360" cy="144360"/>
              <a:chOff x="4498920" y="3500280"/>
              <a:chExt cx="1512360" cy="144360"/>
            </a:xfrm>
          </p:grpSpPr>
          <p:sp>
            <p:nvSpPr>
              <p:cNvPr id="80" name=""/>
              <p:cNvSpPr/>
              <p:nvPr/>
            </p:nvSpPr>
            <p:spPr>
              <a:xfrm>
                <a:off x="4498920" y="3500280"/>
                <a:ext cx="151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98920" y="3644640"/>
                <a:ext cx="1439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914560" y="350028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58920" y="414792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354200" y="4148280"/>
              <a:ext cx="1512720" cy="215640"/>
              <a:chOff x="4354200" y="4148280"/>
              <a:chExt cx="1512720" cy="215640"/>
            </a:xfrm>
          </p:grpSpPr>
          <p:sp>
            <p:nvSpPr>
              <p:cNvPr id="85" name=""/>
              <p:cNvSpPr/>
              <p:nvPr/>
            </p:nvSpPr>
            <p:spPr>
              <a:xfrm>
                <a:off x="4354200" y="4363920"/>
                <a:ext cx="151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54200" y="4148280"/>
                <a:ext cx="1439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842920" y="414792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0200" y="4868640"/>
              <a:ext cx="4536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58920" y="5516640"/>
              <a:ext cx="6480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41:03Z</dcterms:created>
  <dc:creator>ingen</dc:creator>
  <dc:description/>
  <dc:language>en-US</dc:language>
  <cp:lastModifiedBy>Admin</cp:lastModifiedBy>
  <dcterms:modified xsi:type="dcterms:W3CDTF">2012-02-14T16:40:03Z</dcterms:modified>
  <cp:revision>12</cp:revision>
  <dc:subject/>
  <dc:title>Слайд 1</dc:title>
</cp:coreProperties>
</file>