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83D-8A70-4C0E-A7F2-90C2E4FE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BB7-665B-4EBD-8017-17F4330F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419-470F-4305-8576-7156D032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810-D802-45AC-A1EA-6CABFD70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449-7F81-4BB6-A6FC-566BF40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3E0-A17B-4B72-8299-E786D86A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65B-8D51-467E-BBE5-873C781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348-471C-4068-BA19-6B047874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EEE-6BC1-4E10-A6AC-9EACA556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07E-7351-48FF-945F-F4469FD4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BCA-6390-4EEC-95BA-35853BF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2F3-4851-493C-8898-DAC57E0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0A63-905B-4735-A3A4-FE0B9ECD1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262080" y="2225520"/>
            <a:ext cx="8613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1901880" y="3438360"/>
            <a:ext cx="165888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908440" y="30240"/>
            <a:ext cx="2608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35Z</dcterms:modified>
  <cp:revision>7</cp:revision>
  <dc:subject/>
  <dc:title>Презентация PowerPoint</dc:title>
</cp:coreProperties>
</file>