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826-9964-4EC4-A002-EC397FD1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E4D-3660-433B-AB8E-80320BAD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D59-1166-4D32-ADF7-1A3B27B1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28E-66FB-4220-9F58-1C2FFA07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45A-2CB9-47D2-9316-F0C0936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5E8-86B0-4005-B660-F01FDBE9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911-E726-411A-B7D8-FE6EF1C8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0C2-E04C-4098-A791-4AB7C827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E26-B600-403D-BF0F-B721571C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0E0-F789-4072-82BD-5762E40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F5D-F7EF-4865-99DB-590456A4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10B-DDE8-476B-8FC8-2E2F7A0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AA8E-F3BA-4BE1-A0DF-BB686275FB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685800" y="533412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з березового листоч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212275027_i-1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etulaPendula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ic_2007-04-27_100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0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Хитр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_SERVER</cp:lastModifiedBy>
  <dcterms:modified xsi:type="dcterms:W3CDTF">2012-03-17T06:19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