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F94-2EB3-407F-80C9-DF625AF5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191-AF4C-4737-BEBD-097E9DE3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776-4A4C-4A6E-9B9C-F22E858A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809-2848-4411-8435-DE8EC2E6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77E-1AF2-4F2D-BBF5-35BD2BFA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747-EC88-497A-BC5A-BB2A19D6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A7E-7890-4E2C-B565-9A78C50D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05E-675B-4E61-B110-1F9548BC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9D2-E118-483C-B360-28F1042D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3E2-76AC-40A5-B5E4-726F8ECE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A1DD-6505-43C0-ACED-7704F82F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DA0-376B-4D9F-80F4-B7CC19DB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5339-A2E1-4EDB-A4B6-B022F62D92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685800" y="533412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з березового листоч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212275027_i-1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tulaPendula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ic_2007-04-27_100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Хитр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_SERVER</cp:lastModifiedBy>
  <dcterms:modified xsi:type="dcterms:W3CDTF">2012-03-17T06:19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