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40.jpeg" ContentType="image/jpeg"/>
  <Override PartName="/ppt/media/image53.png" ContentType="image/png"/>
  <Override PartName="/ppt/media/image49.gif" ContentType="image/gif"/>
  <Override PartName="/ppt/media/image48.gif" ContentType="image/gif"/>
  <Override PartName="/ppt/media/image47.gif" ContentType="image/gif"/>
  <Override PartName="/ppt/media/image46.gif" ContentType="image/gif"/>
  <Override PartName="/ppt/media/image45.jpeg" ContentType="image/jpeg"/>
  <Override PartName="/ppt/media/image44.jpeg" ContentType="image/jpeg"/>
  <Override PartName="/ppt/media/image35.gif" ContentType="image/gif"/>
  <Override PartName="/ppt/media/image42.gif" ContentType="image/gif"/>
  <Override PartName="/ppt/media/image43.gif" ContentType="image/gif"/>
  <Override PartName="/ppt/media/image36.png" ContentType="image/png"/>
  <Override PartName="/ppt/media/image33.gif" ContentType="image/gif"/>
  <Override PartName="/ppt/media/image34.gif" ContentType="image/gif"/>
  <Override PartName="/ppt/media/image31.gif" ContentType="image/gif"/>
  <Override PartName="/ppt/media/image30.jpeg" ContentType="image/jpeg"/>
  <Override PartName="/ppt/media/image58.gif" ContentType="image/gif"/>
  <Override PartName="/ppt/media/image51.gif" ContentType="image/gif"/>
  <Override PartName="/ppt/media/image13.jpeg" ContentType="image/jpeg"/>
  <Override PartName="/ppt/media/image57.gif" ContentType="image/gif"/>
  <Override PartName="/ppt/media/image27.jpeg" ContentType="image/jpeg"/>
  <Override PartName="/ppt/media/image54.jpeg" ContentType="image/jpeg"/>
  <Override PartName="/ppt/media/image20.gif" ContentType="image/gif"/>
  <Override PartName="/ppt/media/image39.gif" ContentType="image/gif"/>
  <Override PartName="/ppt/media/image9.gif" ContentType="image/gif"/>
  <Override PartName="/ppt/media/image86.gif" ContentType="image/gif"/>
  <Override PartName="/ppt/media/image59.gif" ContentType="image/gif"/>
  <Override PartName="/ppt/media/image18.jpeg" ContentType="image/jpeg"/>
  <Override PartName="/ppt/media/image22.gif" ContentType="image/gif"/>
  <Override PartName="/ppt/media/image25.png" ContentType="image/png"/>
  <Override PartName="/ppt/media/image32.gif" ContentType="image/gif"/>
  <Override PartName="/ppt/media/image69.gif" ContentType="image/gif"/>
  <Override PartName="/ppt/media/image60.jpeg" ContentType="image/jpeg"/>
  <Override PartName="/ppt/media/image74.gif" ContentType="image/gif"/>
  <Override PartName="/ppt/media/image3.jpeg" ContentType="image/jpeg"/>
  <Override PartName="/ppt/media/image23.gif" ContentType="image/gif"/>
  <Override PartName="/ppt/media/image61.jpeg" ContentType="image/jpeg"/>
  <Override PartName="/ppt/media/image84.gif" ContentType="image/gif"/>
  <Override PartName="/ppt/media/image26.gif" ContentType="image/gif"/>
  <Override PartName="/ppt/media/image63.gif" ContentType="image/gif"/>
  <Override PartName="/ppt/media/image64.gif" ContentType="image/gif"/>
  <Override PartName="/ppt/media/image65.gif" ContentType="image/gif"/>
  <Override PartName="/ppt/media/image67.jpeg" ContentType="image/jpeg"/>
  <Override PartName="/ppt/media/image66.gif" ContentType="image/gif"/>
  <Override PartName="/ppt/media/image24.jpeg" ContentType="image/jpeg"/>
  <Override PartName="/ppt/media/image62.gif" ContentType="image/gif"/>
  <Override PartName="/ppt/media/image80.jpeg" ContentType="image/jpeg"/>
  <Override PartName="/ppt/media/image72.gif" ContentType="image/gif"/>
  <Override PartName="/ppt/media/image79.gif" ContentType="image/gif"/>
  <Override PartName="/ppt/media/image78.gif" ContentType="image/gif"/>
  <Override PartName="/ppt/media/image41.gif" ContentType="image/gif"/>
  <Override PartName="/ppt/media/image21.gif" ContentType="image/gif"/>
  <Override PartName="/ppt/media/image75.gif" ContentType="image/gif"/>
  <Override PartName="/ppt/media/image71.jpeg" ContentType="image/jpeg"/>
  <Override PartName="/ppt/media/image4.wmf" ContentType="image/x-wmf"/>
  <Override PartName="/ppt/media/image38.gif" ContentType="image/gif"/>
  <Override PartName="/ppt/media/image73.png" ContentType="image/png"/>
  <Override PartName="/ppt/media/image70.gif" ContentType="image/gif"/>
  <Override PartName="/ppt/media/image68.jpeg" ContentType="image/jpeg"/>
  <Override PartName="/ppt/media/image76.gif" ContentType="image/gif"/>
  <Override PartName="/ppt/media/image50.jpeg" ContentType="image/jpeg"/>
  <Override PartName="/ppt/media/image52.png" ContentType="image/png"/>
  <Override PartName="/ppt/media/image19.png" ContentType="image/png"/>
  <Override PartName="/ppt/media/image81.gif" ContentType="image/gif"/>
  <Override PartName="/ppt/media/image16.gif" ContentType="image/gif"/>
  <Override PartName="/ppt/media/image15.jpeg" ContentType="image/jpeg"/>
  <Override PartName="/ppt/media/image2.gif" ContentType="image/gif"/>
  <Override PartName="/ppt/media/image14.gif" ContentType="image/gif"/>
  <Override PartName="/ppt/media/image1.jpeg" ContentType="image/jpeg"/>
  <Override PartName="/ppt/media/image10.png" ContentType="image/png"/>
  <Override PartName="/ppt/media/image8.gif" ContentType="image/gif"/>
  <Override PartName="/ppt/media/image85.gif" ContentType="image/gif"/>
  <Override PartName="/ppt/media/image37.gif" ContentType="image/gif"/>
  <Override PartName="/ppt/media/image28.jpeg" ContentType="image/jpeg"/>
  <Override PartName="/ppt/media/image7.jpeg" ContentType="image/jpeg"/>
  <Override PartName="/ppt/media/image17.gif" ContentType="image/gif"/>
  <Override PartName="/ppt/media/image5.gif" ContentType="image/gif"/>
  <Override PartName="/ppt/media/image82.gif" ContentType="image/gif"/>
  <Override PartName="/ppt/media/image11.png" ContentType="image/png"/>
  <Override PartName="/ppt/media/image55.gif" ContentType="image/gif"/>
  <Override PartName="/ppt/media/image12.jpeg" ContentType="image/jpeg"/>
  <Override PartName="/ppt/media/image29.jpeg" ContentType="image/jpeg"/>
  <Override PartName="/ppt/media/image77.gif" ContentType="image/gif"/>
  <Override PartName="/ppt/media/image83.gif" ContentType="image/gif"/>
  <Override PartName="/ppt/media/image6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F3B4B-AA74-43D4-8A33-58F21A182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2D5D-AC29-45DB-88AD-E127466E9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17AB-14B6-4E62-A0BC-032BBA9D3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C9A-C3AF-4419-816A-1B66A6769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8227-CE07-46B0-8780-1EF1B099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DD3B-E93B-4165-9B60-ADFF1FF1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E26F-23DC-4B66-8176-621D2CACE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35414-D373-49A8-B090-A8AB1E7F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1EED-9A85-4599-8EE3-8546A17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EF12-560B-40A9-AFC3-66F2D3F5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F0E8-DA0C-4E8B-9EB6-F9F78152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7CA4-E15E-46F8-9820-210081D6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08D7-DC51-4570-BD84-B0C697B8C3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3.gif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png"/><Relationship Id="rId3" Type="http://schemas.openxmlformats.org/officeDocument/2006/relationships/image" Target="../media/image37.gif"/><Relationship Id="rId4" Type="http://schemas.openxmlformats.org/officeDocument/2006/relationships/image" Target="../media/image38.gif"/><Relationship Id="rId5" Type="http://schemas.openxmlformats.org/officeDocument/2006/relationships/image" Target="../media/image39.gif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gif"/><Relationship Id="rId3" Type="http://schemas.openxmlformats.org/officeDocument/2006/relationships/image" Target="../media/image42.gif"/><Relationship Id="rId4" Type="http://schemas.openxmlformats.org/officeDocument/2006/relationships/image" Target="../media/image43.gif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gif"/><Relationship Id="rId3" Type="http://schemas.openxmlformats.org/officeDocument/2006/relationships/image" Target="../media/image47.gif"/><Relationship Id="rId4" Type="http://schemas.openxmlformats.org/officeDocument/2006/relationships/image" Target="../media/image48.gi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9.gif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image" Target="../media/image56.png"/><Relationship Id="rId5" Type="http://schemas.openxmlformats.org/officeDocument/2006/relationships/image" Target="../media/image57.gif"/><Relationship Id="rId6" Type="http://schemas.openxmlformats.org/officeDocument/2006/relationships/image" Target="../media/image58.gif"/><Relationship Id="rId7" Type="http://schemas.openxmlformats.org/officeDocument/2006/relationships/image" Target="../media/image59.gif"/><Relationship Id="rId8" Type="http://schemas.openxmlformats.org/officeDocument/2006/relationships/image" Target="../media/image60.jpeg"/><Relationship Id="rId9" Type="http://schemas.openxmlformats.org/officeDocument/2006/relationships/image" Target="../media/image61.jpe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2.gif"/><Relationship Id="rId2" Type="http://schemas.openxmlformats.org/officeDocument/2006/relationships/image" Target="../media/image63.gif"/><Relationship Id="rId3" Type="http://schemas.openxmlformats.org/officeDocument/2006/relationships/image" Target="../media/image64.gif"/><Relationship Id="rId4" Type="http://schemas.openxmlformats.org/officeDocument/2006/relationships/image" Target="../media/image65.gif"/><Relationship Id="rId5" Type="http://schemas.openxmlformats.org/officeDocument/2006/relationships/image" Target="../media/image66.gif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image" Target="../media/image69.gif"/><Relationship Id="rId9" Type="http://schemas.openxmlformats.org/officeDocument/2006/relationships/image" Target="../media/image70.gif"/><Relationship Id="rId10" Type="http://schemas.openxmlformats.org/officeDocument/2006/relationships/image" Target="../media/image71.jpeg"/><Relationship Id="rId11" Type="http://schemas.openxmlformats.org/officeDocument/2006/relationships/image" Target="../media/image72.gif"/><Relationship Id="rId1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gif"/><Relationship Id="rId3" Type="http://schemas.openxmlformats.org/officeDocument/2006/relationships/image" Target="../media/image75.gif"/><Relationship Id="rId4" Type="http://schemas.openxmlformats.org/officeDocument/2006/relationships/image" Target="../media/image76.gif"/><Relationship Id="rId5" Type="http://schemas.openxmlformats.org/officeDocument/2006/relationships/image" Target="../media/image77.gif"/><Relationship Id="rId6" Type="http://schemas.openxmlformats.org/officeDocument/2006/relationships/image" Target="../media/image78.gif"/><Relationship Id="rId7" Type="http://schemas.openxmlformats.org/officeDocument/2006/relationships/image" Target="../media/image79.gif"/><Relationship Id="rId8" Type="http://schemas.openxmlformats.org/officeDocument/2006/relationships/image" Target="../media/image80.jpeg"/><Relationship Id="rId9" Type="http://schemas.openxmlformats.org/officeDocument/2006/relationships/image" Target="../media/image81.gif"/><Relationship Id="rId10" Type="http://schemas.openxmlformats.org/officeDocument/2006/relationships/image" Target="../media/image82.gif"/><Relationship Id="rId11" Type="http://schemas.openxmlformats.org/officeDocument/2006/relationships/image" Target="../media/image83.gif"/><Relationship Id="rId1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4.gif"/><Relationship Id="rId2" Type="http://schemas.openxmlformats.org/officeDocument/2006/relationships/image" Target="../media/image8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6.gi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5.jpeg"/><Relationship Id="rId4" Type="http://schemas.openxmlformats.org/officeDocument/2006/relationships/image" Target="../media/image16.gi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2.gif"/><Relationship Id="rId7" Type="http://schemas.openxmlformats.org/officeDocument/2006/relationships/image" Target="../media/image23.gi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0" y="189000"/>
            <a:ext cx="882000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>
                        <a:alpha val="95294"/>
                      </a:srgbClr>
                    </a:gs>
                    <a:gs pos="100000">
                      <a:srgbClr val="ff0066"/>
                    </a:gs>
                  </a:gsLst>
                  <a:lin ang="13500000"/>
                </a:gradFill>
                <a:latin typeface="Impact"/>
              </a:rPr>
              <a:t>О правах ребенка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>
                      <a:alpha val="95294"/>
                    </a:srgbClr>
                  </a:gs>
                  <a:gs pos="100000">
                    <a:srgbClr val="ff0066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ccff">
                        <a:alpha val="95294"/>
                      </a:srgbClr>
                    </a:gs>
                    <a:gs pos="100000">
                      <a:srgbClr val="ff0066"/>
                    </a:gs>
                  </a:gsLst>
                  <a:lin ang="13500000"/>
                </a:gradFill>
                <a:latin typeface="Impact"/>
              </a:rPr>
              <a:t>в Республике Казахстан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>
                      <a:alpha val="95294"/>
                    </a:srgbClr>
                  </a:gs>
                  <a:gs pos="100000">
                    <a:srgbClr val="ff0066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ccff">
                      <a:alpha val="95294"/>
                    </a:srgbClr>
                  </a:gs>
                  <a:gs pos="100000">
                    <a:srgbClr val="ff0066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643280" y="5445000"/>
            <a:ext cx="36975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66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принят  8 августа 2002 года</a:t>
            </a:r>
            <a:endParaRPr b="0" lang="en-US" sz="1800" spc="1" strike="noStrike">
              <a:ln w="0">
                <a:noFill/>
              </a:ln>
              <a:solidFill>
                <a:srgbClr val="0066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2360" y="3573360"/>
            <a:ext cx="7129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Закон Республики Казахстан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7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70" fill="hold"/>
                                        <p:tgtEl>
                                          <p:spTgt spid="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77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" dur="770" fill="hold"/>
                                        <p:tgtEl>
                                          <p:spTgt spid="4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6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556000" y="1484280"/>
            <a:ext cx="3960720" cy="2448000"/>
          </a:xfrm>
          <a:custGeom>
            <a:avLst/>
            <a:gdLst>
              <a:gd name="textAreaLeft" fmla="*/ 0 w 3960720"/>
              <a:gd name="textAreaRight" fmla="*/ 3960720 w 3960720"/>
              <a:gd name="textAreaTop" fmla="*/ 317160 h 2448000"/>
              <a:gd name="textAreaBottom" fmla="*/ 2130840 h 244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ccffff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татья 13. Имущественные права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79280" y="4221000"/>
            <a:ext cx="8229600" cy="21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Ребенок имеет право на получение содержания от своих родителей и других членов семьи в порядке и размерах, установленных закон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84360" y="198900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Очень трудно самому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жить на свете одно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равом с  Мамой жить и с Пап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Пользуйтесь везде ребя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588000" y="1628640"/>
            <a:ext cx="2448000" cy="2087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-324000" y="1268280"/>
            <a:ext cx="3132360" cy="28083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7524720" y="5157720"/>
            <a:ext cx="1440000" cy="1384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4. Право ребенка на жилищ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19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ждый ребенок имеет право на жилище в соответствии с жилищным законодательством Республики Казахстан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337440" y="5084640"/>
            <a:ext cx="2627280" cy="1533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1873080" cy="1800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195640" y="4076640"/>
            <a:ext cx="3752640" cy="2581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4000" y="4365720"/>
            <a:ext cx="1485720" cy="2232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7164360" y="981000"/>
            <a:ext cx="1511280" cy="100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324000" y="2997360"/>
            <a:ext cx="1439640" cy="1079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7020000" y="357336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8"/>
          <a:stretch/>
        </p:blipFill>
        <p:spPr>
          <a:xfrm>
            <a:off x="5076720" y="1341360"/>
            <a:ext cx="2016360" cy="606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1280" y="4581360"/>
            <a:ext cx="1872000" cy="18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0" y="4581360"/>
            <a:ext cx="1943280" cy="1872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00720" y="4941720"/>
            <a:ext cx="2376720" cy="1700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588000" y="4869000"/>
            <a:ext cx="2556000" cy="1989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0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5. Право ребенка на образование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1640" y="162864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одросла, взяла я кни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И пошла я в первый клас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В школу ходят все детишки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Это право есть у на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32000" y="3645000"/>
            <a:ext cx="51120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Чтоб с наукой подружиться 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С книжкой  в маленькой 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Правом пользуюсь учить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На родимом язы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380360" y="981000"/>
            <a:ext cx="1231920" cy="1297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81080" y="1125360"/>
            <a:ext cx="2338200" cy="23814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7740720" y="4365720"/>
            <a:ext cx="1084320" cy="1942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395280" y="4437000"/>
            <a:ext cx="1728720" cy="1343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4356000" y="5373720"/>
            <a:ext cx="1368360" cy="129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Статья 15. Право ребенка на               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образ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627280" y="1844640"/>
            <a:ext cx="6213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Каждый ребенок имеет право на образование и ему гарантируется получение бесплатного среднего общего, начального профессионального образования… в соответствии с законодательством Республики Казахст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"/>
              </a:rPr>
              <a:t>об образовани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79280" y="4508640"/>
            <a:ext cx="2808360" cy="2157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7236000" y="765000"/>
            <a:ext cx="1763640" cy="1143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11280" y="3213000"/>
            <a:ext cx="1655640" cy="844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8101080" y="3860640"/>
            <a:ext cx="933480" cy="1916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108000" y="836640"/>
            <a:ext cx="2987640" cy="204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3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120"/>
                            </p:stCondLst>
                            <p:childTnLst>
                              <p:par>
                                <p:cTn id="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020000" y="5373720"/>
            <a:ext cx="1209600" cy="12240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6. Право ребенка на свободу труд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аждый ребенок имеет право на свободу труда, свободный выбор рода деятельности и професс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ыполнение работ не должно нарушать процесс обучения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прещается принимать или привлекать ребенка на тяжелые физические работы и работы с вредными и (или) опасными условиями тру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8101080" y="2637000"/>
            <a:ext cx="915840" cy="2017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7596360" y="692280"/>
            <a:ext cx="1547640" cy="14302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826920" y="5734080"/>
            <a:ext cx="1873440" cy="842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6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8" dur="8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200"/>
                            </p:stCondLst>
                            <p:childTnLst>
                              <p:par>
                                <p:cTn id="4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2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3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8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120"/>
                            </p:stCondLst>
                            <p:childTnLst>
                              <p:par>
                                <p:cTn id="4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8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0" dur="8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6. Право ребенка на свободу тру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-324000" y="1699920"/>
            <a:ext cx="694872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ети с 14 лет вправе по разрешению родителей в свободное от учебы время участвов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общественно-полезном труде,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ступном им по состоянию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доровья и развитию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е наносящем вреда физическому, нравственному и психическому состоянию ребенк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а также имеют право на получение професс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588000" y="3284640"/>
            <a:ext cx="2635200" cy="35733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6516720" y="1413000"/>
            <a:ext cx="2162160" cy="1706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0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2840"/>
                            </p:stCondLst>
                            <p:childTnLst>
                              <p:par>
                                <p:cTn id="4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3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4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8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520"/>
                            </p:stCondLst>
                            <p:childTnLst>
                              <p:par>
                                <p:cTn id="4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9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0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8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8400"/>
                            </p:stCondLst>
                            <p:childTnLst>
                              <p:par>
                                <p:cTn id="4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5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6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7" dur="8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7. Право ребенка на государственную помощ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Государственная помощь назначается каждому ребенку, имеющему право на ее пол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азмер, условия и порядок оказания государственной помощи устанавливаются законодательством Республики Казахс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ети, оставшиеся без попечения родителей, в том числе дети-сироты, находятся на полном государственном обеспечении в соответствии с законодательством Республики Казахс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451640" y="1557360"/>
            <a:ext cx="1476360" cy="7635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6948360" y="4653000"/>
            <a:ext cx="243864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4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8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000"/>
                            </p:stCondLst>
                            <p:childTnLst>
                              <p:par>
                                <p:cTn id="4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1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8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7160"/>
                            </p:stCondLst>
                            <p:childTnLst>
                              <p:par>
                                <p:cTn id="4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8" dur="8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203640" y="1628640"/>
            <a:ext cx="4032360" cy="1295640"/>
          </a:xfrm>
          <a:prstGeom prst="flowChartDocumen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524720" y="2852640"/>
            <a:ext cx="1384200" cy="146376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9. Право ребенка на отдых и досуг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556000" y="3068640"/>
            <a:ext cx="51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1. Каждый ребенок имеет право на отдых и досуг, соответствующие его возрасту, здоровью и потребностя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700280"/>
            <a:ext cx="37432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Я могу свой детский празд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Как и взрослый отмеча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596360" y="4753080"/>
            <a:ext cx="1404720" cy="1915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4"/>
          <a:stretch/>
        </p:blipFill>
        <p:spPr>
          <a:xfrm>
            <a:off x="0" y="4122720"/>
            <a:ext cx="2903400" cy="273528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7604280" y="549360"/>
            <a:ext cx="1539720" cy="20876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3851280" y="5805360"/>
            <a:ext cx="1150920" cy="8589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7"/>
          <a:stretch/>
        </p:blipFill>
        <p:spPr>
          <a:xfrm>
            <a:off x="2843280" y="5805360"/>
            <a:ext cx="790560" cy="8766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8"/>
          <a:stretch/>
        </p:blipFill>
        <p:spPr>
          <a:xfrm>
            <a:off x="108000" y="836640"/>
            <a:ext cx="2663640" cy="316872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5508720" y="5661000"/>
            <a:ext cx="1727280" cy="981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1476000" y="1413000"/>
            <a:ext cx="6767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2. Родители или лица, их заменяющие, обеспечивают в соответствии со своими способностями и возможностями условия жизни, необходимые для содержания и всестороннего развития ребенк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9. Право ребенка на отдых и досуг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835280" y="5551560"/>
            <a:ext cx="2089080" cy="10461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250920" y="5589720"/>
            <a:ext cx="1428480" cy="10951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5435640" y="5589720"/>
            <a:ext cx="922320" cy="115236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140360" y="5661000"/>
            <a:ext cx="1008000" cy="100800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7920000" y="2060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6"/>
          <a:stretch/>
        </p:blipFill>
        <p:spPr>
          <a:xfrm>
            <a:off x="7740720" y="3573360"/>
            <a:ext cx="1270080" cy="1559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7"/>
          <a:stretch/>
        </p:blipFill>
        <p:spPr>
          <a:xfrm>
            <a:off x="6443640" y="5587920"/>
            <a:ext cx="1270080" cy="127008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8"/>
          <a:stretch/>
        </p:blipFill>
        <p:spPr>
          <a:xfrm>
            <a:off x="7667640" y="692280"/>
            <a:ext cx="1200240" cy="1224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9"/>
          <a:stretch/>
        </p:blipFill>
        <p:spPr>
          <a:xfrm>
            <a:off x="7956720" y="5157720"/>
            <a:ext cx="1001520" cy="15019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10"/>
          <a:stretch/>
        </p:blipFill>
        <p:spPr>
          <a:xfrm>
            <a:off x="250920" y="1052640"/>
            <a:ext cx="1439640" cy="21603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11"/>
          <a:stretch/>
        </p:blipFill>
        <p:spPr>
          <a:xfrm>
            <a:off x="468360" y="3500280"/>
            <a:ext cx="89676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4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8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9. Право ребенка на отдых и досу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Государственными органами учреждаются и поддерживаются детские оздоровительные, спортивные, творческие и иные организации досуга, лагеря и санатории в соответствии с законодательством Республики Казахстан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Государство осуществляет мероприятия по обеспечению права детей на отдых, оздоровление и досу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96360" y="0"/>
            <a:ext cx="1692000" cy="14176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0" y="4292640"/>
            <a:ext cx="819000" cy="1023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4"/>
          <a:stretch/>
        </p:blipFill>
        <p:spPr>
          <a:xfrm>
            <a:off x="324000" y="5589720"/>
            <a:ext cx="1296720" cy="10382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5"/>
          <a:stretch/>
        </p:blipFill>
        <p:spPr>
          <a:xfrm>
            <a:off x="7236000" y="5514840"/>
            <a:ext cx="1800000" cy="114624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6"/>
          <a:stretch/>
        </p:blipFill>
        <p:spPr>
          <a:xfrm>
            <a:off x="0" y="54936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7"/>
          <a:stretch/>
        </p:blipFill>
        <p:spPr>
          <a:xfrm>
            <a:off x="6948360" y="836640"/>
            <a:ext cx="936720" cy="76212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8"/>
          <a:stretch/>
        </p:blipFill>
        <p:spPr>
          <a:xfrm>
            <a:off x="3635280" y="5373720"/>
            <a:ext cx="1925640" cy="12841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9"/>
          <a:stretch/>
        </p:blipFill>
        <p:spPr>
          <a:xfrm>
            <a:off x="7885080" y="4365720"/>
            <a:ext cx="1073160" cy="107928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10"/>
          <a:stretch/>
        </p:blipFill>
        <p:spPr>
          <a:xfrm>
            <a:off x="1979640" y="5516640"/>
            <a:ext cx="1585800" cy="111924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11"/>
          <a:stretch/>
        </p:blipFill>
        <p:spPr>
          <a:xfrm>
            <a:off x="5796000" y="5229360"/>
            <a:ext cx="1428840" cy="1428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0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fill="hold">
                            <p:stCondLst>
                              <p:cond delay="7480"/>
                            </p:stCondLst>
                            <p:childTnLst>
                              <p:par>
                                <p:cTn id="5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8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5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3d4dc3"/>
                </a:solidFill>
                <a:latin typeface="Arial"/>
              </a:rPr>
              <a:t>Настоящий Закон регулирует отношения, возникающие в связи с реализацией основных прав и интересов ребенка, гарантированных Конституцией Республики Казахстан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20. Обязанности ребенк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Каждый ребенок обязан соблюдать Конституцию и законодательство Республики Казахстан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уважать права, свободы, честь и достоинство других лиц, государственные символы Республики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заботиться о нетрудоспособных родителях, сохранении исторического и культурного наслед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беречь памятники истории и культуры, сохранять природу и бережно относиться к природным богатства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08000" y="549360"/>
            <a:ext cx="612720" cy="122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28000" y="5661000"/>
            <a:ext cx="911160" cy="10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0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8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9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8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308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360"/>
                            </p:stCondLst>
                            <p:childTnLst>
                              <p:par>
                                <p:cTn id="5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80"/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9640"/>
                            </p:stCondLst>
                            <p:childTnLst>
                              <p:par>
                                <p:cTn id="5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6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80"/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403280" y="765000"/>
            <a:ext cx="720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Будь ты слабым или сильным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Белым, черным все равно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Ты родился быть счастливы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Это право всем дан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132000" y="3645000"/>
            <a:ext cx="2737080" cy="26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708360" y="3284640"/>
            <a:ext cx="1600200" cy="1295280"/>
          </a:xfrm>
          <a:prstGeom prst="ellipse">
            <a:avLst/>
          </a:prstGeom>
          <a:gradFill rotWithShape="0">
            <a:gsLst>
              <a:gs pos="0">
                <a:srgbClr val="566768"/>
              </a:gs>
              <a:gs pos="50000">
                <a:srgbClr val="bbe0e3"/>
              </a:gs>
              <a:gs pos="100000">
                <a:srgbClr val="566768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5029200" y="5272200"/>
            <a:ext cx="6480" cy="36648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5148000" y="4292280"/>
            <a:ext cx="1143000" cy="76212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5292720" y="3933720"/>
            <a:ext cx="151272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219280" y="2924280"/>
            <a:ext cx="1297080" cy="79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627280" y="3933720"/>
            <a:ext cx="1081080" cy="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771640" y="2924280"/>
            <a:ext cx="1008360" cy="79200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52880" y="34290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76360" y="4941720"/>
            <a:ext cx="1600200" cy="12956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Внешк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971640" y="3141720"/>
            <a:ext cx="1600200" cy="137160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Шк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03280" y="1557360"/>
            <a:ext cx="160020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Се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51280" y="1557360"/>
            <a:ext cx="160020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Медицинс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учрежд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851280" y="5084640"/>
            <a:ext cx="1600200" cy="129564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Дет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д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227640" y="1557360"/>
            <a:ext cx="167508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Учрежд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культур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04000" y="3068640"/>
            <a:ext cx="1600200" cy="144792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Органы опек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imes New Roman"/>
              </a:rPr>
              <a:t>попечи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4869000"/>
            <a:ext cx="1600200" cy="1295280"/>
          </a:xfrm>
          <a:prstGeom prst="rect">
            <a:avLst/>
          </a:prstGeom>
          <a:gradFill rotWithShape="0">
            <a:gsLst>
              <a:gs pos="0">
                <a:srgbClr val="5e755e"/>
              </a:gs>
              <a:gs pos="50000">
                <a:srgbClr val="ccffcc"/>
              </a:gs>
              <a:gs pos="100000">
                <a:srgbClr val="5e75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Орга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imes New Roman"/>
              </a:rPr>
              <a:t>правопоряд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059280" y="4365360"/>
            <a:ext cx="865080" cy="110484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Защита прав и законных интересов ребенка в социум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924360" y="2997360"/>
            <a:ext cx="1200240" cy="1780920"/>
          </a:xfrm>
          <a:prstGeom prst="rect">
            <a:avLst/>
          </a:prstGeom>
          <a:ln w="0">
            <a:noFill/>
          </a:ln>
        </p:spPr>
      </p:pic>
    </p:spTree>
  </p:cSld>
  <p:transition advTm="12000">
    <p:cover dir="lu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5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3500"/>
                            </p:stCondLst>
                            <p:childTnLst>
                              <p:par>
                                <p:cTn id="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400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500"/>
                            </p:stCondLst>
                            <p:childTnLst>
                              <p:par>
                                <p:cTn id="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0"/>
                            </p:stCondLst>
                            <p:childTnLst>
                              <p:par>
                                <p:cTn id="9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50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6500"/>
                            </p:stCondLst>
                            <p:childTnLst>
                              <p:par>
                                <p:cTn id="1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7500"/>
                            </p:stCondLst>
                            <p:childTnLst>
                              <p:par>
                                <p:cTn id="1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00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8500"/>
                            </p:stCondLst>
                            <p:childTnLst>
                              <p:par>
                                <p:cTn id="13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611280" y="1197000"/>
            <a:ext cx="782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Глава III.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сновные права 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язанности ребенка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564000" y="4292640"/>
            <a:ext cx="2160360" cy="189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c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03640" y="1125360"/>
            <a:ext cx="3816360" cy="28814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ffcc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846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татья 8. Право ребенка на охрану здоров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3428640"/>
            <a:ext cx="8229600" cy="30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4800" spc="-1" strike="noStrike">
                <a:solidFill>
                  <a:srgbClr val="333399"/>
                </a:solidFill>
                <a:latin typeface="Arial"/>
              </a:rPr>
              <a:t>Каждый ребенок имеет неотъемлемое право на охрану здоровья.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1628640"/>
            <a:ext cx="3456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Если жар, все тело лом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И совсем не до игры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То позвать  врача на помощ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Это право детворы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765000"/>
            <a:ext cx="2303280" cy="31165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308720" y="620640"/>
            <a:ext cx="1343160" cy="1582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108000" y="5589720"/>
            <a:ext cx="1152360" cy="11523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236000" y="2492280"/>
            <a:ext cx="1511280" cy="1511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77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1" dur="770" fill="hold"/>
                                        <p:tgtEl>
                                          <p:spTgt spid="7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3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5" dur="77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7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0" dur="770" fill="hold"/>
                                        <p:tgtEl>
                                          <p:spTgt spid="6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2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4" dur="77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77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1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3" dur="77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77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8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0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2" dur="77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77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9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1" dur="77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77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77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500"/>
                            </p:stCondLst>
                            <p:childTnLst>
                              <p:par>
                                <p:cTn id="20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500"/>
                            </p:stCondLst>
                            <p:childTnLst>
                              <p:par>
                                <p:cTn id="21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8000" y="2781360"/>
            <a:ext cx="3672000" cy="3786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50920" y="1052640"/>
            <a:ext cx="3313080" cy="1944720"/>
          </a:xfrm>
          <a:prstGeom prst="flowChartPunchedTape">
            <a:avLst/>
          </a:prstGeom>
          <a:gradFill rotWithShape="0">
            <a:gsLst>
              <a:gs pos="0">
                <a:srgbClr val="ffff99"/>
              </a:gs>
              <a:gs pos="100000">
                <a:srgbClr val="cc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90560" cy="952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8353440" y="0"/>
            <a:ext cx="790560" cy="952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50560" y="-36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Статья 9. Право ребенка на индивидуальность и ее сохран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50920" y="3357360"/>
            <a:ext cx="5041800" cy="32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Каждый ребенок с момента рождения имеет право на имя, отчество и фамилию, национальность и гражданство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41300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Только ты на свет родил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раво первое тво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лучи, чтоб им горд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мя личное св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4"/>
          <a:stretch/>
        </p:blipFill>
        <p:spPr>
          <a:xfrm rot="576000">
            <a:off x="4716000" y="821880"/>
            <a:ext cx="3384720" cy="2678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8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8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7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8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3203640" y="1484280"/>
            <a:ext cx="3672000" cy="2592360"/>
          </a:xfrm>
          <a:prstGeom prst="flowChartPunchedTape">
            <a:avLst/>
          </a:prstGeom>
          <a:gradFill rotWithShape="0">
            <a:gsLst>
              <a:gs pos="0">
                <a:srgbClr val="ccffff"/>
              </a:gs>
              <a:gs pos="100000">
                <a:srgbClr val="ff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-171360"/>
            <a:ext cx="8893080" cy="18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Arial"/>
              </a:rPr>
              <a:t>Статья 10. Право ребенка на жизнь, личную свободу, неприкосновенность достоинства и частной жизн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3715920"/>
            <a:ext cx="8734320" cy="33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Каждый ребенок имеет право на жизнь, личную свободу, неприкосновенность достоинства и частной жизни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64000" y="1916280"/>
            <a:ext cx="316872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Я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росточком не доволе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И пока не так силен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Но не смей мне делать бо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Есть у нас такой зако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 rot="20949600">
            <a:off x="107640" y="1341000"/>
            <a:ext cx="2879640" cy="30290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432560" y="1700280"/>
            <a:ext cx="1422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8" dur="8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43280" y="1484280"/>
            <a:ext cx="3313080" cy="1944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ccff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 rot="490200">
            <a:off x="6587640" y="1265040"/>
            <a:ext cx="2378160" cy="2598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Arial"/>
              </a:rPr>
              <a:t>Статья 11. Право ребенка на свободу слова и совести, информацию и участие в общественной жизни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1280" y="3860640"/>
            <a:ext cx="8229600" cy="32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Каждый ребенок имеет право на свободу слова и выражение своего мнения, свободу совести, развитие своей общественной активности, получение и распространение информаци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03640" y="1844640"/>
            <a:ext cx="38876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ть еще такое 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помнить думать и твор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и другим свои раздумь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если хочешь подари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01080" y="5805360"/>
            <a:ext cx="857160" cy="85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 rot="21218400">
            <a:off x="250560" y="1052280"/>
            <a:ext cx="2232000" cy="28080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50920" y="5470560"/>
            <a:ext cx="1079280" cy="138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5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6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7" dur="8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5920"/>
                            </p:stCondLst>
                            <p:childTnLst>
                              <p:par>
                                <p:cTn id="3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6920"/>
                            </p:stCondLst>
                            <p:childTnLst>
                              <p:par>
                                <p:cTn id="33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50000">
              <a:srgbClr val="ccffcc"/>
            </a:gs>
            <a:gs pos="100000">
              <a:srgbClr val="ff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Статья 12. Право ребенка на необходимый уровень жизни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58920" y="1988640"/>
            <a:ext cx="70768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имеет право на уровень жизни и условия, необходимые для полноценного физического, психического, нравственного и духовного развития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08000" y="1268280"/>
            <a:ext cx="725400" cy="8636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7812000" y="4797360"/>
            <a:ext cx="1087560" cy="17305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179280" y="4149720"/>
            <a:ext cx="2124360" cy="2536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684360" y="2276640"/>
            <a:ext cx="1147680" cy="17078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179280" y="189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258920" y="1268280"/>
            <a:ext cx="1152360" cy="9223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7380360" y="1125360"/>
            <a:ext cx="1441440" cy="13669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2556000" y="1341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Arial"/>
              </a:rPr>
              <a:t>Каждый ребен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0" dur="8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7:05:18Z</dcterms:created>
  <dc:creator>Галя</dc:creator>
  <dc:description/>
  <dc:language>en-US</dc:language>
  <cp:lastModifiedBy>Никита</cp:lastModifiedBy>
  <dcterms:modified xsi:type="dcterms:W3CDTF">2009-03-26T12:26:22Z</dcterms:modified>
  <cp:revision>29</cp:revision>
  <dc:subject/>
  <dc:title>Глава 3. Основные права и обязанности ребенка </dc:title>
</cp:coreProperties>
</file>