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5.gif" ContentType="image/gif"/>
  <Override PartName="/ppt/media/image11.gif" ContentType="image/gif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F7C-39CC-454F-A31A-A451A21B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0C7-3CB4-4F16-A4F0-5DA930B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9AF-2C2C-4329-9973-0CA55249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775-D706-43C2-8AF3-9E11BD80A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06A-D514-4F42-AFB3-43343FE5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14A-B2F2-4D08-86EA-E278D1F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D2C7-B6E5-494D-9CB6-488FFC23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44B7-3361-4992-9FAB-A715D64A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491-7041-4AE8-9FE2-6FD454D3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F145-FFB6-4E76-8722-395E2FCD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9142-58BD-47BA-8606-19B78DC8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EA5-7A03-4F8E-BBBB-9F11BAF9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A35C-E79D-43EB-A10D-28E7ED76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A189-57A0-41A6-95C8-EB731F1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DD41-E514-41EA-A0A5-A4BD4079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C188-5E9F-4DBB-909D-971A5CFF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AC00-B583-416F-A820-F3BE4FE9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DD8BD-9087-4EB1-BCBD-198813A1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885F-BE2D-45FE-A489-5AB33728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5372-754E-4881-AEC6-1C995F7A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CEF8-19E5-41C1-B513-CF56F968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4DF9-34C1-4D7E-BF09-F606C7CC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50FD-3390-4082-AC0A-2A1C56A9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A01B8-F79C-42D8-B390-3A4260031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B3EE-C951-43B7-BEA7-1DF0AD7D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D758-EEC8-4A19-B04D-ABE34DB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A988-9AEF-4D52-BF42-64C13ABB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6A1E-8CAA-4258-8509-D7DB9A5B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E756-8D7F-4969-9018-D2AD6B71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09D21-AA28-4617-8E3C-0951375B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B5E1B-3FA4-4596-9C87-F4224295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0BDB7-69BC-4F0C-BAC6-4C3B505C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8016-356B-4717-9546-A49AE8E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F17-5C23-4E29-80E4-E9518EA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B41A-E6B5-4DED-AC7D-358364B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DA73-34C6-42B9-B760-DEAECB7A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34A2-5FB5-4E2C-BEC2-A023E5D7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06B87-342D-45A9-A942-5C415371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65F3D-176C-406C-ADAA-91EBC3F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6A8C-06C8-42F0-BC29-7BEF492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BB282-469A-4A5E-9ACC-6FE9FC4E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D9728-0A0A-45DE-ACEF-B3A30007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FCD4-D38E-4736-ADB0-25AC7640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DBE04-C402-4F2B-A496-8E252ADE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08D-4B7E-4133-ACF9-7743E34F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1E5A-1CF5-4F73-AEA8-4779D9E2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5F1D9-7540-4D64-AA69-C15F6EAC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E749-E8B3-4825-B101-2A6FD0D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F1D4-4DB8-4542-B691-4414645A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9AF0-0C61-4E42-985F-A906799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0143C-20C2-4BDC-856C-641BB39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76673-ED7D-43A2-AA27-DB948293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3A329-B74B-4DB7-A553-CBCFFB01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E935-9B5B-44F0-88CC-F81EF2CF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7C0A-4E15-4802-95DB-D71A865E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06A-7C36-4D4C-A167-9BCED006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68854-8D72-4E43-BC3B-466DDBDB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391-31A9-4F11-ADC2-9811D58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68A2-DE03-436C-BBF7-7FAE6EE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5667-5000-4A56-B1D5-10D57905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9778-C937-4A91-9019-910ED47980E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FFC4-D672-454E-81C0-8E154C7AEA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0987-4A76-4C46-90E1-7A165B97F7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D883-A47F-4872-8608-D4CEFF8D82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91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D81F-4951-43E8-B327-C4531B2B62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3680" y="228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Corbel"/>
              </a:rPr>
              <a:t>ПУБЛИЧНЫЙ ДОКЛАД</a:t>
            </a:r>
            <a:r>
              <a:rPr b="1" lang="ru-RU" sz="4300" spc="-1" strike="noStrike">
                <a:solidFill>
                  <a:srgbClr val="ff0000"/>
                </a:solidFill>
                <a:latin typeface="Corbel"/>
              </a:rPr>
              <a:t> </a:t>
            </a:r>
            <a:br>
              <a:rPr sz="43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директора ГУ СОШ №23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г. Павлодара 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Макулова Серика Имангалиевича</a:t>
            </a:r>
            <a:br>
              <a:rPr sz="4000"/>
            </a:br>
            <a:r>
              <a:rPr b="0" lang="ru-RU" sz="4000" spc="-1" strike="noStrike">
                <a:solidFill>
                  <a:srgbClr val="572314"/>
                </a:solidFill>
                <a:latin typeface="Corbel"/>
              </a:rPr>
              <a:t> за 2011-2012 учебный год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3" descr=""/>
          <p:cNvPicPr/>
          <p:nvPr/>
        </p:nvPicPr>
        <p:blipFill>
          <a:blip r:embed="rId1"/>
          <a:stretch/>
        </p:blipFill>
        <p:spPr>
          <a:xfrm>
            <a:off x="1066680" y="0"/>
            <a:ext cx="2552760" cy="3348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3580920" y="304920"/>
            <a:ext cx="4984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емцова Надежда Александров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есто в городском конкурсе «Лучшее методическое пособие», обобщение педагогического опыта на город, 3 место в интернет-фестивале «Современный урок -2012», награждена благодарственным письмом управления образования Павлодарской области за подготовку призеров на областной выставке прикладного искусства «Атамұра», посвященной 20-летию Независимости Казахстана, награждена дипломом за участие в 14 городском фестивале этнической культуры и прикладного искус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0" name="Рисунок 3" descr="Berds-And-Flowers-Animated-yorkshire_rose-12163728-394-419.gif"/>
          <p:cNvPicPr/>
          <p:nvPr/>
        </p:nvPicPr>
        <p:blipFill>
          <a:blip r:embed="rId2"/>
          <a:stretch/>
        </p:blipFill>
        <p:spPr>
          <a:xfrm>
            <a:off x="1486080" y="3581280"/>
            <a:ext cx="240012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200040" y="6091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куова Нуржамал        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йфималиков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– учитель математик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, провела семинар для слушателей курсов ИПК ПК по технологии полного усвоения, тренер по технологии полного усвоения и личностно-ориентированного обучения городского и областного масштаб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Рисунок 3" descr="8.gif"/>
          <p:cNvPicPr/>
          <p:nvPr/>
        </p:nvPicPr>
        <p:blipFill>
          <a:blip r:embed="rId1"/>
          <a:stretch/>
        </p:blipFill>
        <p:spPr>
          <a:xfrm rot="1509000">
            <a:off x="469800" y="36813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4" descr="рео.jpg"/>
          <p:cNvPicPr/>
          <p:nvPr/>
        </p:nvPicPr>
        <p:blipFill>
          <a:blip r:embed="rId2"/>
          <a:stretch/>
        </p:blipFill>
        <p:spPr>
          <a:xfrm>
            <a:off x="990720" y="304920"/>
            <a:ext cx="249084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09880" y="457200"/>
            <a:ext cx="49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малова Зауреш Кабдуллов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читель математики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участие принимает в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0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деятельностных играх в рамках города, участница методического аукциона в газете «Ұстаздар», опубликовала в помощь учителям «Математические диктанты для 5 класса».Тренер по технологии ТИСО  городского масштаб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45096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6" descr="Butterfly-and-Flowers-yorkshire_rose-26531952-355-458.gif"/>
          <p:cNvPicPr/>
          <p:nvPr/>
        </p:nvPicPr>
        <p:blipFill>
          <a:blip r:embed="rId1"/>
          <a:stretch/>
        </p:blipFill>
        <p:spPr>
          <a:xfrm rot="399000">
            <a:off x="708120" y="3101760"/>
            <a:ext cx="2438280" cy="314640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143000" y="35244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580920" y="990720"/>
            <a:ext cx="525780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епко Наталья Васильевна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ого языка и литературы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Пушкинской пермии, победитель 11 Международного Пушкинского конкурса педагогов-русистов. (г. Москва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55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республиканского конкурса школьных сочинений «Хочешь быть журналистом?», проведенный факультетом журналистики КазНУ им. аль-Фараби ( г. Алматы); Участница областного конкурса «Кітапханалық сабақ-2011», награждена благодарственным письмом отдела культуры и развития языков за участие в городских мероприятиях, посвященных празднику Наурыз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5" descr="e61e0a7c750f.gif"/>
          <p:cNvPicPr/>
          <p:nvPr/>
        </p:nvPicPr>
        <p:blipFill>
          <a:blip r:embed="rId1"/>
          <a:stretch/>
        </p:blipFill>
        <p:spPr>
          <a:xfrm>
            <a:off x="1219320" y="3962520"/>
            <a:ext cx="981000" cy="1447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20040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стова Вера Иванов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амота отдела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а грамотой отдела культуры и спорта города Павлодара за значительный вклад в развитие физической культуры и спорта города Павлодара, подготовила призера по легкой атлетик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Щукина Алена – 9 класс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Рисунок 3" descr="e61e0a7c750f.gif"/>
          <p:cNvPicPr/>
          <p:nvPr/>
        </p:nvPicPr>
        <p:blipFill>
          <a:blip r:embed="rId2"/>
          <a:stretch/>
        </p:blipFill>
        <p:spPr>
          <a:xfrm>
            <a:off x="963720" y="4705200"/>
            <a:ext cx="1258920" cy="185760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4" descr="e61e0a7c750f.gif"/>
          <p:cNvPicPr/>
          <p:nvPr/>
        </p:nvPicPr>
        <p:blipFill>
          <a:blip r:embed="rId3"/>
          <a:stretch/>
        </p:blipFill>
        <p:spPr>
          <a:xfrm>
            <a:off x="1757520" y="44197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C:\Users\0\Desktop\Фото школы\IMG_0094.JPG"/>
          <p:cNvPicPr/>
          <p:nvPr/>
        </p:nvPicPr>
        <p:blipFill>
          <a:blip r:embed="rId4"/>
          <a:stretch/>
        </p:blipFill>
        <p:spPr>
          <a:xfrm>
            <a:off x="160200" y="152280"/>
            <a:ext cx="314964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3" descr="Безымянный.jpg"/>
          <p:cNvPicPr/>
          <p:nvPr/>
        </p:nvPicPr>
        <p:blipFill>
          <a:blip r:embed="rId1"/>
          <a:stretch/>
        </p:blipFill>
        <p:spPr>
          <a:xfrm>
            <a:off x="1111320" y="3716280"/>
            <a:ext cx="3200400" cy="2962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4114800" y="837720"/>
            <a:ext cx="481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убаев Темиржан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«А» класса,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плом за побед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2590920" cy="348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038120" y="1066320"/>
            <a:ext cx="47437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угаева Асель и Мамаева Диана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9 и 8 классов - Диплом 3 степени в областной выставке декаративно-прикладного творчества «Атамура», посвященной 20-летию Независимости РК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7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2971800" cy="40039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3"/>
          <p:cNvSpPr/>
          <p:nvPr/>
        </p:nvSpPr>
        <p:spPr>
          <a:xfrm>
            <a:off x="1600200" y="44956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ртификат за хорошую подготовку в городском конкурсе научных проек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343040" y="990360"/>
            <a:ext cx="4591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баракова Гульмир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ница 9 «А» класса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ртификат за хорошую подготовку в городском конкурсе научных проект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1033560" y="324000"/>
            <a:ext cx="335592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14040" y="609120"/>
            <a:ext cx="821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ркин Николай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9 класс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а за участие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ой научно- практической конференции школьников «Моя Родин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захстан» в номинации «Юный исследователь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 rot="681000">
            <a:off x="5257440" y="3124080"/>
            <a:ext cx="279252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143000" y="3045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Цели  и задачи конференции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Информировать родителей (законных представителей), местную общественность об основных результатах и проблемах функционирования и развития школ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012-2013 учебном году, способствовать развитию партнерских отношений между школой и родителями (законными представителями), местной общественностью, бизнес – сообществом. Информация представленная в докладе, является достоверной, отражает реальное состояния развития школы в 2011-2012 учебном год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907200" y="304920"/>
            <a:ext cx="817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 желтоқсан-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азақстан Республикасының бірінші Президент күні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2373480" y="554508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c32d2e"/>
                </a:solidFill>
                <a:latin typeface="Segoe Script"/>
              </a:rPr>
              <a:t>Құттықтаймыз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Рисунок 10" descr=""/>
          <p:cNvPicPr/>
          <p:nvPr/>
        </p:nvPicPr>
        <p:blipFill>
          <a:blip r:embed="rId2"/>
          <a:stretch/>
        </p:blipFill>
        <p:spPr>
          <a:xfrm>
            <a:off x="6553080" y="4890960"/>
            <a:ext cx="190512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4" descr="e61e0a7c750f.gif"/>
          <p:cNvPicPr/>
          <p:nvPr/>
        </p:nvPicPr>
        <p:blipFill>
          <a:blip r:embed="rId1"/>
          <a:stretch/>
        </p:blipFill>
        <p:spPr>
          <a:xfrm rot="20880000">
            <a:off x="837720" y="91440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e61e0a7c750f.gif"/>
          <p:cNvPicPr/>
          <p:nvPr/>
        </p:nvPicPr>
        <p:blipFill>
          <a:blip r:embed="rId2"/>
          <a:stretch/>
        </p:blipFill>
        <p:spPr>
          <a:xfrm rot="20586000">
            <a:off x="175680" y="1245960"/>
            <a:ext cx="914400" cy="134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" descr="e61e0a7c750f.gif"/>
          <p:cNvPicPr/>
          <p:nvPr/>
        </p:nvPicPr>
        <p:blipFill>
          <a:blip r:embed="rId3"/>
          <a:stretch/>
        </p:blipFill>
        <p:spPr>
          <a:xfrm>
            <a:off x="0" y="0"/>
            <a:ext cx="1362240" cy="2009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990360" y="31680"/>
            <a:ext cx="800100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программы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единого развивающего пространства, создание условий для формирования духовно-развитой социально-адаптивной личност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еделить основные  компоненты педагогического процесса и педагогических условий формирования психически здоровой, социально-активной личности, способной к самоопределению и  самореализации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ыявить условия и найти способы реализации творческого потенциала педагогов при овладении ими и применении современных педагогических технологий развивающего и личностно-ориентированного характера;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завершить переход  управления педагогическим процессом на диагностико- технологическую основу, подразумевающую ориентацию на личность учащегося, родителя, на конечный результат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ернуть работы творческих групп педагогов и методических объединений по реализации основных направлений программ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ить и отработать способы самореализации, самоопределения личности, ее социальной активности, возможности различных личностно ориентированных технологий, реализующих это направлени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работать модель социально - активной личности, способной к устойчивой самореализации и самоопределению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пределить и внедрить в работу наиболее оптимальные формы взаимодействия педагогов с родителями и общественностью, способствующие комплексному развитию образовательного учреждения и направленные на самоопределение, самореализацию учащихся, формирования их социальной актив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8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499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лан-график реализации Программы развития школы. 3 этап 2012-2013 учебный год.</a:t>
            </a:r>
            <a:endParaRPr b="0" lang="en-US" sz="2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45960" y="914400"/>
          <a:ext cx="8763120" cy="5719680"/>
        </p:xfrm>
        <a:graphic>
          <a:graphicData uri="http://schemas.openxmlformats.org/drawingml/2006/table">
            <a:tbl>
              <a:tblPr/>
              <a:tblGrid>
                <a:gridCol w="4149720"/>
                <a:gridCol w="2427480"/>
                <a:gridCol w="2185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правление и задачи изменени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Разработать план следующего этапа реализации Программы развития школы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 реализации третьего эта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ить мотивационную готовность учителей в создании личностно - ориентированного (дифференцированного) обучения в многопрофильных классах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ие опыта работы по новым педагогическим технология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7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зработать программно - методическое обеспечение реализации дифференцированного обучения по предмета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программно-методических разработок по предметам в класс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(ТГ), руководители М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пробировать модель дифференцированного обучения в классах в 1,2,3 ступенях образования ( по выбору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уровня мотивации учебных достижений при снижении перегрузки учащихся 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ровести анализ проведенной апробации (внутренней и внешней дифференциации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е выводы и обобщение опыта по реализации "Программы развития школы"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методической работе, рук. (ТГ)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здать необходимые ресурсы для реализации личностно- ориентированного дифференцированного подхода в обучении на следующем этап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ртовая площадка для начала следующего этапа. 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и директора шко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47560" y="-1526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Финансирование 2011-2012 г.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43000" y="838080"/>
          <a:ext cx="7086600" cy="5619960"/>
        </p:xfrm>
        <a:graphic>
          <a:graphicData uri="http://schemas.openxmlformats.org/drawingml/2006/table">
            <a:tbl>
              <a:tblPr/>
              <a:tblGrid>
                <a:gridCol w="5029200"/>
                <a:gridCol w="2057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с.т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а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канцелярских товар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горячего питания для детей из м/о семей, детей-сиро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  одежды и обуви для детей из малообеспеченных семей и детей сиро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портивно-оздоровительных меропри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отовление меб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ны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8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Corbel"/>
              </a:rPr>
              <a:t>Качественный состав учителей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66680" y="1447920"/>
          <a:ext cx="7391520" cy="3809880"/>
        </p:xfrm>
        <a:graphic>
          <a:graphicData uri="http://schemas.openxmlformats.org/drawingml/2006/table">
            <a:tbl>
              <a:tblPr/>
              <a:tblGrid>
                <a:gridCol w="2362320"/>
                <a:gridCol w="1447920"/>
                <a:gridCol w="2209680"/>
                <a:gridCol w="1371600"/>
              </a:tblGrid>
              <a:tr h="8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ние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тегория  в  количеств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ая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 спец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ая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 учител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343040" y="837720"/>
            <a:ext cx="4591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кулов Серик Имангалиевич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едитель городского конкурса «Лидер в образовании - 2012» в номинации «Открытый мир»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есто в городском конкурсе «Лучшее методическое пособие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гажден Почетной грамотой городского маслихат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4" name="Picture 4" descr="C:\Users\0\Desktop\фото директора.jpg"/>
          <p:cNvPicPr/>
          <p:nvPr/>
        </p:nvPicPr>
        <p:blipFill>
          <a:blip r:embed="rId1"/>
          <a:stretch/>
        </p:blipFill>
        <p:spPr>
          <a:xfrm>
            <a:off x="977760" y="11574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Объект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008440" cy="259092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4"/>
          <p:cNvSpPr/>
          <p:nvPr/>
        </p:nvSpPr>
        <p:spPr>
          <a:xfrm>
            <a:off x="3733920" y="1295280"/>
            <a:ext cx="46479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азалина Гульбаршин Айтбеков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 место в городском конкурсе «Лучшее методическое пособие»; участница республиканской научно-практической конференции «3 Шаяхметов оқулары»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Экологическое воспитание школьников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победителя победителем городского конкурса защиты научных проектов.  (Агубаев Темиржан – 8 класс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Рисунок 5" descr="Animated-Beautiful-Flowers-Pictures-25.gif"/>
          <p:cNvPicPr/>
          <p:nvPr/>
        </p:nvPicPr>
        <p:blipFill>
          <a:blip r:embed="rId2"/>
          <a:stretch/>
        </p:blipFill>
        <p:spPr>
          <a:xfrm>
            <a:off x="1219320" y="396252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mputer</dc:creator>
  <dc:description/>
  <dc:language>en-US</dc:language>
  <cp:lastModifiedBy>34</cp:lastModifiedBy>
  <dcterms:modified xsi:type="dcterms:W3CDTF">2012-11-26T04:47:10Z</dcterms:modified>
  <cp:revision>1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