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BA6-2CBB-4F25-82E0-132B76AB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EBA-2F15-4665-A24E-EE449115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18A-526D-40B8-97D7-FEDE6D6B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220-35C7-4EC1-B7FC-8C6F2D56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046C-C632-43D0-9ED7-946D845A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DE2A-EB51-4D4E-892F-2C9F50B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B111-1E63-4AB7-8B77-33177343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06DE-A799-421F-AD5E-0661BCB9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391F-ADB2-4576-9349-3E1018AA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85A7-AFEA-446A-B47F-09F8E3F5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D2D2-5A5D-4F56-8D9F-9F8977D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32C-80EE-4137-BAE2-F465629A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633E-EEB0-4D12-8AFA-B0340F1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68E-1B11-43FA-857B-F1E3AC3E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F3A5-497C-4B16-938E-8B61B66E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527F-4B5D-47B5-A657-1BDA2F46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C85F-7003-4F12-B04B-1A5D8BF3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D69-93BB-4FDC-8D00-444AD6B6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9F7-795D-4DD1-AE96-81050FFA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47D-AF27-443B-A599-DBFD183D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1BE-8C17-4839-9463-D87A4EBB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7C1-4FD6-4756-857C-1A6A56AF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740-F14F-4352-9354-D53AE9F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39F-A78E-4953-B72B-57B96B8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B15C-6A1F-40C0-8DFB-75BF5697E6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9233-7D19-47FB-9B46-47AEC5AD0A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e theme of our lesson i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GB" sz="72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Statements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ancient times Nature hasn’t served 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riches are unlim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y-products of their activity clean the air we breathe, the water we drink,   the land we grow grain and vegetables 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ities suffer from snow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t parks are cut and burn in f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ew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appear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ез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son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troy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уш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ave animals 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хран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founded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tion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l organizatio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международная орган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m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млекопитающ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iv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ережить, выдерж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274680"/>
          <a:ext cx="9144000" cy="4930560"/>
        </p:xfrm>
        <a:graphic>
          <a:graphicData uri="http://schemas.openxmlformats.org/drawingml/2006/table">
            <a:tbl>
              <a:tblPr/>
              <a:tblGrid>
                <a:gridCol w="2449440"/>
                <a:gridCol w="2198880"/>
                <a:gridCol w="1676160"/>
                <a:gridCol w="2819520"/>
              </a:tblGrid>
              <a:tr h="277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ou knew this fact bef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√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w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ought differen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–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n’t understand, have ques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Озеро, осе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70080" y="0"/>
            <a:ext cx="64371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arth is a garde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 beautiful plac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 all living creatur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 all the human ra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lping Mother Ear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can peacefully ro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all diverse a pl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can call our h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peat and read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tect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защищать, охра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tected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щённый, находящий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 защитой, охра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dangered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дящийся под угроз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езновения (о вид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tin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тухший, увядш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troy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уш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bita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-  мест о распространения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еал(животного, расте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se the new words to complete the senten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gers living in the Far East of Russia have become e…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amingos live in the tropics. They are water birds, so their h… is lak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ames of all pr… species of Russia  are in the Red Book of plants and anim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peace tries to stop those who d… n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eople cut down forests, a lot of species become  ex…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not easy to p… our world from air, water and soil pol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971640" y="168120"/>
            <a:ext cx="76327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ind the explanation of the words: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836640"/>
          <a:ext cx="8147160" cy="5027760"/>
        </p:xfrm>
        <a:graphic>
          <a:graphicData uri="http://schemas.openxmlformats.org/drawingml/2006/table">
            <a:tbl>
              <a:tblPr/>
              <a:tblGrid>
                <a:gridCol w="3538440"/>
                <a:gridCol w="46087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1. protec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dead 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2. habit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kill (animals), cut down (tree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3. extinc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keep safe from ha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4. protect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enviro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5. destro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disappearing 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6. endanger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keeping saf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41"/>
          <p:cNvSpPr/>
          <p:nvPr/>
        </p:nvSpPr>
        <p:spPr>
          <a:xfrm>
            <a:off x="2642400" y="609300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ey: 1c, 2d, 3a, 4f, 5b, 6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1" name="Прямая со стрелкой 5"/>
          <p:cNvCxnSpPr/>
          <p:nvPr/>
        </p:nvCxnSpPr>
        <p:spPr>
          <a:xfrm>
            <a:off x="2857680" y="1357200"/>
            <a:ext cx="164376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>
            <a:off x="2928960" y="2143080"/>
            <a:ext cx="164376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3" name="Прямая со стрелкой 7"/>
          <p:cNvCxnSpPr/>
          <p:nvPr/>
        </p:nvCxnSpPr>
        <p:spPr>
          <a:xfrm flipV="1">
            <a:off x="2928960" y="1356840"/>
            <a:ext cx="164376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4" name="Прямая со стрелкой 9"/>
          <p:cNvCxnSpPr/>
          <p:nvPr/>
        </p:nvCxnSpPr>
        <p:spPr>
          <a:xfrm>
            <a:off x="3429000" y="3929040"/>
            <a:ext cx="100080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5" name="Прямая со стрелкой 11"/>
          <p:cNvCxnSpPr/>
          <p:nvPr/>
        </p:nvCxnSpPr>
        <p:spPr>
          <a:xfrm flipV="1">
            <a:off x="3857760" y="4714200"/>
            <a:ext cx="429120" cy="78660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6" name="Прямая со стрелкой 14"/>
          <p:cNvCxnSpPr/>
          <p:nvPr/>
        </p:nvCxnSpPr>
        <p:spPr>
          <a:xfrm flipV="1">
            <a:off x="3071880" y="2071080"/>
            <a:ext cx="1286640" cy="257220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ok at the new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v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луж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rich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иродные богат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ference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меша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величи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ial enterprises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мышленны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при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-product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очный проду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ffer from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традать от чего-либ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xygen balance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ан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л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truction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zone layer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оновый сл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less interaction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гкомыслен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действ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Questions: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has served nature since ancient tim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id people live in harmony for thousands of years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ollutes the air we breathe, the water we drink, the land we grow grain and vegetables 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ut and burnt in fi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man many cities suffer f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2-11-29T03:34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