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479-1262-4086-AA6F-0C088DD3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00F-F020-490B-93F1-AEC147B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1E1-0A86-414B-99D6-64F6D743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49E-DB85-4AAB-9CDB-68DC21E5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FFE-6D7A-45DF-ABB5-C600B64E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8448-A214-47FF-9FB2-F616C195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735-D7FD-4FEA-82DA-08ECE60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D92-2695-451B-B39E-D5A54FC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1FC7-162B-4F07-B694-1EC9761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C7A5-A7B8-418F-9391-5BA364B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2100-852D-4F27-A1D1-522E6E7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DF9-BC17-40B7-9807-E3EF1D46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747-1ADD-4C40-A594-4F70C6EC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8A8-7114-4A2C-B3C9-D5DD7C8A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797D-5FDF-4007-9BBF-1D0AB02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89CE-EA75-44DD-A0AA-174397C4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DE4-178C-483C-9EE7-63DE3236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252-BDC7-4EE9-8E9F-EECEC7F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BDB-D2E2-430A-B9BD-3903947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74D-B80C-4F68-BD20-CB40E21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2AC-5F34-4939-B230-54E47063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FFD-D628-4B3D-9B1C-57951AF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954-666B-4033-8964-F8F0F9F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ADF-775E-4B96-8994-F5CFB3B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C8EF-77C5-4E45-B9D8-FD741E26D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9C09-742E-4919-8313-21E9B871F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0880" y="1295280"/>
          <a:ext cx="8540640" cy="4014720"/>
        </p:xfrm>
        <a:graphic>
          <a:graphicData uri="http://schemas.openxmlformats.org/drawingml/2006/table">
            <a:tbl>
              <a:tblPr/>
              <a:tblGrid>
                <a:gridCol w="4270680"/>
                <a:gridCol w="42699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imp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Continuo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, always, often, sometimes, seldom, never; every day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eek, month, year, Sunday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 does      V1 / V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the moment, 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/is/are                  Ving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199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ways, usually, every year, of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Human beings/kill/our pla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Animal/disapp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A man/not cut down/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People/cut down/many 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I/plant/a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Students/plant/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solve/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live/among l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cientists/al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he /not think/about enviro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The Dead Sea/become/smal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Student/take/the rubbish/to the local recycling cen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We/clean/our p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The average person/throw away/about 70 food c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The forests/disappear/all over wor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He/keep/himself informed/about 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