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AA07-2C36-42E4-A820-3C38BCD6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9AE5-4A97-4635-8D58-CD33577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DF4B-9D4A-42C7-931F-865A4804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5A3D-C35D-413E-BB7F-B095B863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00B-B820-4ACE-BFF0-05A80D39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2995-0FCF-4086-BBBC-E590A349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EBC-7AA4-4F51-99E3-EEB8A2E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1406-B777-4CAE-AD77-E9EC7145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DFB9-6997-48B0-B56B-074EE4C0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AF9-A302-4225-99F1-22AC26FC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71DA-14D5-4A37-BA48-F9A42AC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9297-E31E-40FA-AC87-62FE8486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0C8F-A09E-4537-B247-11CD5EB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368-778C-4D23-BE00-D124801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01AF-3531-4DA4-BA6B-EB82EDC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9E0-89E1-4A8E-8C31-E2268EE6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6C4A-3C37-400E-8B27-96D1F579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1268-4EDD-493F-AB8A-AD71389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4393-E591-4DDF-8975-45453EDC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905A-048D-41B8-ADAF-65C9C06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6CAC-620C-4821-BAD3-C63E58D8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47A5-67F0-437E-8ACB-8D80628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8FCD-14C8-446B-A373-DC6CB30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4D93-D7C3-4070-8416-A90ACCE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B9A-A03B-425D-84E8-1FB4BE6E47C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14D-24DA-43DC-ABD8-A8AC426B806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rdn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Интегрированный урок по литературе и истории </a:t>
            </a:r>
            <a:br>
              <a:rPr sz="4200"/>
            </a:b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Tahoma"/>
              </a:rPr>
              <a:t>Художественные особенности и историзм романа </a:t>
            </a:r>
            <a:br>
              <a:rPr sz="4200"/>
            </a:b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Tahoma"/>
              </a:rPr>
              <a:t>Л.Н. Толстого "Война и мир"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Tahoma"/>
              </a:rPr>
              <a:t>Посетители салона</a:t>
            </a:r>
            <a:br>
              <a:rPr sz="3800"/>
            </a:br>
            <a:r>
              <a:rPr b="1" i="1" lang="ru-RU" sz="3800" spc="-1" strike="noStrike">
                <a:solidFill>
                  <a:srgbClr val="ffffff"/>
                </a:solidFill>
                <a:latin typeface="Tahoma"/>
              </a:rPr>
              <a:t> А.П. Шерер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ставители придворной аристократической среды: фрейлина Анна Павловна Шерер, министр князь Василий Курагин, его дети – бездушная красавица Элен, «беспокойный дурак» Анатоль и «спокойный дурак» Ипполит, княгиня Лиза Болконская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stepanova-a20"/>
          <p:cNvPicPr/>
          <p:nvPr/>
        </p:nvPicPr>
        <p:blipFill>
          <a:blip r:embed="rId1"/>
          <a:stretch/>
        </p:blipFill>
        <p:spPr>
          <a:xfrm>
            <a:off x="5238720" y="272268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0" y="277920"/>
            <a:ext cx="411480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ahoma"/>
              </a:rPr>
              <a:t>Сила изображения Толстым Кутузова в том, что он показан истинно народным полководцем, патриотом, слабость – в том, что он отрицает в деятельности Кутузова руководящую роль разума, принижая его значение как стратега и организатора.</a:t>
            </a:r>
            <a:br>
              <a:rPr sz="2500"/>
            </a:b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kutuzov1"/>
          <p:cNvPicPr/>
          <p:nvPr/>
        </p:nvPicPr>
        <p:blipFill>
          <a:blip r:embed="rId1"/>
          <a:stretch/>
        </p:blipFill>
        <p:spPr>
          <a:xfrm>
            <a:off x="617400" y="1968480"/>
            <a:ext cx="2857680" cy="3533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539640" y="189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Михаил </a:t>
            </a:r>
            <a:br>
              <a:rPr sz="2800"/>
            </a:b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Илларионович</a:t>
            </a:r>
            <a:br>
              <a:rPr sz="2800"/>
            </a:b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Кутузов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39607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личие Наполеона было   результатом сцепления ряда исторических обстоятельств и признавалось, пока против него не встал народ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Наполеон император"/>
          <p:cNvPicPr/>
          <p:nvPr/>
        </p:nvPicPr>
        <p:blipFill>
          <a:blip r:embed="rId1"/>
          <a:stretch/>
        </p:blipFill>
        <p:spPr>
          <a:xfrm>
            <a:off x="5219640" y="712800"/>
            <a:ext cx="3467160" cy="4657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395280" y="333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Наполео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00"/>
                </a:solidFill>
                <a:latin typeface="Tahoma"/>
              </a:rPr>
              <a:t>Император</a:t>
            </a:r>
            <a:br>
              <a:rPr sz="3800"/>
            </a:br>
            <a:r>
              <a:rPr b="1" lang="ru-RU" sz="3800" spc="-1" strike="noStrike">
                <a:solidFill>
                  <a:srgbClr val="336600"/>
                </a:solidFill>
                <a:latin typeface="Tahoma"/>
              </a:rPr>
              <a:t>Александр </a:t>
            </a:r>
            <a:r>
              <a:rPr b="1" lang="en-US" sz="3800" spc="-1" strike="noStrike">
                <a:solidFill>
                  <a:srgbClr val="336600"/>
                </a:solidFill>
                <a:latin typeface="Tahoma"/>
              </a:rPr>
              <a:t>I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4" descr="Александр I"/>
          <p:cNvPicPr/>
          <p:nvPr/>
        </p:nvPicPr>
        <p:blipFill>
          <a:blip r:embed="rId1"/>
          <a:stretch/>
        </p:blipFill>
        <p:spPr>
          <a:xfrm>
            <a:off x="250920" y="1628640"/>
            <a:ext cx="3004920" cy="413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Александр 1 4"/>
          <p:cNvPicPr/>
          <p:nvPr/>
        </p:nvPicPr>
        <p:blipFill>
          <a:blip r:embed="rId2"/>
          <a:stretch/>
        </p:blipFill>
        <p:spPr>
          <a:xfrm>
            <a:off x="3492360" y="1700280"/>
            <a:ext cx="2590920" cy="388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Александр I 3"/>
          <p:cNvPicPr/>
          <p:nvPr/>
        </p:nvPicPr>
        <p:blipFill>
          <a:blip r:embed="rId3"/>
          <a:stretch/>
        </p:blipFill>
        <p:spPr>
          <a:xfrm>
            <a:off x="6588000" y="1557360"/>
            <a:ext cx="2221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ahoma"/>
              </a:rPr>
              <a:t>Наташа Росто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8" descr="Бал Наташи Ростовой"/>
          <p:cNvPicPr/>
          <p:nvPr/>
        </p:nvPicPr>
        <p:blipFill>
          <a:blip r:embed="rId1"/>
          <a:stretch/>
        </p:blipFill>
        <p:spPr>
          <a:xfrm>
            <a:off x="6156360" y="3933720"/>
            <a:ext cx="27367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Ростова"/>
          <p:cNvPicPr/>
          <p:nvPr/>
        </p:nvPicPr>
        <p:blipFill>
          <a:blip r:embed="rId2"/>
          <a:stretch/>
        </p:blipFill>
        <p:spPr>
          <a:xfrm>
            <a:off x="3780000" y="1484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Болк - Нат - Пьер"/>
          <p:cNvPicPr/>
          <p:nvPr/>
        </p:nvPicPr>
        <p:blipFill>
          <a:blip r:embed="rId3"/>
          <a:stretch/>
        </p:blipFill>
        <p:spPr>
          <a:xfrm>
            <a:off x="2700360" y="4508640"/>
            <a:ext cx="3267000" cy="159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Наташа Ростова скорбит"/>
          <p:cNvPicPr/>
          <p:nvPr/>
        </p:nvPicPr>
        <p:blipFill>
          <a:blip r:embed="rId4"/>
          <a:stretch/>
        </p:blipFill>
        <p:spPr>
          <a:xfrm>
            <a:off x="6227640" y="1413000"/>
            <a:ext cx="2540160" cy="226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305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Восход солнца 2"/>
          <p:cNvPicPr/>
          <p:nvPr/>
        </p:nvPicPr>
        <p:blipFill>
          <a:blip r:embed="rId1"/>
          <a:stretch/>
        </p:blipFill>
        <p:spPr>
          <a:xfrm>
            <a:off x="5508720" y="4221000"/>
            <a:ext cx="3456000" cy="23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Сквозь тучи"/>
          <p:cNvPicPr/>
          <p:nvPr/>
        </p:nvPicPr>
        <p:blipFill>
          <a:blip r:embed="rId2"/>
          <a:stretch/>
        </p:blipFill>
        <p:spPr>
          <a:xfrm>
            <a:off x="250920" y="836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Тучи 2"/>
          <p:cNvPicPr/>
          <p:nvPr/>
        </p:nvPicPr>
        <p:blipFill>
          <a:blip r:embed="rId3"/>
          <a:stretch/>
        </p:blipFill>
        <p:spPr>
          <a:xfrm>
            <a:off x="2987640" y="2421000"/>
            <a:ext cx="3311640" cy="2671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75564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оль пейзажей в описании сра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ahoma"/>
              </a:rPr>
              <a:t>Образ «высокого неб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 ним не было ничего уже, кроме неба, - высокого неба, не ясного, но всё-таки неизмеримо высокого, с тихо ползущими по нём серыми облаками…. «Как же я не видал прежде этого высокого неб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как я счастлив, что узнал его наконец», - подумал князь Андр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" descr="Высокое небо"/>
          <p:cNvPicPr/>
          <p:nvPr/>
        </p:nvPicPr>
        <p:blipFill>
          <a:blip r:embed="rId1"/>
          <a:stretch/>
        </p:blipFill>
        <p:spPr>
          <a:xfrm>
            <a:off x="250920" y="1628640"/>
            <a:ext cx="388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Образ дуба в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4" descr="Старый дуб"/>
          <p:cNvPicPr/>
          <p:nvPr/>
        </p:nvPicPr>
        <p:blipFill>
          <a:blip r:embed="rId1"/>
          <a:stretch/>
        </p:blipFill>
        <p:spPr>
          <a:xfrm>
            <a:off x="5292720" y="1773360"/>
            <a:ext cx="3595680" cy="4608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679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2195640" y="40464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ahoma"/>
              </a:rPr>
              <a:t>Итог уро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71640" y="150012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"Что такое "Война и мир"? Это не роман, еще менее поэма, еще менее историческая хроника, "Война и мир" есть то, что хотел и мог выразить автор в той форме, в которой оно выразилось"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rdn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ЛН Толстой"/>
          <p:cNvPicPr/>
          <p:nvPr/>
        </p:nvPicPr>
        <p:blipFill>
          <a:blip r:embed="rId2"/>
          <a:stretch/>
        </p:blipFill>
        <p:spPr>
          <a:xfrm>
            <a:off x="415800" y="2133720"/>
            <a:ext cx="2952720" cy="4378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i="1" lang="ru-RU" sz="4000" spc="-1" strike="noStrike">
                <a:solidFill>
                  <a:srgbClr val="800000"/>
                </a:solidFill>
                <a:latin typeface="Tahoma"/>
              </a:rPr>
              <a:t>Л.Н. Толстой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Tahoma"/>
              </a:rPr>
              <a:t>«Я старался писать историю народ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720" y="3576240"/>
            <a:ext cx="361008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Роман-эпопе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(1863 – 1869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3422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Жанр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романа-эпопе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71280" y="198864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«Романные» 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е сюжета, в котором есть завязка, развитие действ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ульминация, развязка – для всего повествования и дл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аждой сюжетной линии в отдель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аимодействие среды с характером героя, развитие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характе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знаки эпопе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а (эпоха больших исторических событий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дейное содержание – «моральное единение повествователя с народом в его героической деятельности, патриотизм…» прославление жизни, оптимиз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ожность компози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ремление автора к национально-историческому обобщени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25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ереправа французов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через Неман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(начало войны)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4" descr="Переправа через Неман начало войны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Сражение за Смоленск 16"/>
          <p:cNvPicPr/>
          <p:nvPr/>
        </p:nvPicPr>
        <p:blipFill>
          <a:blip r:embed="rId1"/>
          <a:stretch/>
        </p:blipFill>
        <p:spPr>
          <a:xfrm>
            <a:off x="250920" y="907920"/>
            <a:ext cx="4608360" cy="3765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684360" y="260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орона Смоленс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Перед стенами Смоленска 16"/>
          <p:cNvPicPr/>
          <p:nvPr/>
        </p:nvPicPr>
        <p:blipFill>
          <a:blip r:embed="rId2"/>
          <a:stretch/>
        </p:blipFill>
        <p:spPr>
          <a:xfrm>
            <a:off x="4572000" y="3141720"/>
            <a:ext cx="4321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Tahoma"/>
              </a:rPr>
              <a:t>Бородинское сражение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4" descr="Начало Бородина"/>
          <p:cNvPicPr/>
          <p:nvPr/>
        </p:nvPicPr>
        <p:blipFill>
          <a:blip r:embed="rId1"/>
          <a:stretch/>
        </p:blipFill>
        <p:spPr>
          <a:xfrm>
            <a:off x="250920" y="981000"/>
            <a:ext cx="4170240" cy="337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Конец Бородинского сражения"/>
          <p:cNvPicPr/>
          <p:nvPr/>
        </p:nvPicPr>
        <p:blipFill>
          <a:blip r:embed="rId2"/>
          <a:stretch/>
        </p:blipFill>
        <p:spPr>
          <a:xfrm>
            <a:off x="4067280" y="3224160"/>
            <a:ext cx="48258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асилий Денисов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в партизанском отряд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4" descr="Партизаны 1812"/>
          <p:cNvPicPr/>
          <p:nvPr/>
        </p:nvPicPr>
        <p:blipFill>
          <a:blip r:embed="rId1"/>
          <a:stretch/>
        </p:blipFill>
        <p:spPr>
          <a:xfrm>
            <a:off x="5726160" y="2421000"/>
            <a:ext cx="3151080" cy="32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Партизаны 1812 2"/>
          <p:cNvPicPr/>
          <p:nvPr/>
        </p:nvPicPr>
        <p:blipFill>
          <a:blip r:embed="rId2"/>
          <a:stretch/>
        </p:blipFill>
        <p:spPr>
          <a:xfrm>
            <a:off x="250920" y="2401920"/>
            <a:ext cx="52243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ahoma"/>
              </a:rPr>
              <a:t>Пьер и масон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ьер уверовал в Бога как существо «вечное и бесконечное во всех своих свойствах, всемогущее и непостижимое». Пьер открыл для себя по сути не масонскую, а глубоко истинную религию, как её понимал автор ром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ьер у Базде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удожник М.С. Родио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032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56:14Z</dcterms:created>
  <dc:creator>Шустова</dc:creator>
  <dc:description/>
  <dc:language>en-US</dc:language>
  <cp:lastModifiedBy>Owner</cp:lastModifiedBy>
  <dcterms:modified xsi:type="dcterms:W3CDTF">2011-07-21T14:15:26Z</dcterms:modified>
  <cp:revision>5</cp:revision>
  <dc:subject/>
  <dc:title>Интегрированный урок по литературе и истории  Художественные особенности и историзм романа  Л.Н. Толстого "Война и мир"</dc:title>
</cp:coreProperties>
</file>