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6AC7-EC29-47AA-AFC8-EBD37C1E7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230C-5E70-4608-AFD7-2156D7CA4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AC0B-9EF9-4ED6-939F-6026D96F7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35C7-807D-4946-AB12-AF965112B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E5464-6B39-4DC6-AC24-04A25FB6C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4E0F2-C3AA-4BAF-967C-867B60810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3CFD3-CA62-4471-8F48-A7B21E94E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AE469-6EF2-49C0-AECB-C4B73A764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9C2EA-A1FE-4A41-A7C2-F4A30D0FE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E292B-5327-42E6-A4E8-313D8B4BF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3334A-FC81-4878-9323-25DFDE3B7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FBC6-F82B-47A5-AEDA-33CA58E84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E5D42-7481-4F9A-B685-C54BD22EE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726C1-E4DB-4E72-9B5B-F661FCF79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171B4-D63C-41A7-B732-9B9B9452A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12326-4E04-4C0D-B1DF-ADE4B3895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4B129-0254-4460-A48F-63B7E6147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E5C8-0A95-45A5-84E3-8923A0C46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F787-4B59-426C-A07E-58E0204C7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A11D-1912-4302-AB7F-98AA14DBF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1EB7-8A57-45A2-8703-B82C5DEA7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6DB7-4EB9-4860-8223-900E0DA2A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83B1-60A8-4834-B951-DC87ECD42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D033-2173-45D4-948E-B156BF2A4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E501F-980D-4315-97DD-03C5ADA941DE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6998F-ADC4-4E6F-880C-4393123C01F0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Роман Л.Н.Толстого «Война и мир» - роман-эпопея: проблематика, образы, жанр</a:t>
            </a:r>
            <a:br>
              <a:rPr sz="3800"/>
            </a:b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	</a:t>
            </a: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	</a:t>
            </a: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	</a:t>
            </a: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	</a:t>
            </a:r>
            <a:r>
              <a:rPr b="0" lang="ru-RU" sz="2100" spc="-1" strike="noStrike">
                <a:solidFill>
                  <a:srgbClr val="006633"/>
                </a:solidFill>
                <a:latin typeface="Garamond"/>
              </a:rPr>
              <a:t>Все страсти, все моменты </a:t>
            </a:r>
            <a:r>
              <a:rPr b="0" lang="ru-RU" sz="2100" spc="-1" strike="noStrike">
                <a:solidFill>
                  <a:srgbClr val="006633"/>
                </a:solidFill>
                <a:latin typeface="Garamond"/>
              </a:rPr>
              <a:t>	</a:t>
            </a:r>
            <a:r>
              <a:rPr b="0" lang="ru-RU" sz="2100" spc="-1" strike="noStrike">
                <a:solidFill>
                  <a:srgbClr val="006633"/>
                </a:solidFill>
                <a:latin typeface="Garamond"/>
              </a:rPr>
              <a:t>	</a:t>
            </a:r>
            <a:r>
              <a:rPr b="0" lang="ru-RU" sz="2100" spc="-1" strike="noStrike">
                <a:solidFill>
                  <a:srgbClr val="006633"/>
                </a:solidFill>
                <a:latin typeface="Garamond"/>
              </a:rPr>
              <a:t>	</a:t>
            </a:r>
            <a:r>
              <a:rPr b="0" lang="ru-RU" sz="2100" spc="-1" strike="noStrike">
                <a:solidFill>
                  <a:srgbClr val="006633"/>
                </a:solidFill>
                <a:latin typeface="Garamond"/>
              </a:rPr>
              <a:t>	</a:t>
            </a:r>
            <a:r>
              <a:rPr b="0" lang="ru-RU" sz="2100" spc="-1" strike="noStrike">
                <a:solidFill>
                  <a:srgbClr val="006633"/>
                </a:solidFill>
                <a:latin typeface="Garamond"/>
              </a:rPr>
              <a:t>человеческой жизни, от крика </a:t>
            </a:r>
            <a:r>
              <a:rPr b="0" lang="ru-RU" sz="2100" spc="-1" strike="noStrike">
                <a:solidFill>
                  <a:srgbClr val="006633"/>
                </a:solidFill>
                <a:latin typeface="Garamond"/>
              </a:rPr>
              <a:t>	</a:t>
            </a:r>
            <a:r>
              <a:rPr b="0" lang="ru-RU" sz="2100" spc="-1" strike="noStrike">
                <a:solidFill>
                  <a:srgbClr val="006633"/>
                </a:solidFill>
                <a:latin typeface="Garamond"/>
              </a:rPr>
              <a:t>	</a:t>
            </a:r>
            <a:r>
              <a:rPr b="0" lang="ru-RU" sz="2100" spc="-1" strike="noStrike">
                <a:solidFill>
                  <a:srgbClr val="006633"/>
                </a:solidFill>
                <a:latin typeface="Garamond"/>
              </a:rPr>
              <a:t>	</a:t>
            </a:r>
            <a:r>
              <a:rPr b="0" lang="ru-RU" sz="2100" spc="-1" strike="noStrike">
                <a:solidFill>
                  <a:srgbClr val="006633"/>
                </a:solidFill>
                <a:latin typeface="Garamond"/>
              </a:rPr>
              <a:t>новорожденного ребёнка до последней </a:t>
            </a:r>
            <a:r>
              <a:rPr b="0" lang="ru-RU" sz="2100" spc="-1" strike="noStrike">
                <a:solidFill>
                  <a:srgbClr val="006633"/>
                </a:solidFill>
                <a:latin typeface="Garamond"/>
              </a:rPr>
              <a:t>	</a:t>
            </a:r>
            <a:r>
              <a:rPr b="0" lang="ru-RU" sz="2100" spc="-1" strike="noStrike">
                <a:solidFill>
                  <a:srgbClr val="006633"/>
                </a:solidFill>
                <a:latin typeface="Garamond"/>
              </a:rPr>
              <a:t>вспышки чувства </a:t>
            </a:r>
            <a:br>
              <a:rPr sz="2100"/>
            </a:br>
            <a:r>
              <a:rPr b="0" lang="ru-RU" sz="2100" spc="-1" strike="noStrike">
                <a:solidFill>
                  <a:srgbClr val="006633"/>
                </a:solidFill>
                <a:latin typeface="Garamond"/>
              </a:rPr>
              <a:t>умирающего старика, </a:t>
            </a:r>
            <a:br>
              <a:rPr sz="2100"/>
            </a:br>
            <a:r>
              <a:rPr b="0" lang="ru-RU" sz="2100" spc="-1" strike="noStrike">
                <a:solidFill>
                  <a:srgbClr val="006633"/>
                </a:solidFill>
                <a:latin typeface="Garamond"/>
              </a:rPr>
              <a:t>все горести и радости, доступные </a:t>
            </a:r>
            <a:br>
              <a:rPr sz="2100"/>
            </a:br>
            <a:r>
              <a:rPr b="0" lang="ru-RU" sz="2100" spc="-1" strike="noStrike">
                <a:solidFill>
                  <a:srgbClr val="006633"/>
                </a:solidFill>
                <a:latin typeface="Garamond"/>
              </a:rPr>
              <a:t>человеку,- всё есть в этой картине!</a:t>
            </a:r>
            <a:br>
              <a:rPr sz="2100"/>
            </a:br>
            <a:br>
              <a:rPr sz="2100"/>
            </a:br>
            <a:r>
              <a:rPr b="0" lang="ru-RU" sz="2100" spc="-1" strike="noStrike">
                <a:solidFill>
                  <a:srgbClr val="006633"/>
                </a:solidFill>
                <a:latin typeface="Garamond"/>
              </a:rPr>
              <a:t>Критик Н. Страхов.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50920" y="333360"/>
          <a:ext cx="8640720" cy="6191280"/>
        </p:xfrm>
        <a:graphic>
          <a:graphicData uri="http://schemas.openxmlformats.org/drawingml/2006/table">
            <a:tbl>
              <a:tblPr/>
              <a:tblGrid>
                <a:gridCol w="8640720"/>
              </a:tblGrid>
              <a:tr h="6191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            </a:t>
            </a:r>
            <a:r>
              <a:rPr b="0" lang="ru-RU" sz="3600" spc="-1" strike="noStrike">
                <a:solidFill>
                  <a:srgbClr val="006633"/>
                </a:solidFill>
                <a:latin typeface="Garamond"/>
              </a:rPr>
              <a:t>Л.Н.ТОЛСТОЙ «Война и мир»</a:t>
            </a:r>
            <a:br>
              <a:rPr sz="3600"/>
            </a:br>
            <a:r>
              <a:rPr b="0" lang="ru-RU" sz="3600" spc="-1" strike="noStrike">
                <a:solidFill>
                  <a:srgbClr val="006633"/>
                </a:solidFill>
                <a:latin typeface="Garamond"/>
              </a:rPr>
              <a:t>            </a:t>
            </a:r>
            <a:r>
              <a:rPr b="1" i="1" lang="ru-RU" sz="3600" spc="-1" strike="noStrike" u="sng">
                <a:solidFill>
                  <a:srgbClr val="006633"/>
                </a:solidFill>
                <a:uFillTx/>
                <a:latin typeface="Garamond"/>
              </a:rPr>
              <a:t>КУТУЗОВ И НАПОЛЕОН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95280" y="1484280"/>
          <a:ext cx="8569440" cy="487440"/>
        </p:xfrm>
        <a:graphic>
          <a:graphicData uri="http://schemas.openxmlformats.org/drawingml/2006/table">
            <a:tbl>
              <a:tblPr/>
              <a:tblGrid>
                <a:gridCol w="4105440"/>
                <a:gridCol w="4464000"/>
              </a:tblGrid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утузов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полеон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979640" y="1989000"/>
          <a:ext cx="5640480" cy="304920"/>
        </p:xfrm>
        <a:graphic>
          <a:graphicData uri="http://schemas.openxmlformats.org/drawingml/2006/table">
            <a:tbl>
              <a:tblPr/>
              <a:tblGrid>
                <a:gridCol w="56404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нешность, детали портре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395280" y="2276640"/>
          <a:ext cx="8569440" cy="1554120"/>
        </p:xfrm>
        <a:graphic>
          <a:graphicData uri="http://schemas.openxmlformats.org/drawingml/2006/table">
            <a:tbl>
              <a:tblPr/>
              <a:tblGrid>
                <a:gridCol w="4105440"/>
                <a:gridCol w="4464000"/>
              </a:tblGrid>
              <a:tr h="155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«тяжело ступая», «по пухлому, изуродованному раной лицу», «лицо его становилось всё светлее и светлее от старческой кроткой улыбки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Franklin Gothic Demi"/>
                        </a:rPr>
                        <a:t>«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безучастный, ограниченный и счастливый от несчастия других взгляд», «круглый живот»,»жирные ляжки коротких ног», «жёлтый, пухлый, тяжёлый, с мутными глазами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908000" y="3429000"/>
          <a:ext cx="5688360" cy="304920"/>
        </p:xfrm>
        <a:graphic>
          <a:graphicData uri="http://schemas.openxmlformats.org/drawingml/2006/table">
            <a:tbl>
              <a:tblPr/>
              <a:tblGrid>
                <a:gridCol w="568836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сс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539640" y="3716280"/>
          <a:ext cx="8425080" cy="822240"/>
        </p:xfrm>
        <a:graphic>
          <a:graphicData uri="http://schemas.openxmlformats.org/drawingml/2006/table">
            <a:tbl>
              <a:tblPr/>
              <a:tblGrid>
                <a:gridCol w="4032360"/>
                <a:gridCol w="439272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«Он был убеждён, что ему предназначено спасение России» (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III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-3-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«Париж был столицей мира, и французы предметом зависти всех наций» (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III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-2-38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2050920" y="4292640"/>
          <a:ext cx="5569200" cy="304920"/>
        </p:xfrm>
        <a:graphic>
          <a:graphicData uri="http://schemas.openxmlformats.org/drawingml/2006/table">
            <a:tbl>
              <a:tblPr/>
              <a:tblGrid>
                <a:gridCol w="55692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оль в истор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468360" y="4581360"/>
          <a:ext cx="8424720" cy="1603440"/>
        </p:xfrm>
        <a:graphic>
          <a:graphicData uri="http://schemas.openxmlformats.org/drawingml/2006/table">
            <a:tbl>
              <a:tblPr/>
              <a:tblGrid>
                <a:gridCol w="4032360"/>
                <a:gridCol w="4392360"/>
              </a:tblGrid>
              <a:tr h="160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«Не играл никакой роли»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«не делал никаких распоряжений, а только соглашался или не соглашался на то, что предлагали ему « (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III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-2-35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Роль «благодетеля мира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«Наполеон делал свои распоряжения, которые или уже были исполнены прежде, чем он делал их, или же не могли быть и не были исполнены» (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III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-2-3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2" name=""/>
          <p:cNvGraphicFramePr/>
          <p:nvPr/>
        </p:nvGraphicFramePr>
        <p:xfrm>
          <a:off x="1523880" y="333360"/>
          <a:ext cx="6096240" cy="43164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нтральные сцены с участием этих герое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395280" y="765000"/>
          <a:ext cx="8424720" cy="6089760"/>
        </p:xfrm>
        <a:graphic>
          <a:graphicData uri="http://schemas.openxmlformats.org/drawingml/2006/table">
            <a:tbl>
              <a:tblPr/>
              <a:tblGrid>
                <a:gridCol w="4213080"/>
                <a:gridCol w="4211640"/>
              </a:tblGrid>
              <a:tr h="68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Смотр войск в Брауна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 </a:t>
                      </a: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(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I</a:t>
                      </a: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 – 2 - 2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Военный совет перед Аустерлицем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 </a:t>
                      </a: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(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I</a:t>
                      </a: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 – 3 - 12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Аустерлицкое сраж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(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I</a:t>
                      </a: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 – 3 - 15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Бородинское сраж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(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III</a:t>
                      </a: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 – 2 - 16,25,35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Совет в Филях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(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III</a:t>
                      </a: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 – 3 - 3,4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Главы о Кутузов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(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IV</a:t>
                      </a: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 – 4 -4,5,6,1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Аустерлицкое сражени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(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I</a:t>
                      </a: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 – 3 - 19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Тильзитский мир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(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II</a:t>
                      </a: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 – 2  - 2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Переправа через Неман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(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III</a:t>
                      </a: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  - 1  -2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Бородинское сражение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 </a:t>
                      </a: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(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III</a:t>
                      </a: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2  - 26,29,33,38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На Поклонной гор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(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III</a:t>
                      </a: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 – 3 - 19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В захваченной Москве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(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IV</a:t>
                      </a: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 – 2 – 8,9,10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Бегство Наполеона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(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IV</a:t>
                      </a: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 – 3 – 16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80"/>
          <p:cNvSpPr/>
          <p:nvPr/>
        </p:nvSpPr>
        <p:spPr>
          <a:xfrm>
            <a:off x="395280" y="189000"/>
            <a:ext cx="8497800" cy="59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33"/>
                </a:solidFill>
                <a:latin typeface="Arial"/>
              </a:rPr>
              <a:t>                                     </a:t>
            </a:r>
            <a:r>
              <a:rPr b="1" i="1" lang="ru-RU" sz="2400" spc="-1" strike="noStrike" u="sng">
                <a:solidFill>
                  <a:srgbClr val="006633"/>
                </a:solidFill>
                <a:uFillTx/>
                <a:latin typeface="Arial"/>
              </a:rPr>
              <a:t>ИСТОРИЯ СОЗДАНИЯ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33"/>
                </a:solidFill>
                <a:latin typeface="Arial"/>
              </a:rPr>
              <a:t>                                              </a:t>
            </a:r>
            <a:r>
              <a:rPr b="0" lang="ru-RU" sz="1800" spc="-1" strike="noStrike">
                <a:solidFill>
                  <a:srgbClr val="006633"/>
                </a:solidFill>
                <a:latin typeface="Arial"/>
              </a:rPr>
              <a:t>1863-186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33"/>
                </a:solidFill>
                <a:latin typeface="Arial"/>
              </a:rPr>
              <a:t>                  </a:t>
            </a:r>
            <a:r>
              <a:rPr b="0" lang="ru-RU" sz="1800" spc="-1" strike="noStrike">
                <a:solidFill>
                  <a:srgbClr val="006633"/>
                </a:solidFill>
                <a:latin typeface="Arial"/>
              </a:rPr>
              <a:t>1857                    </a:t>
            </a:r>
            <a:r>
              <a:rPr b="0" lang="ru-RU" sz="1600" spc="-1" strike="noStrike">
                <a:solidFill>
                  <a:srgbClr val="006633"/>
                </a:solidFill>
                <a:latin typeface="Arial"/>
              </a:rPr>
              <a:t>Встреча с Пущиным и  Волконски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6633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33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6633"/>
                </a:solidFill>
                <a:latin typeface="Arial"/>
              </a:rPr>
              <a:t>Роман «Война и мир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33"/>
                </a:solidFill>
                <a:latin typeface="Arial"/>
              </a:rPr>
              <a:t>                                                   </a:t>
            </a:r>
            <a:r>
              <a:rPr b="0" lang="ru-RU" sz="1800" spc="-1" strike="noStrike">
                <a:solidFill>
                  <a:srgbClr val="006633"/>
                </a:solidFill>
                <a:latin typeface="Arial"/>
              </a:rPr>
              <a:t>1825                    </a:t>
            </a:r>
            <a:r>
              <a:rPr b="0" lang="ru-RU" sz="1600" spc="-1" strike="noStrike">
                <a:solidFill>
                  <a:srgbClr val="006633"/>
                </a:solidFill>
                <a:latin typeface="Arial"/>
              </a:rPr>
              <a:t>Восстание на Сенатской площад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33"/>
                </a:solidFill>
                <a:latin typeface="Arial"/>
              </a:rPr>
              <a:t>                                                                                         </a:t>
            </a:r>
            <a:r>
              <a:rPr b="0" lang="ru-RU" sz="1600" spc="-1" strike="noStrike">
                <a:solidFill>
                  <a:srgbClr val="006633"/>
                </a:solidFill>
                <a:latin typeface="Arial"/>
              </a:rPr>
              <a:t>Повесть «Декабристы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33"/>
                </a:solidFill>
                <a:latin typeface="Arial"/>
              </a:rPr>
              <a:t>                                                         </a:t>
            </a:r>
            <a:r>
              <a:rPr b="0" lang="ru-RU" sz="1600" spc="-1" strike="noStrike">
                <a:solidFill>
                  <a:srgbClr val="006633"/>
                </a:solidFill>
                <a:latin typeface="Arial"/>
              </a:rPr>
              <a:t>1812                         Отечественная вой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33"/>
                </a:solidFill>
                <a:latin typeface="Arial"/>
              </a:rPr>
              <a:t>                                                        </a:t>
            </a:r>
            <a:r>
              <a:rPr b="0" lang="ru-RU" sz="1600" spc="-1" strike="noStrike">
                <a:solidFill>
                  <a:srgbClr val="006633"/>
                </a:solidFill>
                <a:latin typeface="Arial"/>
              </a:rPr>
              <a:t>1805                                Война с Наполеоном в союзе с Австри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81"/>
          <p:cNvSpPr/>
          <p:nvPr/>
        </p:nvSpPr>
        <p:spPr>
          <a:xfrm flipV="1">
            <a:off x="3995640" y="1557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82"/>
          <p:cNvSpPr/>
          <p:nvPr/>
        </p:nvSpPr>
        <p:spPr>
          <a:xfrm>
            <a:off x="4211640" y="227664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83"/>
          <p:cNvSpPr/>
          <p:nvPr/>
        </p:nvSpPr>
        <p:spPr>
          <a:xfrm>
            <a:off x="3995640" y="2421000"/>
            <a:ext cx="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84"/>
          <p:cNvSpPr/>
          <p:nvPr/>
        </p:nvSpPr>
        <p:spPr>
          <a:xfrm>
            <a:off x="4356000" y="357336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85"/>
          <p:cNvSpPr/>
          <p:nvPr/>
        </p:nvSpPr>
        <p:spPr>
          <a:xfrm>
            <a:off x="4067280" y="3716280"/>
            <a:ext cx="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87"/>
          <p:cNvSpPr/>
          <p:nvPr/>
        </p:nvSpPr>
        <p:spPr>
          <a:xfrm>
            <a:off x="4427640" y="4581360"/>
            <a:ext cx="86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88"/>
          <p:cNvSpPr/>
          <p:nvPr/>
        </p:nvSpPr>
        <p:spPr>
          <a:xfrm>
            <a:off x="4067280" y="4797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89"/>
          <p:cNvSpPr/>
          <p:nvPr/>
        </p:nvSpPr>
        <p:spPr>
          <a:xfrm>
            <a:off x="4427640" y="551664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79280" y="189000"/>
          <a:ext cx="8785440" cy="6264360"/>
        </p:xfrm>
        <a:graphic>
          <a:graphicData uri="http://schemas.openxmlformats.org/drawingml/2006/table">
            <a:tbl>
              <a:tblPr/>
              <a:tblGrid>
                <a:gridCol w="8785440"/>
              </a:tblGrid>
              <a:tr h="626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"/>
          <p:cNvSpPr/>
          <p:nvPr/>
        </p:nvSpPr>
        <p:spPr>
          <a:xfrm>
            <a:off x="250920" y="404640"/>
            <a:ext cx="8569080" cy="61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33"/>
                </a:solidFill>
                <a:latin typeface="Arial"/>
              </a:rPr>
              <a:t>                         </a:t>
            </a:r>
            <a:r>
              <a:rPr b="1" i="1" lang="ru-RU" sz="2000" spc="-1" strike="noStrike">
                <a:solidFill>
                  <a:srgbClr val="006633"/>
                </a:solidFill>
                <a:latin typeface="Arial"/>
              </a:rPr>
              <a:t>«Я старался писать историю народ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33"/>
                </a:solidFill>
                <a:latin typeface="Arial"/>
              </a:rPr>
              <a:t>1857 г. – после встречи с декабристами Л.Н.Толстой задумал роман об одном из ни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33"/>
                </a:solidFill>
                <a:latin typeface="Arial"/>
              </a:rPr>
              <a:t>1825 г. – «Невольно от настоящего я перешёл к 1825 году, эпохе заблуждений и несчастий моего героя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33"/>
                </a:solidFill>
                <a:latin typeface="Arial"/>
              </a:rPr>
              <a:t>1812 г. – «Чтобы понять моего героя, мне нужно перенестись к его молодости, которая совпала со славной для России эпохой 1812 г.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33"/>
                </a:solidFill>
                <a:latin typeface="Arial"/>
              </a:rPr>
              <a:t>1805 г. – «Мне совестно было писать о нашем торжестве, не описав неудач и нашего срам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6633"/>
                </a:solidFill>
                <a:uFillTx/>
                <a:latin typeface="Arial"/>
              </a:rPr>
              <a:t>Вывод</a:t>
            </a:r>
            <a:r>
              <a:rPr b="0" lang="ru-RU" sz="1800" spc="-1" strike="noStrike">
                <a:solidFill>
                  <a:srgbClr val="006633"/>
                </a:solidFill>
                <a:latin typeface="Arial"/>
              </a:rPr>
              <a:t>: накопился огромный материал об исторических событиях 1805 – 1856 г.г. и замысел романа изменился. В центре оказались события 1812г., и героем романа стал русский нар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79280" y="189000"/>
          <a:ext cx="8856720" cy="6335640"/>
        </p:xfrm>
        <a:graphic>
          <a:graphicData uri="http://schemas.openxmlformats.org/drawingml/2006/table">
            <a:tbl>
              <a:tblPr/>
              <a:tblGrid>
                <a:gridCol w="8856720"/>
              </a:tblGrid>
              <a:tr h="633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«Война и мир» (1805 – 1820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4" marL="161388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том   18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1388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1388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том   1806 – 18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1388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1388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II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м   18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1388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1388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том   1812 – 18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1388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пилог   18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324000" y="260280"/>
          <a:ext cx="8640720" cy="6337440"/>
        </p:xfrm>
        <a:graphic>
          <a:graphicData uri="http://schemas.openxmlformats.org/drawingml/2006/table">
            <a:tbl>
              <a:tblPr/>
              <a:tblGrid>
                <a:gridCol w="8640720"/>
              </a:tblGrid>
              <a:tr h="633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                                                                                                              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907920"/>
            <a:ext cx="4038480" cy="55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ru-RU" sz="1500" spc="-1" strike="noStrike" u="sng">
                <a:solidFill>
                  <a:srgbClr val="000000"/>
                </a:solidFill>
                <a:uFillTx/>
                <a:latin typeface="Times New Roman"/>
              </a:rPr>
              <a:t>Первый – второй том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Русско-австро-французска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война 1805 г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ойна между коалицией  европейских держав (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еликобритания, Россия, Австрия, Швеция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) и наполеоновской Францией. Союзники ставили своей целью изгнать французские войска с захваченных ими территорий и восстановить дореволюционные порядки во Франции. Главная роль в войне возлагалась на Австрию и Россию. Наполеон, получив известие о том, что австрийские войска 27 августа вступили в Баварию, искусным маневром своих главных сил окружил армию Макка и принудил её к капитуляции. Русские войска, прибывшие 29 сентября в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Браунау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, оказались в тяжёлом положении и были вынуждены начать отход вдоль правого берега Дуная. Наполеон попытался окружить русские войска в районе Санкт-Пельтена. Но Кутузов, разгадав замысел противника, переправился через Дунай раньше подхода французов и нанёс сокрушительный удар. 4 ноября отряд Багратиона в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Шенграбенском бою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отразил атаки 30-тысячного авангарда французских войск и обеспечил соединение главных сил с австрийскими войсками. 20 ноября в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Аустерлицком сражении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союзные войска были разбиты. Австрия вышла из войны и подписала с Францией сепаратный мир. Русские войска были отведены в Россию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43280" y="620640"/>
            <a:ext cx="404352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Третий – четвёртый том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Отечественная война 1812 г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свободительная война России против наполеоновской агрессии. Вторжение войск наполеона было вызвано обострением русско-французских экономических и политических противоречий, фактическим отказом России от Континентальной блокады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Основные события 1812 год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12 июня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– переход французской армии через Неман (силы сторон к началу Отечественной войны: французы - около 610 тыс. человек; русские - около 240 тыс. человек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4-6 августа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– Смоленское сражение, неудачная попытка наполеона разгромить основные силы русских войск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8 августа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– назначение главнокомандующим М.И.Кутузов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28 августа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– Бородинское сражение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1 сентября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– военный совет в Филях, решение Кутузова оставить Москву; вступление французских войск в Москву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2-6 сентября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– пожар Москвы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ентябрь-октябрь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– Кутузов проводит Тарутинский марш-маневр, вынуждает французов уйти из Москвы и отступать по Старой Смоленской дороге; развёртывается партизанская войн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14-16 ноября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– сражение при Березине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Ноябрь-декабрь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– гибель французской арми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14 декабря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– изгнание остатков «великой армии» из Росси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1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6633"/>
                </a:solidFill>
                <a:latin typeface="Garamond"/>
              </a:rPr>
              <a:t>                      </a:t>
            </a:r>
            <a:r>
              <a:rPr b="0" lang="ru-RU" sz="2100" spc="-1" strike="noStrike">
                <a:solidFill>
                  <a:srgbClr val="000000"/>
                </a:solidFill>
                <a:latin typeface="Garamond"/>
              </a:rPr>
              <a:t>Л. Н. ТОЛСТОЙ «Война и мир»</a:t>
            </a:r>
            <a:br>
              <a:rPr sz="2100"/>
            </a:br>
            <a:r>
              <a:rPr b="0" lang="ru-RU" sz="2100" spc="-1" strike="noStrike">
                <a:solidFill>
                  <a:srgbClr val="000000"/>
                </a:solidFill>
                <a:latin typeface="Garamond"/>
              </a:rPr>
              <a:t>   </a:t>
            </a:r>
            <a:r>
              <a:rPr b="1" i="1" lang="ru-RU" sz="2100" spc="-1" strike="noStrike">
                <a:solidFill>
                  <a:srgbClr val="000000"/>
                </a:solidFill>
                <a:latin typeface="Garamond"/>
              </a:rPr>
              <a:t>Историческая основа романа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72000" y="1484280"/>
          <a:ext cx="4392720" cy="3745080"/>
        </p:xfrm>
        <a:graphic>
          <a:graphicData uri="http://schemas.openxmlformats.org/drawingml/2006/table">
            <a:tbl>
              <a:tblPr/>
              <a:tblGrid>
                <a:gridCol w="4392720"/>
              </a:tblGrid>
              <a:tr h="374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324000" y="1628640"/>
          <a:ext cx="4105080" cy="4248360"/>
        </p:xfrm>
        <a:graphic>
          <a:graphicData uri="http://schemas.openxmlformats.org/drawingml/2006/table">
            <a:tbl>
              <a:tblPr/>
              <a:tblGrid>
                <a:gridCol w="4105080"/>
              </a:tblGrid>
              <a:tr h="424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Жанр роман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«Что такое «Война и мир»? Это не роман, ещё менее поэма, ещё менее историческая  хроника. «Война и мир» есть то, что хотел и мог выразить автор в той форме, в которой оно выразилось». (Л.Н.Толстой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«..Это не роман вообще, не исторический роман, даже не историческая хроника, это хроника семейная…это быль, и быль семейная» (Н.Страхов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«Оригинальное и многостороннее произведение, соединяющее в себе эпопею, исторический роман и очерк нравов» (И.С.Тургенев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250920" y="260280"/>
          <a:ext cx="8713800" cy="6408720"/>
        </p:xfrm>
        <a:graphic>
          <a:graphicData uri="http://schemas.openxmlformats.org/drawingml/2006/table">
            <a:tbl>
              <a:tblPr/>
              <a:tblGrid>
                <a:gridCol w="8713800"/>
              </a:tblGrid>
              <a:tr h="64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5"/>
          <p:cNvSpPr/>
          <p:nvPr/>
        </p:nvSpPr>
        <p:spPr>
          <a:xfrm>
            <a:off x="755640" y="404640"/>
            <a:ext cx="777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250920" y="307440"/>
            <a:ext cx="8642160" cy="57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Роман-эпопе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«Романные» признаки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развитие сюжета, в котором есть завязка, развитие действия, кульминация, развязка – для всего повествования и для каждой сюжетной линии в отдельности; взаимодействие среды с характером героя, развитие этого характе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ризнаки эпопе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тема(эпоха больших исторических событий); идейное содержание – «моральное единение повествователя с народом в его героической деятельности, патриотизм… прославление жизни, оптимизм; сложность композиции; стремление автора к национально-историческому обобщению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которые литературоведы определяют «Войну и мир» как философско-исторический роман. Но надо помнить, что история и философия в романе – только составные части. Роман создавался не для воссоздания истории, а как книга о жизни всего народа, нации, создавалась художественная правда. Следовательно, это роман-эпопе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79280" y="260280"/>
          <a:ext cx="8785440" cy="6121440"/>
        </p:xfrm>
        <a:graphic>
          <a:graphicData uri="http://schemas.openxmlformats.org/drawingml/2006/table">
            <a:tbl>
              <a:tblPr/>
              <a:tblGrid>
                <a:gridCol w="8785440"/>
              </a:tblGrid>
              <a:tr h="612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Л.Н.ТОЛСТОЙ «Война и мир»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3848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 u="sng">
                <a:solidFill>
                  <a:srgbClr val="000000"/>
                </a:solidFill>
                <a:uFillTx/>
                <a:latin typeface="Arial"/>
              </a:rPr>
              <a:t>«Любимые» герои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Даны в динамике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Некрасивы внешне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Духовно богаты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Совершают ошибки (духовные поиски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Служба Отечеству, общему делу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Находятся в периоде «детство»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Любят детей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Живут не в Петербурге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Есть семья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Счастливы в финале повествования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емьи Ростовых, Болконских, Безуховых;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Кутузов, Тимохин, Тушин, Давыдов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 u="sng">
                <a:solidFill>
                  <a:srgbClr val="000000"/>
                </a:solidFill>
                <a:uFillTx/>
                <a:latin typeface="Arial"/>
              </a:rPr>
              <a:t>«Нелюбимые» геро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Даны в статистике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Красивы внешне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Отсутствие духовност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Уверены в себе (не совершают ошибок) – нет духовной работы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Служба себе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Находятся в периоде «отрочества»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Не любят детей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Живут в Петербурге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Нет семь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Отсутствуют в эпилоге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емьи Курагиных, Карагиных, Друбецких,Бергеров; Шерер,Наполеон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250920" y="981000"/>
          <a:ext cx="4249800" cy="5327640"/>
        </p:xfrm>
        <a:graphic>
          <a:graphicData uri="http://schemas.openxmlformats.org/drawingml/2006/table">
            <a:tbl>
              <a:tblPr/>
              <a:tblGrid>
                <a:gridCol w="4249800"/>
              </a:tblGrid>
              <a:tr h="532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4572000" y="981000"/>
          <a:ext cx="4392720" cy="5327640"/>
        </p:xfrm>
        <a:graphic>
          <a:graphicData uri="http://schemas.openxmlformats.org/drawingml/2006/table">
            <a:tbl>
              <a:tblPr/>
              <a:tblGrid>
                <a:gridCol w="4392720"/>
              </a:tblGrid>
              <a:tr h="5327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18440" cy="156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Л.Н.ТОЛСТОЙ «ВОЙНА И МИР»</a:t>
            </a:r>
            <a:br>
              <a:rPr sz="3800"/>
            </a:br>
            <a:r>
              <a:rPr b="0" lang="ru-RU" sz="2400" spc="-1" strike="noStrike">
                <a:solidFill>
                  <a:srgbClr val="006633"/>
                </a:solidFill>
                <a:latin typeface="Franklin Gothic Demi"/>
              </a:rPr>
              <a:t>Пути исканий смысла жизни Пьером и князем Андреем</a:t>
            </a:r>
            <a:br>
              <a:rPr sz="24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ля того, чтобы постичь смысл жизни, необходимо пройти через множество разочарований, кризисов, потерь и обретений</a:t>
            </a:r>
            <a:r>
              <a:rPr b="0" lang="ru-RU" sz="2000" spc="-1" strike="noStrike">
                <a:solidFill>
                  <a:srgbClr val="006633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42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ЬЕР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179280" y="1916280"/>
          <a:ext cx="4280040" cy="4681440"/>
        </p:xfrm>
        <a:graphic>
          <a:graphicData uri="http://schemas.openxmlformats.org/drawingml/2006/table">
            <a:tbl>
              <a:tblPr/>
              <a:tblGrid>
                <a:gridCol w="216000"/>
                <a:gridCol w="4064040"/>
              </a:tblGrid>
              <a:tr h="55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ЬЕР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412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мерть отца, женитьба на Элен и дуэль с Долоховым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влечение масонством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ор с Андреем на пароме в Богучарово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астие в судьбе Наташи и встреча с кометой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езд на Бородинское поле и жизнь на батарее Раевского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треча с Андреем в ночь перед сражением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бывание в захваченной французами Москве, плен, знакомство с Платоном Каратаевым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енитьба на Наташе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астие в деятельности тайных общест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4643280" y="1916280"/>
          <a:ext cx="4265640" cy="4681440"/>
        </p:xfrm>
        <a:graphic>
          <a:graphicData uri="http://schemas.openxmlformats.org/drawingml/2006/table">
            <a:tbl>
              <a:tblPr/>
              <a:tblGrid>
                <a:gridCol w="216000"/>
                <a:gridCol w="4049640"/>
              </a:tblGrid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нязь АНДРЕЙ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406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мейная жизнь с Лизой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ход на войну, мечта о славе Наполеона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нение под Аустерлицем и встреча с Наполеоном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ождение сына и смерть жены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единённая жизнь в деревне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ор с Пьером на пароме в Богучарово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ужба у Сперанского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юбовь к Наташе и разочарование в ней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родино и встреча с Пьером в ночь перед сражением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нение, встреча с Анатолем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треча с Наташей и княжной Марьей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мерть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755640" y="1268280"/>
          <a:ext cx="7561440" cy="648000"/>
        </p:xfrm>
        <a:graphic>
          <a:graphicData uri="http://schemas.openxmlformats.org/drawingml/2006/table">
            <a:tbl>
              <a:tblPr/>
              <a:tblGrid>
                <a:gridCol w="7561440"/>
              </a:tblGrid>
              <a:tr h="64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ля того, чтобы постичь смысл жизни, необходимо пройти через множество разочарований, кризисов, потерь и обрете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5T16:40:40Z</dcterms:created>
  <dc:creator>ТАНЯ</dc:creator>
  <dc:description/>
  <dc:language>en-US</dc:language>
  <cp:lastModifiedBy>Сухарь</cp:lastModifiedBy>
  <dcterms:modified xsi:type="dcterms:W3CDTF">2013-01-03T02:16:41Z</dcterms:modified>
  <cp:revision>7</cp:revision>
  <dc:subject/>
  <dc:title>                      Л. Н. ТОЛСТОЙ «Война и мир»                    Историческая основа романа</dc:title>
</cp:coreProperties>
</file>