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chimes.wav" ContentType="audio/x-wav"/>
  <Override PartName="/ppt/media/image28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11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33.png" ContentType="image/png"/>
  <Override PartName="/ppt/media/image14.jpeg" ContentType="image/jpeg"/>
  <Override PartName="/ppt/media/image13.png" ContentType="image/png"/>
  <Override PartName="/ppt/media/image32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42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43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6.png" ContentType="image/png"/>
  <Override PartName="/ppt/media/image4.png" ContentType="image/png"/>
  <Override PartName="/ppt/media/image1.jpeg" ContentType="image/jpeg"/>
  <Override PartName="/ppt/media/image10.png" ContentType="image/png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9998-47D6-4299-88E4-3F643F2C44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953E-EFBB-429A-80A9-6B97596DE2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AC23-EDDA-4840-BEE4-11EA6410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C83A-ED48-4E86-82C3-41719646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8BA6-EDAE-435F-AC3E-3AA80D0E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AA12-4694-4393-A9BE-ADC049B1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0C17-2F3B-45A8-8376-E51BD96D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F908-6107-42E4-8281-A7895F82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64DB-7647-47FE-882B-9DFB8E7C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7F81-D6C6-4953-BFF9-E25C8AA3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1F3D-57FB-4B04-9791-DCD69005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230D-CBC0-4DB0-90C9-D7369F42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49B6-2842-42CD-A8DB-B3E439FA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124D-353D-469B-A3F9-E9A3C99B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4A66-E052-4139-959B-83828CB7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E24B-7A53-422D-B65F-96C7563E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B90A-A8C5-4789-99BB-18493F8A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A96F-6CCD-4E47-979B-CE137219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1501-D729-4C4E-A0B7-0960C6FF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10D7-9A74-483A-925C-35121CB2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5691-0EA4-4F4B-BCBA-9C1E02C0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859E-6AF0-498D-9730-CAA58828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8DDE-21BB-4398-A826-D570D22D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E87A-FD0C-4DD5-ABFA-A8A78C1B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C6AF-22E0-4101-92E3-DC4DF7FA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D4BC-B5A5-4092-8741-E0149E6A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01B1-7390-441F-AC00-683139639D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8" descr="cfbc80d222dc.png"/>
          <p:cNvPicPr/>
          <p:nvPr/>
        </p:nvPicPr>
        <p:blipFill>
          <a:blip r:embed="rId3"/>
          <a:stretch/>
        </p:blipFill>
        <p:spPr>
          <a:xfrm>
            <a:off x="5210280" y="3213000"/>
            <a:ext cx="3933720" cy="3932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6142-5FCB-4068-8C57-E2308038C1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Monotype Corsiva"/>
              </a:rPr>
              <a:t>Кто возьмет миллион?</a:t>
            </a:r>
            <a:br>
              <a:rPr sz="6600"/>
            </a:br>
            <a:r>
              <a:rPr b="1" lang="en-US" sz="6600" spc="-1" strike="noStrike">
                <a:solidFill>
                  <a:srgbClr val="0000ff"/>
                </a:solidFill>
                <a:latin typeface="Monotype Corsiva"/>
              </a:rPr>
              <a:t>«Что за прелесть эти сказки…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5640" y="4842000"/>
            <a:ext cx="4464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автор: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симова А.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читель  начальных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ОШ №18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г. Павлод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5-конечная звезда 3"/>
          <p:cNvGrpSpPr/>
          <p:nvPr/>
        </p:nvGrpSpPr>
        <p:grpSpPr>
          <a:xfrm>
            <a:off x="622440" y="585720"/>
            <a:ext cx="693720" cy="682560"/>
            <a:chOff x="622440" y="585720"/>
            <a:chExt cx="693720" cy="682560"/>
          </a:xfrm>
        </p:grpSpPr>
        <p:pic>
          <p:nvPicPr>
            <p:cNvPr id="93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622440" y="585720"/>
              <a:ext cx="6937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61840" y="841320"/>
              <a:ext cx="219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5-конечная звезда 4"/>
          <p:cNvGrpSpPr/>
          <p:nvPr/>
        </p:nvGrpSpPr>
        <p:grpSpPr>
          <a:xfrm>
            <a:off x="334800" y="2743200"/>
            <a:ext cx="897120" cy="822240"/>
            <a:chOff x="334800" y="2743200"/>
            <a:chExt cx="897120" cy="822240"/>
          </a:xfrm>
        </p:grpSpPr>
        <p:pic>
          <p:nvPicPr>
            <p:cNvPr id="96" name="5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334800" y="2743200"/>
              <a:ext cx="8971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 rot="10800000">
              <a:off x="637920" y="2949480"/>
              <a:ext cx="298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5-конечная звезда 5"/>
          <p:cNvGrpSpPr/>
          <p:nvPr/>
        </p:nvGrpSpPr>
        <p:grpSpPr>
          <a:xfrm>
            <a:off x="4005360" y="4114800"/>
            <a:ext cx="695160" cy="682560"/>
            <a:chOff x="4005360" y="4114800"/>
            <a:chExt cx="695160" cy="682560"/>
          </a:xfrm>
        </p:grpSpPr>
        <p:pic>
          <p:nvPicPr>
            <p:cNvPr id="99" name="5-конечная звезда 5" descr=""/>
            <p:cNvPicPr/>
            <p:nvPr/>
          </p:nvPicPr>
          <p:blipFill>
            <a:blip r:embed="rId4"/>
            <a:stretch/>
          </p:blipFill>
          <p:spPr>
            <a:xfrm>
              <a:off x="4005360" y="4114800"/>
              <a:ext cx="6951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246560" y="4368960"/>
              <a:ext cx="2192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5-конечная звезда 6"/>
          <p:cNvGrpSpPr/>
          <p:nvPr/>
        </p:nvGrpSpPr>
        <p:grpSpPr>
          <a:xfrm>
            <a:off x="7534440" y="585720"/>
            <a:ext cx="695160" cy="682560"/>
            <a:chOff x="7534440" y="585720"/>
            <a:chExt cx="695160" cy="682560"/>
          </a:xfrm>
        </p:grpSpPr>
        <p:pic>
          <p:nvPicPr>
            <p:cNvPr id="102" name="5-конечная звезда 6" descr=""/>
            <p:cNvPicPr/>
            <p:nvPr/>
          </p:nvPicPr>
          <p:blipFill>
            <a:blip r:embed="rId5"/>
            <a:stretch/>
          </p:blipFill>
          <p:spPr>
            <a:xfrm>
              <a:off x="7534440" y="585720"/>
              <a:ext cx="6951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773840" y="841320"/>
              <a:ext cx="2206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5-конечная звезда 7"/>
          <p:cNvGrpSpPr/>
          <p:nvPr/>
        </p:nvGrpSpPr>
        <p:grpSpPr>
          <a:xfrm>
            <a:off x="4943520" y="6248520"/>
            <a:ext cx="689040" cy="682560"/>
            <a:chOff x="4943520" y="6248520"/>
            <a:chExt cx="689040" cy="682560"/>
          </a:xfrm>
        </p:grpSpPr>
        <p:pic>
          <p:nvPicPr>
            <p:cNvPr id="105" name="5-конечная звезда 7" descr=""/>
            <p:cNvPicPr/>
            <p:nvPr/>
          </p:nvPicPr>
          <p:blipFill>
            <a:blip r:embed="rId6"/>
            <a:stretch/>
          </p:blipFill>
          <p:spPr>
            <a:xfrm>
              <a:off x="4943520" y="6248520"/>
              <a:ext cx="6890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5181480" y="6502320"/>
              <a:ext cx="2206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5-конечная звезда 8"/>
          <p:cNvGrpSpPr/>
          <p:nvPr/>
        </p:nvGrpSpPr>
        <p:grpSpPr>
          <a:xfrm>
            <a:off x="7607160" y="3608280"/>
            <a:ext cx="689040" cy="682560"/>
            <a:chOff x="7607160" y="3608280"/>
            <a:chExt cx="689040" cy="682560"/>
          </a:xfrm>
        </p:grpSpPr>
        <p:pic>
          <p:nvPicPr>
            <p:cNvPr id="108" name="5-конечная звезда 8" descr=""/>
            <p:cNvPicPr/>
            <p:nvPr/>
          </p:nvPicPr>
          <p:blipFill>
            <a:blip r:embed="rId7"/>
            <a:stretch/>
          </p:blipFill>
          <p:spPr>
            <a:xfrm>
              <a:off x="7607160" y="3608280"/>
              <a:ext cx="6890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846920" y="3865680"/>
              <a:ext cx="21924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5-конечная звезда 9"/>
          <p:cNvGrpSpPr/>
          <p:nvPr/>
        </p:nvGrpSpPr>
        <p:grpSpPr>
          <a:xfrm>
            <a:off x="3718080" y="225360"/>
            <a:ext cx="834840" cy="755640"/>
            <a:chOff x="3718080" y="225360"/>
            <a:chExt cx="834840" cy="755640"/>
          </a:xfrm>
        </p:grpSpPr>
        <p:pic>
          <p:nvPicPr>
            <p:cNvPr id="111" name="5-конечная звезда 9" descr=""/>
            <p:cNvPicPr/>
            <p:nvPr/>
          </p:nvPicPr>
          <p:blipFill>
            <a:blip r:embed="rId8"/>
            <a:stretch/>
          </p:blipFill>
          <p:spPr>
            <a:xfrm>
              <a:off x="3718080" y="225360"/>
              <a:ext cx="8348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002120" y="507960"/>
              <a:ext cx="2746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475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Его пытались съесть пятеро, а удалось шестому. Кто он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5666760" y="3645000"/>
            <a:ext cx="12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Зая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5401800" y="1844640"/>
            <a:ext cx="197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Колоб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5623560" y="443700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Бурати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5480280" y="2781360"/>
            <a:ext cx="17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Солн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7" descr="x_208d9eae.jpg"/>
          <p:cNvPicPr/>
          <p:nvPr/>
        </p:nvPicPr>
        <p:blipFill>
          <a:blip r:embed="rId2"/>
          <a:stretch/>
        </p:blipFill>
        <p:spPr>
          <a:xfrm>
            <a:off x="395280" y="1628640"/>
            <a:ext cx="44640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Кто ездил на сером волк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66600" y="1916280"/>
            <a:ext cx="431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Иванушка-дурач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345240" y="2852640"/>
            <a:ext cx="32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Иван-цар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896040" y="3860640"/>
            <a:ext cx="14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Ем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-206640" y="4797360"/>
            <a:ext cx="60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Лягушка-путешествен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Рисунок 7" descr="van_volk8.jpg"/>
          <p:cNvPicPr/>
          <p:nvPr/>
        </p:nvPicPr>
        <p:blipFill>
          <a:blip r:embed="rId2"/>
          <a:stretch/>
        </p:blipFill>
        <p:spPr>
          <a:xfrm>
            <a:off x="4172040" y="1125360"/>
            <a:ext cx="466092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62028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Предмет, благодаря которому царевич нашёл себе жен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519480" y="2349360"/>
            <a:ext cx="22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Перча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618120" y="3429000"/>
            <a:ext cx="22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Туфель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725040" y="450864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Стр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817920" y="5516640"/>
            <a:ext cx="17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Плат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7" descr="1287797f915c.jpg"/>
          <p:cNvPicPr/>
          <p:nvPr/>
        </p:nvPicPr>
        <p:blipFill>
          <a:blip r:embed="rId2"/>
          <a:stretch/>
        </p:blipFill>
        <p:spPr>
          <a:xfrm>
            <a:off x="3492360" y="1844640"/>
            <a:ext cx="543564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95280" y="476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Сказочный герой, смерть которого в яйц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100800" y="1844640"/>
            <a:ext cx="34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Змей-Горыны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456480" y="2852640"/>
            <a:ext cx="20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Баба Я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510840" y="3860640"/>
            <a:ext cx="232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Барма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756360" y="4797360"/>
            <a:ext cx="16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Кощ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Рисунок 7" descr="1288902474_21.jpg"/>
          <p:cNvPicPr/>
          <p:nvPr/>
        </p:nvPicPr>
        <p:blipFill>
          <a:blip r:embed="rId2"/>
          <a:stretch/>
        </p:blipFill>
        <p:spPr>
          <a:xfrm>
            <a:off x="4356000" y="1239840"/>
            <a:ext cx="451332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Заголовок 1" descr=""/>
          <p:cNvPicPr/>
          <p:nvPr/>
        </p:nvPicPr>
        <p:blipFill>
          <a:blip r:embed="rId2"/>
          <a:stretch/>
        </p:blipFill>
        <p:spPr>
          <a:xfrm>
            <a:off x="450720" y="-298440"/>
            <a:ext cx="8242560" cy="2041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457200" y="278100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0066"/>
                </a:solidFill>
                <a:latin typeface="Monotype Corsiva"/>
              </a:rPr>
              <a:t>Мир сказок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Посуда, из которой журавль кормил лис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375480" y="184464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Тарел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506520" y="2852640"/>
            <a:ext cx="161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Ча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222480" y="386064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Кувш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255240" y="4869000"/>
            <a:ext cx="22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Кастрю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Рисунок 7" descr="1642_Lis_Jurav.jpg"/>
          <p:cNvPicPr/>
          <p:nvPr/>
        </p:nvPicPr>
        <p:blipFill>
          <a:blip r:embed="rId2"/>
          <a:stretch/>
        </p:blipFill>
        <p:spPr>
          <a:xfrm>
            <a:off x="2552760" y="1989000"/>
            <a:ext cx="62578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692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Кто так пел: «Куда идём мы с Пятачком, большой-большой секрет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260640" y="1844640"/>
            <a:ext cx="24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Винни-Пу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402840" y="2852640"/>
            <a:ext cx="231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Ослик  И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674640" y="3860640"/>
            <a:ext cx="11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С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760320" y="4797360"/>
            <a:ext cx="17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Крол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Рисунок 7" descr="x_47e5a3a9.jpg"/>
          <p:cNvPicPr/>
          <p:nvPr/>
        </p:nvPicPr>
        <p:blipFill>
          <a:blip r:embed="rId2"/>
          <a:stretch/>
        </p:blipFill>
        <p:spPr>
          <a:xfrm>
            <a:off x="2843280" y="2060640"/>
            <a:ext cx="597672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5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Каким транспортом пользовалась Баба Яга для перевозки пассажиров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3"/>
          <p:cNvSpPr/>
          <p:nvPr/>
        </p:nvSpPr>
        <p:spPr>
          <a:xfrm>
            <a:off x="406080" y="184464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Мет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354240" y="2924280"/>
            <a:ext cx="140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Сту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48960" y="386064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Гуси-лебе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326880" y="472428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Избуш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Рисунок 7" descr="8-если сделать поменьше, то четко будет.jpg"/>
          <p:cNvPicPr/>
          <p:nvPr/>
        </p:nvPicPr>
        <p:blipFill>
          <a:blip r:embed="rId2"/>
          <a:stretch/>
        </p:blipFill>
        <p:spPr>
          <a:xfrm>
            <a:off x="2789280" y="2133720"/>
            <a:ext cx="6068880" cy="44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6840" y="404280"/>
            <a:ext cx="64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Какая сказка начинается словам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«Маленькие дети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Ни за что на свет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Не ходите, де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В Африку гулять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5547240" y="2708280"/>
            <a:ext cx="286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Тараканищ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5004360" y="3716280"/>
            <a:ext cx="384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Краденое солн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5479560" y="4724280"/>
            <a:ext cx="232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Барма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5114520" y="5589720"/>
            <a:ext cx="36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Доктор Айбол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Рисунок 7" descr="1003277877.jpg"/>
          <p:cNvPicPr/>
          <p:nvPr/>
        </p:nvPicPr>
        <p:blipFill>
          <a:blip r:embed="rId2"/>
          <a:stretch/>
        </p:blipFill>
        <p:spPr>
          <a:xfrm>
            <a:off x="324000" y="260280"/>
            <a:ext cx="47844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549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Monotype Corsiva"/>
              </a:rPr>
              <a:t>Кто подарил царю Дадону золотого петуш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201600" y="1844640"/>
            <a:ext cx="24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Звездочё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472680" y="285264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Колду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597240" y="3860640"/>
            <a:ext cx="10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Фе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456480" y="4797360"/>
            <a:ext cx="20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Баба Я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Рисунок 7" descr="zolotoi_petushok9.jpg"/>
          <p:cNvPicPr/>
          <p:nvPr/>
        </p:nvPicPr>
        <p:blipFill>
          <a:blip r:embed="rId2"/>
          <a:stretch/>
        </p:blipFill>
        <p:spPr>
          <a:xfrm>
            <a:off x="4067280" y="1268280"/>
            <a:ext cx="4500360" cy="53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2693880" y="-298440"/>
            <a:ext cx="4402080" cy="204156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2" descr=""/>
          <p:cNvPicPr/>
          <p:nvPr/>
        </p:nvPicPr>
        <p:blipFill>
          <a:blip r:embed="rId3"/>
          <a:stretch/>
        </p:blipFill>
        <p:spPr>
          <a:xfrm>
            <a:off x="390600" y="1657440"/>
            <a:ext cx="828972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Заголовок 1" descr=""/>
          <p:cNvPicPr/>
          <p:nvPr/>
        </p:nvPicPr>
        <p:blipFill>
          <a:blip r:embed="rId2"/>
          <a:stretch/>
        </p:blipFill>
        <p:spPr>
          <a:xfrm>
            <a:off x="2408400" y="-298440"/>
            <a:ext cx="4546440" cy="2041560"/>
          </a:xfrm>
          <a:prstGeom prst="rect">
            <a:avLst/>
          </a:prstGeom>
          <a:ln w="0">
            <a:noFill/>
          </a:ln>
        </p:spPr>
      </p:pic>
      <p:sp>
        <p:nvSpPr>
          <p:cNvPr id="210" name="Скругленный прямоугольник 3"/>
          <p:cNvSpPr/>
          <p:nvPr/>
        </p:nvSpPr>
        <p:spPr>
          <a:xfrm>
            <a:off x="971640" y="5229360"/>
            <a:ext cx="914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Calibri"/>
              </a:rPr>
              <a:t>о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Скругленный прямоугольник 8"/>
          <p:cNvSpPr/>
          <p:nvPr/>
        </p:nvSpPr>
        <p:spPr>
          <a:xfrm>
            <a:off x="5292720" y="5445000"/>
            <a:ext cx="914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Calibri"/>
              </a:rPr>
              <a:t>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Скругленный прямоугольник 9"/>
          <p:cNvSpPr/>
          <p:nvPr/>
        </p:nvSpPr>
        <p:spPr>
          <a:xfrm>
            <a:off x="324000" y="3573360"/>
            <a:ext cx="914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Calibri"/>
              </a:rPr>
              <a:t>в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Скругленный прямоугольник 10"/>
          <p:cNvSpPr/>
          <p:nvPr/>
        </p:nvSpPr>
        <p:spPr>
          <a:xfrm>
            <a:off x="6012000" y="4076640"/>
            <a:ext cx="914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Calibri"/>
              </a:rPr>
              <a:t>р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Скругленный прямоугольник 11"/>
          <p:cNvSpPr/>
          <p:nvPr/>
        </p:nvSpPr>
        <p:spPr>
          <a:xfrm>
            <a:off x="3132000" y="3716280"/>
            <a:ext cx="914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Calibri"/>
              </a:rPr>
              <a:t>л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Скругленный прямоугольник 12"/>
          <p:cNvSpPr/>
          <p:nvPr/>
        </p:nvSpPr>
        <p:spPr>
          <a:xfrm>
            <a:off x="2050920" y="4365720"/>
            <a:ext cx="914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Calibri"/>
              </a:rPr>
              <a:t>ш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Скругленный прямоугольник 13"/>
          <p:cNvSpPr/>
          <p:nvPr/>
        </p:nvSpPr>
        <p:spPr>
          <a:xfrm>
            <a:off x="7308720" y="5589720"/>
            <a:ext cx="914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Calibri"/>
              </a:rPr>
              <a:t>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Скругленный прямоугольник 14"/>
          <p:cNvSpPr/>
          <p:nvPr/>
        </p:nvSpPr>
        <p:spPr>
          <a:xfrm>
            <a:off x="7596360" y="4149720"/>
            <a:ext cx="914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Calibri"/>
              </a:rPr>
              <a:t>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Скругленный прямоугольник 15"/>
          <p:cNvSpPr/>
          <p:nvPr/>
        </p:nvSpPr>
        <p:spPr>
          <a:xfrm>
            <a:off x="3419640" y="5373720"/>
            <a:ext cx="914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Calibri"/>
              </a:rPr>
              <a:t>к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16"/>
          <p:cNvSpPr/>
          <p:nvPr/>
        </p:nvSpPr>
        <p:spPr>
          <a:xfrm>
            <a:off x="539640" y="177336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Из букв составить слов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Скругленный прямоугольник 17"/>
          <p:cNvSpPr/>
          <p:nvPr/>
        </p:nvSpPr>
        <p:spPr>
          <a:xfrm>
            <a:off x="4572000" y="3933720"/>
            <a:ext cx="914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Calibri"/>
              </a:rPr>
              <a:t>б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2"/>
          <a:stretch/>
        </p:blipFill>
        <p:spPr>
          <a:xfrm>
            <a:off x="2475000" y="-122400"/>
            <a:ext cx="4767120" cy="2043360"/>
          </a:xfrm>
          <a:prstGeom prst="rect">
            <a:avLst/>
          </a:prstGeom>
          <a:ln w="0">
            <a:noFill/>
          </a:ln>
        </p:spPr>
      </p:pic>
      <p:pic>
        <p:nvPicPr>
          <p:cNvPr id="222" name="Содержимое 2" descr=""/>
          <p:cNvPicPr/>
          <p:nvPr/>
        </p:nvPicPr>
        <p:blipFill>
          <a:blip r:embed="rId3"/>
          <a:stretch/>
        </p:blipFill>
        <p:spPr>
          <a:xfrm>
            <a:off x="-426960" y="1938240"/>
            <a:ext cx="10375920" cy="4230720"/>
          </a:xfrm>
          <a:prstGeom prst="rect">
            <a:avLst/>
          </a:prstGeom>
          <a:ln w="0">
            <a:noFill/>
          </a:ln>
        </p:spPr>
      </p:pic>
      <p:grpSp>
        <p:nvGrpSpPr>
          <p:cNvPr id="223" name="5-конечная звезда 3"/>
          <p:cNvGrpSpPr/>
          <p:nvPr/>
        </p:nvGrpSpPr>
        <p:grpSpPr>
          <a:xfrm>
            <a:off x="596880" y="530280"/>
            <a:ext cx="866880" cy="871560"/>
            <a:chOff x="596880" y="530280"/>
            <a:chExt cx="866880" cy="871560"/>
          </a:xfrm>
        </p:grpSpPr>
        <p:pic>
          <p:nvPicPr>
            <p:cNvPr id="224" name="5-конечная звезда 3" descr=""/>
            <p:cNvPicPr/>
            <p:nvPr/>
          </p:nvPicPr>
          <p:blipFill>
            <a:blip r:embed="rId4"/>
            <a:stretch/>
          </p:blipFill>
          <p:spPr>
            <a:xfrm>
              <a:off x="596880" y="530280"/>
              <a:ext cx="8668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 rot="1006800">
              <a:off x="840960" y="820440"/>
              <a:ext cx="3016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5-конечная звезда 4"/>
          <p:cNvGrpSpPr/>
          <p:nvPr/>
        </p:nvGrpSpPr>
        <p:grpSpPr>
          <a:xfrm>
            <a:off x="7205760" y="762120"/>
            <a:ext cx="834840" cy="749160"/>
            <a:chOff x="7205760" y="762120"/>
            <a:chExt cx="834840" cy="749160"/>
          </a:xfrm>
        </p:grpSpPr>
        <p:pic>
          <p:nvPicPr>
            <p:cNvPr id="227" name="5-конечная звезда 4" descr=""/>
            <p:cNvPicPr/>
            <p:nvPr/>
          </p:nvPicPr>
          <p:blipFill>
            <a:blip r:embed="rId5"/>
            <a:stretch/>
          </p:blipFill>
          <p:spPr>
            <a:xfrm>
              <a:off x="7205760" y="762120"/>
              <a:ext cx="8348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 rot="20487000">
              <a:off x="7515360" y="1009440"/>
              <a:ext cx="29196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9" name="5-конечная звезда 5"/>
          <p:cNvGrpSpPr/>
          <p:nvPr/>
        </p:nvGrpSpPr>
        <p:grpSpPr>
          <a:xfrm>
            <a:off x="2298600" y="3084480"/>
            <a:ext cx="852480" cy="878040"/>
            <a:chOff x="2298600" y="3084480"/>
            <a:chExt cx="852480" cy="878040"/>
          </a:xfrm>
        </p:grpSpPr>
        <p:pic>
          <p:nvPicPr>
            <p:cNvPr id="230" name="5-конечная звезда 5" descr=""/>
            <p:cNvPicPr/>
            <p:nvPr/>
          </p:nvPicPr>
          <p:blipFill>
            <a:blip r:embed="rId6"/>
            <a:stretch/>
          </p:blipFill>
          <p:spPr>
            <a:xfrm>
              <a:off x="2298600" y="3084480"/>
              <a:ext cx="85248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 rot="20487000">
              <a:off x="2620800" y="3376080"/>
              <a:ext cx="29700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5-конечная звезда 6"/>
          <p:cNvGrpSpPr/>
          <p:nvPr/>
        </p:nvGrpSpPr>
        <p:grpSpPr>
          <a:xfrm>
            <a:off x="7607160" y="2743200"/>
            <a:ext cx="908280" cy="828720"/>
            <a:chOff x="7607160" y="2743200"/>
            <a:chExt cx="908280" cy="828720"/>
          </a:xfrm>
        </p:grpSpPr>
        <p:pic>
          <p:nvPicPr>
            <p:cNvPr id="233" name="5-конечная звезда 6" descr=""/>
            <p:cNvPicPr/>
            <p:nvPr/>
          </p:nvPicPr>
          <p:blipFill>
            <a:blip r:embed="rId7"/>
            <a:stretch/>
          </p:blipFill>
          <p:spPr>
            <a:xfrm>
              <a:off x="7607160" y="2743200"/>
              <a:ext cx="908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7913520" y="3056040"/>
              <a:ext cx="301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5" name="5-конечная звезда 7"/>
          <p:cNvGrpSpPr/>
          <p:nvPr/>
        </p:nvGrpSpPr>
        <p:grpSpPr>
          <a:xfrm>
            <a:off x="5589720" y="5626080"/>
            <a:ext cx="907920" cy="830160"/>
            <a:chOff x="5589720" y="5626080"/>
            <a:chExt cx="907920" cy="830160"/>
          </a:xfrm>
        </p:grpSpPr>
        <p:pic>
          <p:nvPicPr>
            <p:cNvPr id="236" name="5-конечная звезда 7" descr=""/>
            <p:cNvPicPr/>
            <p:nvPr/>
          </p:nvPicPr>
          <p:blipFill>
            <a:blip r:embed="rId8"/>
            <a:stretch/>
          </p:blipFill>
          <p:spPr>
            <a:xfrm>
              <a:off x="5589720" y="5626080"/>
              <a:ext cx="90792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897520" y="5935680"/>
              <a:ext cx="3016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8" name="5-конечная звезда 8"/>
          <p:cNvGrpSpPr/>
          <p:nvPr/>
        </p:nvGrpSpPr>
        <p:grpSpPr>
          <a:xfrm>
            <a:off x="1127160" y="5479920"/>
            <a:ext cx="909720" cy="828720"/>
            <a:chOff x="1127160" y="5479920"/>
            <a:chExt cx="909720" cy="828720"/>
          </a:xfrm>
        </p:grpSpPr>
        <p:pic>
          <p:nvPicPr>
            <p:cNvPr id="239" name="5-конечная звезда 8" descr=""/>
            <p:cNvPicPr/>
            <p:nvPr/>
          </p:nvPicPr>
          <p:blipFill>
            <a:blip r:embed="rId9"/>
            <a:stretch/>
          </p:blipFill>
          <p:spPr>
            <a:xfrm>
              <a:off x="1127160" y="5479920"/>
              <a:ext cx="9097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1432080" y="5792760"/>
              <a:ext cx="303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5-конечная звезда 9"/>
          <p:cNvGrpSpPr/>
          <p:nvPr/>
        </p:nvGrpSpPr>
        <p:grpSpPr>
          <a:xfrm>
            <a:off x="4632480" y="2743200"/>
            <a:ext cx="884160" cy="858960"/>
            <a:chOff x="4632480" y="2743200"/>
            <a:chExt cx="884160" cy="858960"/>
          </a:xfrm>
        </p:grpSpPr>
        <p:pic>
          <p:nvPicPr>
            <p:cNvPr id="242" name="5-конечная звезда 9" descr=""/>
            <p:cNvPicPr/>
            <p:nvPr/>
          </p:nvPicPr>
          <p:blipFill>
            <a:blip r:embed="rId10"/>
            <a:stretch/>
          </p:blipFill>
          <p:spPr>
            <a:xfrm>
              <a:off x="4632480" y="2743200"/>
              <a:ext cx="8841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 rot="2381400">
              <a:off x="4921200" y="2997000"/>
              <a:ext cx="3031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5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5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65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85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молодцы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404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Monotype Corsiva"/>
              </a:rPr>
              <a:t>Вылетела стрела и попала в болот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Monotype Corsiva"/>
              </a:rPr>
              <a:t>В этом болоте поймал её кто-т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Monotype Corsiva"/>
              </a:rPr>
              <a:t>Кто, распростившись с зелёною коже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Monotype Corsiva"/>
              </a:rPr>
              <a:t>Сделался милой, красивой, пригоже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-402120" y="2997360"/>
            <a:ext cx="48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Василиса Прекрас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49760" y="3645000"/>
            <a:ext cx="235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Алёну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21600" y="4437000"/>
            <a:ext cx="35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Марья Мор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-188280" y="5229360"/>
            <a:ext cx="41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Марья -Искус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7" descr="7468683_148679.jpg"/>
          <p:cNvPicPr/>
          <p:nvPr/>
        </p:nvPicPr>
        <p:blipFill>
          <a:blip r:embed="rId2"/>
          <a:stretch/>
        </p:blipFill>
        <p:spPr>
          <a:xfrm>
            <a:off x="3924360" y="2852640"/>
            <a:ext cx="521964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Monotype Corsiva"/>
              </a:rPr>
              <a:t>Как начинается сказка «О царе Салтане?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-336600" y="1844640"/>
            <a:ext cx="594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В некотором царств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В некотором государстве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-645480" y="3429000"/>
            <a:ext cx="54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Три девицы под окном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192960" y="4508640"/>
            <a:ext cx="359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Жил-был царь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2"/>
          <p:cNvSpPr/>
          <p:nvPr/>
        </p:nvSpPr>
        <p:spPr>
          <a:xfrm>
            <a:off x="-326160" y="5732640"/>
            <a:ext cx="64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Жили-были царь с царицей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Рисунок 6" descr="1291378757.jpg"/>
          <p:cNvPicPr/>
          <p:nvPr/>
        </p:nvPicPr>
        <p:blipFill>
          <a:blip r:embed="rId2"/>
          <a:stretch/>
        </p:blipFill>
        <p:spPr>
          <a:xfrm>
            <a:off x="3419640" y="2349360"/>
            <a:ext cx="544320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Как называется поле, на котором Буратино хотел посадить свои денежк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-73440" y="2060640"/>
            <a:ext cx="407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Чудесная поля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425880" y="2781360"/>
            <a:ext cx="25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Поле Чуде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81720" y="3645000"/>
            <a:ext cx="23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Чудо-п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-204840" y="4508640"/>
            <a:ext cx="366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Поляна Дура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Рисунок 7" descr="152-27-01.jpg"/>
          <p:cNvPicPr/>
          <p:nvPr/>
        </p:nvPicPr>
        <p:blipFill>
          <a:blip r:embed="rId2"/>
          <a:stretch/>
        </p:blipFill>
        <p:spPr>
          <a:xfrm>
            <a:off x="4140360" y="2133720"/>
            <a:ext cx="46670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549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В кого превращался великан-людоед в сказке Ш.Перр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320040" y="2781360"/>
            <a:ext cx="18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В мыш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418320" y="3573360"/>
            <a:ext cx="200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В пету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303480" y="2060640"/>
            <a:ext cx="182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Во ль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223920" y="4292640"/>
            <a:ext cx="20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В соба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Рисунок 7" descr="410770.jpg"/>
          <p:cNvPicPr/>
          <p:nvPr/>
        </p:nvPicPr>
        <p:blipFill>
          <a:blip r:embed="rId2"/>
          <a:stretch/>
        </p:blipFill>
        <p:spPr>
          <a:xfrm>
            <a:off x="2771640" y="2060640"/>
            <a:ext cx="6067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9640" y="40428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От кого пришла телеграмма: «Не могу к вам приехать, очень занят, т.к. Хочу море морщить, да проклятое племя корчить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426960" y="2492280"/>
            <a:ext cx="14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Бал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311760" y="3500280"/>
            <a:ext cx="20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Баба Я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611640" y="4292640"/>
            <a:ext cx="16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Кощ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561600" y="5229360"/>
            <a:ext cx="20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Водя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Рисунок 7" descr="skazki_pushkina_skachat_thumb.jpg"/>
          <p:cNvPicPr/>
          <p:nvPr/>
        </p:nvPicPr>
        <p:blipFill>
          <a:blip r:embed="rId2"/>
          <a:stretch/>
        </p:blipFill>
        <p:spPr>
          <a:xfrm>
            <a:off x="2843280" y="2133720"/>
            <a:ext cx="60008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1" descr=""/>
          <p:cNvPicPr/>
          <p:nvPr/>
        </p:nvPicPr>
        <p:blipFill>
          <a:blip r:embed="rId2"/>
          <a:stretch/>
        </p:blipFill>
        <p:spPr>
          <a:xfrm>
            <a:off x="2548080" y="-158760"/>
            <a:ext cx="4694040" cy="2043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395280" y="256500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0066"/>
                </a:solidFill>
                <a:latin typeface="Monotype Corsiva"/>
              </a:rPr>
              <a:t>Сказочный денёк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333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Игрушка, которой дали очень смешное имя, потому что она упала со стола. Кто эт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6317280" y="4581360"/>
            <a:ext cx="259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Чебура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6156360" y="36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Бурати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7267680" y="2708280"/>
            <a:ext cx="14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Пьер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6381360" y="5661000"/>
            <a:ext cx="26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Чипполи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Рисунок 7" descr="0_48640_2fced34d_XL.jpg"/>
          <p:cNvPicPr/>
          <p:nvPr/>
        </p:nvPicPr>
        <p:blipFill>
          <a:blip r:embed="rId2"/>
          <a:stretch/>
        </p:blipFill>
        <p:spPr>
          <a:xfrm>
            <a:off x="324000" y="1916280"/>
            <a:ext cx="572436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07:27:32Z</dcterms:created>
  <dc:creator>Татьяна!!!</dc:creator>
  <dc:description/>
  <dc:language>en-US</dc:language>
  <cp:lastModifiedBy>Admin</cp:lastModifiedBy>
  <dcterms:modified xsi:type="dcterms:W3CDTF">2013-01-02T12:44:00Z</dcterms:modified>
  <cp:revision>44</cp:revision>
  <dc:subject/>
  <dc:title>Звёздный час «Что за прелесть, эти сказки!»</dc:title>
</cp:coreProperties>
</file>