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94C-0EEA-48CE-A3B8-8B425A22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6F5-EFC3-4410-BEC8-1B2488FA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ED7-CC06-484F-AD18-EEE3E2DC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1F3-2FA9-41A4-8A22-0BA7A12A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1680-D506-490E-9E12-0B263F91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6074-3221-4AE5-B4E2-C95878E9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282C-7576-4F6F-B449-E617D9C9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C69F-BE14-4001-913B-E9F31D64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E119-06E6-4EDF-93A2-71EF5EE7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E99D-1295-4532-BA4C-74B51AB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24AE-9B30-4DE3-BB7C-B6A53192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C61-0616-4384-B2FB-040956B1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31EE-7340-40D4-A88A-EAF27BE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8B7B-EFC2-4333-A692-4E011CDD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1371-E965-44E0-8902-52C605C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A317-7D11-49E5-86F5-9BC293EB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6A76-7EDB-4B42-955A-35A7CDCE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1FA-A5EA-43E2-B00E-08F53DE9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489-88EB-4BC0-8B6C-3766CEAD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8CE-7A1D-4778-907F-3B52FD2D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6F7-BDE4-4E70-8B1B-9322EF00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182-FC28-4192-8870-46B506F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7BA-27C4-494A-92D6-211ABB73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3A9-50B0-4766-A3EE-0A5F559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51F4-C6E2-4B2C-BD0B-CF50EB34E9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0825-CEEA-42BA-BC74-84EF6A329C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авила</a:t>
            </a:r>
            <a:r>
              <a:rPr b="1" lang="en-US" sz="4400" spc="-1" strike="noStrike">
                <a:solidFill>
                  <a:srgbClr val="666633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дорожного</a:t>
            </a:r>
            <a:r>
              <a:rPr b="1" lang="en-US" sz="4400" spc="-1" strike="noStrike">
                <a:solidFill>
                  <a:srgbClr val="666633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движения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865160" cy="2571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33"/>
                </a:solidFill>
                <a:latin typeface="Arial"/>
              </a:rPr>
              <a:t>Дорожное движение регулируют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на перекрестке, где работает светофор, вы видите регулировщика, то необходимо подчиняться именно его сигна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1447" t="3833" r="2982" b="54287"/>
          <a:stretch/>
        </p:blipFill>
        <p:spPr>
          <a:xfrm>
            <a:off x="5386320" y="2133720"/>
            <a:ext cx="3757680" cy="472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66452" r="0" b="3625"/>
          <a:stretch/>
        </p:blipFill>
        <p:spPr>
          <a:xfrm>
            <a:off x="5364000" y="0"/>
            <a:ext cx="3780000" cy="1919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414972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равая рука вытянута вперед – пешеходам разрешено переходить проезжую часть за спиной регулиров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965200">
            <a:off x="8172360" y="4076640"/>
            <a:ext cx="432000" cy="1879560"/>
          </a:xfrm>
          <a:prstGeom prst="upArrow">
            <a:avLst>
              <a:gd name="adj1" fmla="val 56148"/>
              <a:gd name="adj2" fmla="val 8502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205400">
            <a:off x="8532360" y="4149360"/>
            <a:ext cx="432000" cy="1879560"/>
          </a:xfrm>
          <a:prstGeom prst="upArrow">
            <a:avLst>
              <a:gd name="adj1" fmla="val 56148"/>
              <a:gd name="adj2" fmla="val 8502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1557000"/>
            <a:ext cx="655344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66633"/>
                </a:solidFill>
                <a:latin typeface="Arial"/>
              </a:rPr>
              <a:t>Для того чтобы чувствовать себя уверенно на улицах и дорогах, необходимо хорошо знать Правила дорожного движения, а значит, понимать, что обозначают дорожные знаки, элементы дорожной разметки, сигналы светофора и регулировщика.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35400" cy="3357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08360" y="692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3934" t="4719" r="3349" b="5338"/>
          <a:stretch/>
        </p:blipFill>
        <p:spPr>
          <a:xfrm>
            <a:off x="0" y="3257640"/>
            <a:ext cx="496872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мы бываем с вами пешеходами, то есть участниками дорожного движения. Вы идете в школу, возвращаетесь домой, идете в гости друг к другу, в магазин… И во всех этих случаях вы пешеход, а значит должны соблюдать Правила дорожного движения для обеспечения личной безопасности и безопасности окружа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933720"/>
            <a:ext cx="39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торим, кто такой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ЕШЕ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ЕШЕХ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лицо, находящееся вне транспортного средства на дороге и не производящее на ней работу. К пешеходам приравниваются лица, передвигающиеся в инвалидных колясках без двигателей, ведущие велосипед, мопед, мотоцикл, везущие санки, тележку, детскую коляск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Из Правил дорожного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44252" t="0" r="21279" b="72910"/>
          <a:stretch/>
        </p:blipFill>
        <p:spPr>
          <a:xfrm>
            <a:off x="0" y="4892760"/>
            <a:ext cx="3564000" cy="1965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63176" t="70350" r="2355" b="3468"/>
          <a:stretch/>
        </p:blipFill>
        <p:spPr>
          <a:xfrm>
            <a:off x="5435640" y="4879800"/>
            <a:ext cx="3708360" cy="197820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7493"/>
                </a:moveTo>
                <a:lnTo>
                  <a:pt x="8518" y="7493"/>
                </a:lnTo>
                <a:lnTo>
                  <a:pt x="8518" y="12828"/>
                </a:lnTo>
                <a:cubicBezTo>
                  <a:pt x="8518" y="13751"/>
                  <a:pt x="9318" y="14482"/>
                  <a:pt x="10354" y="14482"/>
                </a:cubicBezTo>
                <a:lnTo>
                  <a:pt x="12017" y="14482"/>
                </a:lnTo>
                <a:cubicBezTo>
                  <a:pt x="13052" y="14482"/>
                  <a:pt x="13853" y="13751"/>
                  <a:pt x="13853" y="12828"/>
                </a:cubicBezTo>
                <a:lnTo>
                  <a:pt x="13853" y="7493"/>
                </a:lnTo>
                <a:lnTo>
                  <a:pt x="12017" y="7493"/>
                </a:lnTo>
                <a:lnTo>
                  <a:pt x="15524" y="3985"/>
                </a:lnTo>
                <a:lnTo>
                  <a:pt x="19197" y="7493"/>
                </a:lnTo>
                <a:lnTo>
                  <a:pt x="17361" y="7493"/>
                </a:lnTo>
                <a:lnTo>
                  <a:pt x="17361" y="12828"/>
                </a:lnTo>
                <a:cubicBezTo>
                  <a:pt x="17361" y="15596"/>
                  <a:pt x="14784" y="18155"/>
                  <a:pt x="12017" y="18155"/>
                </a:cubicBezTo>
                <a:lnTo>
                  <a:pt x="10354" y="18155"/>
                </a:lnTo>
                <a:cubicBezTo>
                  <a:pt x="7586" y="18155"/>
                  <a:pt x="5010" y="15596"/>
                  <a:pt x="5010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2043" t="52403" r="3681" b="9354"/>
          <a:stretch/>
        </p:blipFill>
        <p:spPr>
          <a:xfrm>
            <a:off x="5651640" y="4898880"/>
            <a:ext cx="3492360" cy="1959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3681" t="6958" r="2043" b="54776"/>
          <a:stretch/>
        </p:blipFill>
        <p:spPr>
          <a:xfrm>
            <a:off x="5292720" y="0"/>
            <a:ext cx="3851280" cy="2163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Обязанности пешеходов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5977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шеходы должны двигаться по тротуарам или пешеходным дорожкам, а при их отсутствии  - по обоч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загородной дороге пешеходы должны идти навстречу движению транспортн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шеходы ведущие велосипед, мотоцикл – должны следовать по ходу движения транспортн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rcRect l="7687" t="4360" r="7093" b="2203"/>
          <a:stretch/>
        </p:blipFill>
        <p:spPr>
          <a:xfrm>
            <a:off x="6877080" y="1844640"/>
            <a:ext cx="15843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Обязанности пешеходов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00000" y="1268280"/>
            <a:ext cx="77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зжую часть пешеходы могут пересекать по пешеходным переходам, а при их отсутствии – на перекрестках, на хорошо просматриваемых участках дороги, и только под прямым уг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5094" t="6492" r="2807" b="10811"/>
          <a:stretch/>
        </p:blipFill>
        <p:spPr>
          <a:xfrm>
            <a:off x="0" y="3762360"/>
            <a:ext cx="4537080" cy="3095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6265" t="5481" r="0" b="17656"/>
          <a:stretch/>
        </p:blipFill>
        <p:spPr>
          <a:xfrm>
            <a:off x="6437160" y="3429000"/>
            <a:ext cx="270684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66100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я дорогу вне пешеходного перехода будь особенно внимате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5734080"/>
            <a:ext cx="35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д выходом с проезжую часть будь особенно внима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5516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</a:rPr>
              <a:t>на хорошо просматриваемых участках дороги…</a:t>
            </a:r>
            <a:endParaRPr b="0" lang="en-US" sz="2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371" t="4570" r="2510" b="52653"/>
          <a:stretch/>
        </p:blipFill>
        <p:spPr>
          <a:xfrm>
            <a:off x="324000" y="260280"/>
            <a:ext cx="4392360" cy="2381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3109" t="52213" r="2510" b="1975"/>
          <a:stretch/>
        </p:blipFill>
        <p:spPr>
          <a:xfrm>
            <a:off x="324000" y="3141720"/>
            <a:ext cx="4390920" cy="2538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3133" t="4574" r="3478" b="3341"/>
          <a:stretch/>
        </p:blipFill>
        <p:spPr>
          <a:xfrm>
            <a:off x="4427640" y="1916280"/>
            <a:ext cx="471636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Обязанности пешеходов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шеход не успевший закончить переход, должен остановиться на осевой линии или на «островке безопасно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509" t="48940" r="6415" b="10275"/>
          <a:stretch/>
        </p:blipFill>
        <p:spPr>
          <a:xfrm>
            <a:off x="6134040" y="3284640"/>
            <a:ext cx="3009960" cy="357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509" t="5964" r="6415" b="61819"/>
          <a:stretch/>
        </p:blipFill>
        <p:spPr>
          <a:xfrm>
            <a:off x="0" y="3649680"/>
            <a:ext cx="3419640" cy="3208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2358000">
            <a:off x="4449240" y="3840120"/>
            <a:ext cx="2965680" cy="414360"/>
          </a:xfrm>
          <a:prstGeom prst="rightArrow">
            <a:avLst>
              <a:gd name="adj1" fmla="val 50000"/>
              <a:gd name="adj2" fmla="val 1789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5445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нерегулируемом перекрестке пешеходы начинают движение после проехавшего автомоби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4843440"/>
            <a:ext cx="295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выходите на проезжую часть из-за препятствия, не убедившись в отсутствии приближающейся маши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Arial"/>
              </a:rPr>
              <a:t>Общие меры безопасности, которые необходимо соблюдать при движении пешехода по дорогам:</a:t>
            </a:r>
            <a:endParaRPr b="0" lang="en-US" sz="2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ходе из подъезда дома обратите внимание, не приближается ли к вам автомобиль, мотоцикл, велосипе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у дома стоит автомобиль или растут деревья, закрывающие обзор, прежде чем выйти на проезжую часть, осмотритесь – нет ли за препятствием движущегося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движении по тротуару всегда придерживайтесь правой стороны, чтобы не мешать встречному движению пешеходов и не создавать помехи для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ходя по тротуару мимо ворот или выезда из гаража, необходимо обратить внимание, не выезжает ли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 бы иметь на одежде светоотраж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2768" t="7829" r="50004" b="15261"/>
          <a:stretch/>
        </p:blipFill>
        <p:spPr>
          <a:xfrm>
            <a:off x="6840360" y="3645000"/>
            <a:ext cx="2303640" cy="223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9080600">
            <a:off x="6154200" y="2134800"/>
            <a:ext cx="1194120" cy="1332000"/>
          </a:xfrm>
          <a:prstGeom prst="cloudCallout">
            <a:avLst>
              <a:gd name="adj1" fmla="val 38666"/>
              <a:gd name="adj2" fmla="val 123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Arial"/>
              </a:rPr>
              <a:t>Общие меры безопасности, которые необходимо соблюдать при движении пешехода по дорогам:</a:t>
            </a:r>
            <a:endParaRPr b="0" lang="en-US" sz="2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67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Готовясь перейти дорогу, необходимо осмотреть проезжую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ойдя к краю дорог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смотреть налево, затем напра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и если нет приближающегося транспорта, переходить проезжую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йдя до середины проезжей части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становиться и посмотреть направо, а затем нале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и если нет приближающегося транспорта идти до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787640" y="141264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Ежедневно каждый человек участвует в дорожном движении в качестве </a:t>
            </a:r>
            <a:r>
              <a:rPr b="0" lang="en-US" sz="3600" spc="-1" strike="noStrike" u="sng">
                <a:solidFill>
                  <a:srgbClr val="808000"/>
                </a:solidFill>
                <a:uFillTx/>
                <a:latin typeface="Monotype Corsiva"/>
                <a:hlinkClick r:id="rId1" action="ppaction://hlinksldjump"/>
              </a:rPr>
              <a:t>пешехода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en-US" sz="3600" spc="-1" strike="noStrike" u="sng">
                <a:solidFill>
                  <a:srgbClr val="808000"/>
                </a:solidFill>
                <a:uFillTx/>
                <a:latin typeface="Monotype Corsiva"/>
                <a:hlinkClick r:id="rId2" action="ppaction://hlinksldjump"/>
              </a:rPr>
              <a:t>пассажира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 или </a:t>
            </a:r>
            <a:r>
              <a:rPr b="0" lang="en-US" sz="3600" spc="-1" strike="noStrike" u="sng">
                <a:solidFill>
                  <a:srgbClr val="808000"/>
                </a:solidFill>
                <a:uFillTx/>
                <a:latin typeface="Monotype Corsiva"/>
                <a:hlinkClick r:id="rId3" action="ppaction://hlinksldjump"/>
              </a:rPr>
              <a:t>води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rcRect l="2610" t="0" r="3880" b="161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br>
              <a:rPr sz="3400"/>
            </a:b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68000" y="1052280"/>
            <a:ext cx="6875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ители, заметив на нерегулируемом пешеходном переходе людей, должны снизить скорость или остановиться, но это выполняется ими не всегда, поэтому пешеход должен начинать переход только после того, как убедится в безопасности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3836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0" t="1153" r="609" b="2307"/>
          <a:stretch/>
        </p:blipFill>
        <p:spPr>
          <a:xfrm>
            <a:off x="684360" y="549360"/>
            <a:ext cx="7632720" cy="52052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26920" y="0"/>
            <a:ext cx="4321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33"/>
                </a:solidFill>
                <a:latin typeface="Arial"/>
              </a:rPr>
              <a:t>Проверим себя…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69916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Укажите номера всех участников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Сколько пешеходов изображено на этом рисунке? Сколько из них наруш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4564" t="18488" r="2768" b="5467"/>
          <a:stretch/>
        </p:blipFill>
        <p:spPr>
          <a:xfrm>
            <a:off x="2043000" y="0"/>
            <a:ext cx="56530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7493"/>
                </a:moveTo>
                <a:lnTo>
                  <a:pt x="8289" y="7493"/>
                </a:lnTo>
                <a:lnTo>
                  <a:pt x="8289" y="12828"/>
                </a:lnTo>
                <a:cubicBezTo>
                  <a:pt x="8289" y="13751"/>
                  <a:pt x="9090" y="14482"/>
                  <a:pt x="10126" y="14482"/>
                </a:cubicBezTo>
                <a:lnTo>
                  <a:pt x="11788" y="14482"/>
                </a:lnTo>
                <a:cubicBezTo>
                  <a:pt x="12824" y="14482"/>
                  <a:pt x="13624" y="13751"/>
                  <a:pt x="13624" y="12828"/>
                </a:cubicBezTo>
                <a:lnTo>
                  <a:pt x="13624" y="7493"/>
                </a:lnTo>
                <a:lnTo>
                  <a:pt x="11788" y="7493"/>
                </a:lnTo>
                <a:lnTo>
                  <a:pt x="15296" y="3985"/>
                </a:lnTo>
                <a:lnTo>
                  <a:pt x="18968" y="7493"/>
                </a:lnTo>
                <a:lnTo>
                  <a:pt x="17132" y="7493"/>
                </a:lnTo>
                <a:lnTo>
                  <a:pt x="17132" y="12828"/>
                </a:lnTo>
                <a:cubicBezTo>
                  <a:pt x="17132" y="15596"/>
                  <a:pt x="14556" y="18155"/>
                  <a:pt x="11788" y="18155"/>
                </a:cubicBezTo>
                <a:lnTo>
                  <a:pt x="10126" y="18155"/>
                </a:lnTo>
                <a:cubicBezTo>
                  <a:pt x="7358" y="18155"/>
                  <a:pt x="4781" y="15596"/>
                  <a:pt x="4781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303640" y="1674720"/>
            <a:ext cx="6840360" cy="518328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7493"/>
                </a:moveTo>
                <a:lnTo>
                  <a:pt x="9400" y="7493"/>
                </a:lnTo>
                <a:lnTo>
                  <a:pt x="9400" y="12828"/>
                </a:lnTo>
                <a:cubicBezTo>
                  <a:pt x="9400" y="13751"/>
                  <a:pt x="10201" y="14482"/>
                  <a:pt x="11237" y="14482"/>
                </a:cubicBezTo>
                <a:lnTo>
                  <a:pt x="12899" y="14482"/>
                </a:lnTo>
                <a:cubicBezTo>
                  <a:pt x="13935" y="14482"/>
                  <a:pt x="14736" y="13751"/>
                  <a:pt x="14736" y="12828"/>
                </a:cubicBezTo>
                <a:lnTo>
                  <a:pt x="14736" y="7493"/>
                </a:lnTo>
                <a:lnTo>
                  <a:pt x="12899" y="7493"/>
                </a:lnTo>
                <a:lnTo>
                  <a:pt x="16407" y="3985"/>
                </a:lnTo>
                <a:lnTo>
                  <a:pt x="20080" y="7493"/>
                </a:lnTo>
                <a:lnTo>
                  <a:pt x="18243" y="7493"/>
                </a:lnTo>
                <a:lnTo>
                  <a:pt x="18243" y="12828"/>
                </a:lnTo>
                <a:cubicBezTo>
                  <a:pt x="18243" y="15596"/>
                  <a:pt x="15667" y="18155"/>
                  <a:pt x="12899" y="18155"/>
                </a:cubicBezTo>
                <a:lnTo>
                  <a:pt x="11237" y="18155"/>
                </a:lnTo>
                <a:cubicBezTo>
                  <a:pt x="8469" y="18155"/>
                  <a:pt x="5893" y="15596"/>
                  <a:pt x="5893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4753080" cy="27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к, который совершает поездку в транспортном средстве, называется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ассажиром.</a:t>
            </a:r>
            <a:r>
              <a:rPr b="0" lang="en-US" sz="32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3001680" cy="3095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3573360"/>
            <a:ext cx="4319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д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человек, управляющий каким-либо транспортным средством. Кроме того, в Правилах дорожного движения определено, что водителем также считается человек, ведущий по дороге вьючных или верховых животных или стадо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716280"/>
            <a:ext cx="331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ранспортное сре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устройство, предназначенное для перевозки по дорогам людей, грузов или оборудования, установленного на 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9689000">
            <a:off x="1258920" y="2852280"/>
            <a:ext cx="2160720" cy="289080"/>
          </a:xfrm>
          <a:prstGeom prst="leftArrow">
            <a:avLst>
              <a:gd name="adj1" fmla="val 50000"/>
              <a:gd name="adj2" fmla="val 18686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2547200">
            <a:off x="5003280" y="3141360"/>
            <a:ext cx="1800360" cy="288720"/>
          </a:xfrm>
          <a:prstGeom prst="leftArrow">
            <a:avLst>
              <a:gd name="adj1" fmla="val 50000"/>
              <a:gd name="adj2" fmla="val 1558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7493"/>
                </a:moveTo>
                <a:lnTo>
                  <a:pt x="9649" y="7493"/>
                </a:lnTo>
                <a:lnTo>
                  <a:pt x="9649" y="12828"/>
                </a:lnTo>
                <a:cubicBezTo>
                  <a:pt x="9649" y="13751"/>
                  <a:pt x="10450" y="14482"/>
                  <a:pt x="11485" y="14482"/>
                </a:cubicBezTo>
                <a:lnTo>
                  <a:pt x="13148" y="14482"/>
                </a:lnTo>
                <a:cubicBezTo>
                  <a:pt x="14184" y="14482"/>
                  <a:pt x="14984" y="13751"/>
                  <a:pt x="14984" y="12828"/>
                </a:cubicBezTo>
                <a:lnTo>
                  <a:pt x="14984" y="7493"/>
                </a:lnTo>
                <a:lnTo>
                  <a:pt x="13148" y="7493"/>
                </a:lnTo>
                <a:lnTo>
                  <a:pt x="16655" y="3985"/>
                </a:lnTo>
                <a:lnTo>
                  <a:pt x="20328" y="7493"/>
                </a:lnTo>
                <a:lnTo>
                  <a:pt x="18492" y="7493"/>
                </a:lnTo>
                <a:lnTo>
                  <a:pt x="18492" y="12828"/>
                </a:lnTo>
                <a:cubicBezTo>
                  <a:pt x="18492" y="15596"/>
                  <a:pt x="15916" y="18155"/>
                  <a:pt x="13148" y="18155"/>
                </a:cubicBezTo>
                <a:lnTo>
                  <a:pt x="11485" y="18155"/>
                </a:lnTo>
                <a:cubicBezTo>
                  <a:pt x="8718" y="18155"/>
                  <a:pt x="6141" y="15596"/>
                  <a:pt x="6141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Правильный ответ:</a:t>
            </a:r>
            <a:endParaRPr b="0" lang="en-US" sz="5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частники дви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1, 2, 3, 5, 6, 7, 9, 10, 11, 13, 18, 19, 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сего 12 пешеход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2, 3, 5, 6, 7, 9, 11 (двое), 18, 19 (двое), 20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з них нарушителей дво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2, 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7493"/>
                </a:moveTo>
                <a:lnTo>
                  <a:pt x="8289" y="7493"/>
                </a:lnTo>
                <a:lnTo>
                  <a:pt x="8289" y="12828"/>
                </a:lnTo>
                <a:cubicBezTo>
                  <a:pt x="8289" y="13751"/>
                  <a:pt x="9090" y="14482"/>
                  <a:pt x="10126" y="14482"/>
                </a:cubicBezTo>
                <a:lnTo>
                  <a:pt x="11788" y="14482"/>
                </a:lnTo>
                <a:cubicBezTo>
                  <a:pt x="12824" y="14482"/>
                  <a:pt x="13624" y="13751"/>
                  <a:pt x="13624" y="12828"/>
                </a:cubicBezTo>
                <a:lnTo>
                  <a:pt x="13624" y="7493"/>
                </a:lnTo>
                <a:lnTo>
                  <a:pt x="11788" y="7493"/>
                </a:lnTo>
                <a:lnTo>
                  <a:pt x="15296" y="3985"/>
                </a:lnTo>
                <a:lnTo>
                  <a:pt x="18968" y="7493"/>
                </a:lnTo>
                <a:lnTo>
                  <a:pt x="17132" y="7493"/>
                </a:lnTo>
                <a:lnTo>
                  <a:pt x="17132" y="12828"/>
                </a:lnTo>
                <a:cubicBezTo>
                  <a:pt x="17132" y="15596"/>
                  <a:pt x="14556" y="18155"/>
                  <a:pt x="11788" y="18155"/>
                </a:cubicBezTo>
                <a:lnTo>
                  <a:pt x="10126" y="18155"/>
                </a:lnTo>
                <a:cubicBezTo>
                  <a:pt x="7358" y="18155"/>
                  <a:pt x="4781" y="15596"/>
                  <a:pt x="4781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6356" t="5102" r="3462" b="21672"/>
          <a:stretch/>
        </p:blipFill>
        <p:spPr>
          <a:xfrm>
            <a:off x="0" y="0"/>
            <a:ext cx="6875640" cy="6875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348000" y="4005360"/>
            <a:ext cx="5796000" cy="28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И днем и ночью, в жару и в мороз по дорогам движутся легковые и грузовые автомобили, автобусы, трамваи и троллейбусы. Они перевозят людей, доставляют продукты питания, сырье для фабрик и заводов, различные товары для магазинов и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жегодно в Казахстане в дорожно-транспортных происшествиях </a:t>
            </a:r>
            <a:r>
              <a:rPr b="0" lang="en-US" sz="3200" spc="-1" strike="noStrike" u="sng">
                <a:solidFill>
                  <a:srgbClr val="808000"/>
                </a:solidFill>
                <a:uFillTx/>
                <a:latin typeface="Arial"/>
                <a:hlinkClick r:id="rId1" action="ppaction://hlinksldjump"/>
              </a:rPr>
              <a:t>(ДТП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гибают и получают ранения люд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сновными причинами этого зачастую являются несоблюдение правил дорож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ответствии с правилами в нашей стране принято </a:t>
            </a:r>
            <a:r>
              <a:rPr b="0" lang="en-US" sz="4400" spc="-1" strike="noStrike" u="sng">
                <a:solidFill>
                  <a:srgbClr val="808000"/>
                </a:solidFill>
                <a:uFillTx/>
                <a:latin typeface="Monotype Corsiva"/>
                <a:hlinkClick r:id="rId1" action="ppaction://hlinksldjump"/>
              </a:rPr>
              <a:t>правостороннее движение</a:t>
            </a:r>
            <a:r>
              <a:rPr b="0" lang="en-US" sz="4400" spc="-1" strike="noStrike" u="sng">
                <a:solidFill>
                  <a:srgbClr val="808000"/>
                </a:solidFill>
                <a:uFillTx/>
                <a:latin typeface="Monotype Corsiva"/>
                <a:hlinkClick r:id="rId2" action="ppaction://hlinksldjump"/>
              </a:rPr>
              <a:t>,</a:t>
            </a:r>
            <a:r>
              <a:rPr b="0" lang="en-US" sz="4400" spc="-1" strike="noStrike" u="sng">
                <a:solidFill>
                  <a:srgbClr val="808000"/>
                </a:solidFill>
                <a:uFillTx/>
                <a:latin typeface="Monotype Corsiva"/>
                <a:hlinkClick r:id="rId3" action="ppaction://hlinksldjump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 есть транспорт придерживается правой стороны проезжей части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3223" t="3818" r="3223" b="11532"/>
          <a:stretch/>
        </p:blipFill>
        <p:spPr>
          <a:xfrm>
            <a:off x="4535640" y="3689280"/>
            <a:ext cx="4608360" cy="316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378936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ор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устроенная или приспособленная и используемая для движения транспортных средств полоса земли либо поверхность искусственного сооружения (мо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99736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РОГ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что мы понимаем под этим слов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578400" y="1196640"/>
            <a:ext cx="5565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обеспечения безопасности на улицах и дорогах осуществляет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регулирование 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дорожного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Monotype Corsiva"/>
              </a:rPr>
              <a:t>движения,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управление потоком движения    транспорта и пешеход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479760" cy="4797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33"/>
                </a:solidFill>
                <a:latin typeface="Arial"/>
              </a:rPr>
              <a:t>Дорожное движение регулируют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51465" t="2841" r="1270" b="15261"/>
          <a:stretch/>
        </p:blipFill>
        <p:spPr>
          <a:xfrm>
            <a:off x="5678640" y="0"/>
            <a:ext cx="3465360" cy="357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67103" t="25189" r="0" b="0"/>
          <a:stretch/>
        </p:blipFill>
        <p:spPr>
          <a:xfrm>
            <a:off x="0" y="4933800"/>
            <a:ext cx="1447920" cy="1924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2560" t="4996" r="50008" b="-238"/>
          <a:stretch/>
        </p:blipFill>
        <p:spPr>
          <a:xfrm>
            <a:off x="7056360" y="4408560"/>
            <a:ext cx="2087640" cy="244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184464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ВЕТОФ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гулируют очередность пропуска участников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781360"/>
            <a:ext cx="5256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Зеленый сиг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ветофора разрешает дви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Желтый сиг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запрещает движение и предупреждает о предстоящей смене сиг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расный сиг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запрещает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300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тофоры бывают: транспортные и пешех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186920" y="5876640"/>
            <a:ext cx="172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48360" y="5516280"/>
            <a:ext cx="172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33"/>
                </a:solidFill>
                <a:latin typeface="Arial"/>
              </a:rPr>
              <a:t>Дорожное движение регулируют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6630" r="0" b="63447"/>
          <a:stretch/>
        </p:blipFill>
        <p:spPr>
          <a:xfrm>
            <a:off x="5435640" y="0"/>
            <a:ext cx="3708360" cy="1884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2945" t="0" r="51513" b="52773"/>
          <a:stretch/>
        </p:blipFill>
        <p:spPr>
          <a:xfrm>
            <a:off x="5459400" y="1989000"/>
            <a:ext cx="3684600" cy="4869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4356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егулировщ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н подает сигналы руками, положением корпуса, при помощи жезлов и флаж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500280"/>
            <a:ext cx="51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уки вытянуты в стороны или опущены – пешеходам разрешено переходить проезжую часть со стороны правого и левого бока регулировщика (путь пешехода обозначен зелеными стрелоч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805360"/>
            <a:ext cx="2808360" cy="648000"/>
          </a:xfrm>
          <a:prstGeom prst="rightArrow">
            <a:avLst>
              <a:gd name="adj1" fmla="val 37731"/>
              <a:gd name="adj2" fmla="val 8599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67640" y="3500280"/>
            <a:ext cx="720720" cy="433440"/>
          </a:xfrm>
          <a:prstGeom prst="rightArrow">
            <a:avLst>
              <a:gd name="adj1" fmla="val 50917"/>
              <a:gd name="adj2" fmla="val 8972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795640" y="5444640"/>
            <a:ext cx="2808360" cy="576360"/>
          </a:xfrm>
          <a:prstGeom prst="rightArrow">
            <a:avLst>
              <a:gd name="adj1" fmla="val 37731"/>
              <a:gd name="adj2" fmla="val 966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156360" y="3141720"/>
            <a:ext cx="574560" cy="433440"/>
          </a:xfrm>
          <a:prstGeom prst="rightArrow">
            <a:avLst>
              <a:gd name="adj1" fmla="val 50917"/>
              <a:gd name="adj2" fmla="val 715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3573360"/>
            <a:ext cx="720720" cy="21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3213000"/>
            <a:ext cx="576360" cy="21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33"/>
                </a:solidFill>
                <a:latin typeface="Arial"/>
              </a:rPr>
              <a:t>Дорожное движение регулируют:</a:t>
            </a: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52938" t="58598" r="2982" b="3833"/>
          <a:stretch/>
        </p:blipFill>
        <p:spPr>
          <a:xfrm>
            <a:off x="5462640" y="2565360"/>
            <a:ext cx="3681360" cy="4292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3201840"/>
            <a:ext cx="5435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улировщик находится в центре перекрестка, на линии, разделяющей встречные потоки транспорта, или на краю проезжей части. Сигналы, подаваемые регулировщиком, обязательны для всех участников дорож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37178" r="0" b="34202"/>
          <a:stretch/>
        </p:blipFill>
        <p:spPr>
          <a:xfrm>
            <a:off x="5435640" y="0"/>
            <a:ext cx="3708360" cy="184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16000" y="19162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ука поднята вверх – движение запрещ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5:49:39Z</dcterms:created>
  <dc:creator>User</dc:creator>
  <dc:description/>
  <dc:language>en-US</dc:language>
  <cp:lastModifiedBy>Zver</cp:lastModifiedBy>
  <dcterms:modified xsi:type="dcterms:W3CDTF">2009-02-15T19:38:21Z</dcterms:modified>
  <cp:revision>28</cp:revision>
  <dc:subject/>
  <dc:title>Правила дорожного движения</dc:title>
</cp:coreProperties>
</file>