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CC3-08BF-407E-AA7B-7ED292F3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CD7-BFCC-4600-98B3-1E835CE1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F28-4207-415F-8BF1-AE64ACBF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556-90FC-4395-9E63-E7F90152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098-D122-422C-9E1E-0F627DC9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630-FDA2-4A18-9848-540F3520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B9D-EBAE-44EB-91CD-38AF6470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71D-A0B3-459C-A426-D424FA49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73E-73B0-4CD3-9F45-3C072EB3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075-0C0E-4A86-AEF2-7FA288C9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078-69BA-477D-A18F-2150E992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864-E629-4513-BCEF-5A290901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89B6-3D04-44C6-B836-A46964EBA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84536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ьные травмы включают несчастные случаи у учащихся дневных общеобразовательных школ всех типов (в т.ч. музыкальных, спортивных, СПТУ), возникшие в период их нахождения в школе (на уроке, включая урок физкультуры, на перемене, в учебных мастерских, на пришкольном участке). Из-за большой скученности, ежечасного перемещения из класса в класс, коротких перемен, когда детская энергия, накопленная за урок, выплескивается в течение нескольких минут, травмы неизбежны. Каждая пятая травма со школьниками происходит в самой школе, причем 4/5 из них - на перемене. Профилактикой детского травматизма сегодня озабочен весь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бязанности пешех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00000" y="1268280"/>
            <a:ext cx="77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зжую часть пешеходы могут пересекать по пешеходным переходам, а при их отсутствии – на перекрестках, на хорошо просматриваемых участках дороги, и только под прямым уг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5094" t="6492" r="2807" b="10811"/>
          <a:stretch/>
        </p:blipFill>
        <p:spPr>
          <a:xfrm>
            <a:off x="0" y="3762360"/>
            <a:ext cx="4537080" cy="309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6265" t="5481" r="0" b="17656"/>
          <a:stretch/>
        </p:blipFill>
        <p:spPr>
          <a:xfrm>
            <a:off x="6437160" y="3429000"/>
            <a:ext cx="270684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5661000"/>
            <a:ext cx="41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я дорогу вне пешеходного перехода будь особенно внимате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5734080"/>
            <a:ext cx="35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д выходом с проезжую часть будь особенно внимате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7687" t="4360" r="7093" b="2203"/>
          <a:stretch/>
        </p:blipFill>
        <p:spPr>
          <a:xfrm>
            <a:off x="3479760" y="1917720"/>
            <a:ext cx="21826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3:48:27Z</dcterms:created>
  <dc:creator>Start</dc:creator>
  <dc:description/>
  <dc:language>en-US</dc:language>
  <cp:lastModifiedBy>Start</cp:lastModifiedBy>
  <dcterms:modified xsi:type="dcterms:W3CDTF">2003-01-01T13:49:12Z</dcterms:modified>
  <cp:revision>2</cp:revision>
  <dc:subject/>
  <dc:title>Слайд 1</dc:title>
</cp:coreProperties>
</file>