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gif" ContentType="image/gif"/>
  <Override PartName="/ppt/media/image3.gif" ContentType="image/gif"/>
  <Override PartName="/ppt/media/image7.png" ContentType="image/png"/>
  <Override PartName="/ppt/media/image11.wmf" ContentType="image/x-wmf"/>
  <Override PartName="/ppt/media/image12.png" ContentType="image/png"/>
  <Override PartName="/ppt/media/image4.gif" ContentType="image/gif"/>
  <Override PartName="/ppt/media/image8.png" ContentType="image/png"/>
  <Override PartName="/ppt/media/image5.jpeg" ContentType="image/jpeg"/>
  <Override PartName="/ppt/media/image6.gif" ContentType="image/gif"/>
  <Override PartName="/ppt/media/image9.png" ContentType="image/png"/>
  <Override PartName="/ppt/media/image1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1202-276A-4024-8983-EEFA0FBF1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A439-D781-4B90-B71C-763637A89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74FB-02D9-4CA3-8D8B-A39C30310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960A-EDC7-487F-8302-01A34D508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3B07-2E28-408C-A1B5-8D1EB6370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14B1-E898-43FA-A251-FDC3F08CC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67EB-CFC2-4973-9A6A-E03747025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DB08-ED11-4EE2-B8F8-58EDBD8EA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9FB2-3F49-4EDA-AC69-A5055D1D3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4274-998D-4DE3-ADDB-364D3B958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EE44-733F-4F7F-82D1-B837DAE61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9E21-6F43-409C-AF12-FC94EA897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8A8C6-9A3A-4E5B-BF18-F27153DA4E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radikal.ru/F/i056.radikal.ru/1101/bb/8ba4210857c8.jpg.html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image" Target="../media/image13.wmf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hyperlink" Target="http://radikal.ru/F/i056.radikal.ru/1101/bb/8ba4210857c8.jpg.html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adikal.ru/F/i056.radikal.ru/1101/bb/8ba4210857c8.jpg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adikal.ru/F/i056.radikal.ru/1101/bb/8ba4210857c8.jpg.html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go.mail.ru/search_images?q=%EF%EE%E7%E4%F0%E0%E2%EB%E5%ED%E8%FF+%EA+17%EB%E5%F2+%E4%E5%ED%FC+%F0%EE%E6%E4%E5%ED%E8%FF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user posted image">
            <a:hlinkClick r:id="rId1"/>
          </p:cNvPr>
          <p:cNvPicPr/>
          <p:nvPr/>
        </p:nvPicPr>
        <p:blipFill>
          <a:blip r:embed="rId2"/>
          <a:srcRect l="0" t="0" r="0" b="5993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3"/>
          <a:stretch/>
        </p:blipFill>
        <p:spPr>
          <a:xfrm>
            <a:off x="5219640" y="476280"/>
            <a:ext cx="3314880" cy="1695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4"/>
          <a:stretch/>
        </p:blipFill>
        <p:spPr>
          <a:xfrm>
            <a:off x="4859280" y="4005360"/>
            <a:ext cx="23814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укописные данные 2" descr=""/>
          <p:cNvPicPr/>
          <p:nvPr/>
        </p:nvPicPr>
        <p:blipFill>
          <a:blip r:embed="rId1"/>
          <a:stretch/>
        </p:blipFill>
        <p:spPr>
          <a:xfrm>
            <a:off x="6734160" y="1050840"/>
            <a:ext cx="919080" cy="4352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C:\Users\п\Pictures\5.PNG"/>
          <p:cNvPicPr/>
          <p:nvPr/>
        </p:nvPicPr>
        <p:blipFill>
          <a:blip r:embed="rId2"/>
          <a:stretch/>
        </p:blipFill>
        <p:spPr>
          <a:xfrm>
            <a:off x="5724360" y="981000"/>
            <a:ext cx="1898640" cy="1257480"/>
          </a:xfrm>
          <a:prstGeom prst="rect">
            <a:avLst/>
          </a:prstGeom>
          <a:ln w="0">
            <a:noFill/>
          </a:ln>
        </p:spPr>
      </p:pic>
      <p:pic>
        <p:nvPicPr>
          <p:cNvPr id="77" name="Рукописные данные 1" descr=""/>
          <p:cNvPicPr/>
          <p:nvPr/>
        </p:nvPicPr>
        <p:blipFill>
          <a:blip r:embed="rId3"/>
          <a:stretch/>
        </p:blipFill>
        <p:spPr>
          <a:xfrm>
            <a:off x="5603760" y="952560"/>
            <a:ext cx="2140200" cy="15048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user posted image"/>
          <p:cNvPicPr/>
          <p:nvPr/>
        </p:nvPicPr>
        <p:blipFill>
          <a:blip r:embed="rId4"/>
          <a:srcRect l="0" t="0" r="0" b="5993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Айгери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села, добра, нежна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персидская княжна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Айка – маков цвет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аше нашей Айки нет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е фантазии большой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завидует любой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а энергии полна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в жизнь открыто влюблена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kukli-211"/>
          <p:cNvPicPr/>
          <p:nvPr/>
        </p:nvPicPr>
        <p:blipFill>
          <a:blip r:embed="rId1"/>
          <a:stretch/>
        </p:blipFill>
        <p:spPr>
          <a:xfrm>
            <a:off x="6180120" y="3429000"/>
            <a:ext cx="2963880" cy="3198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user posted image">
            <a:hlinkClick r:id="rId2"/>
          </p:cNvPr>
          <p:cNvPicPr/>
          <p:nvPr/>
        </p:nvPicPr>
        <p:blipFill>
          <a:blip r:embed="rId3"/>
          <a:srcRect l="0" t="0" r="0" b="5993"/>
          <a:stretch/>
        </p:blipFill>
        <p:spPr>
          <a:xfrm>
            <a:off x="0" y="9360"/>
            <a:ext cx="8893080" cy="67327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6"/>
          <p:cNvSpPr/>
          <p:nvPr/>
        </p:nvSpPr>
        <p:spPr>
          <a:xfrm>
            <a:off x="2193840" y="2276640"/>
            <a:ext cx="4463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есела, добра, нежна, 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ак персидская княжна. 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Это Айка – маков цвет, 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раше нашей Айки нет. 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Ее фантазии большой 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озавидует любой. 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на энергии полна 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И в жизнь открыто влюблена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kukli-211"/>
          <p:cNvPicPr/>
          <p:nvPr/>
        </p:nvPicPr>
        <p:blipFill>
          <a:blip r:embed="rId4"/>
          <a:stretch/>
        </p:blipFill>
        <p:spPr>
          <a:xfrm>
            <a:off x="5867280" y="3292560"/>
            <a:ext cx="2963880" cy="31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user posted image">
            <a:hlinkClick r:id="rId1"/>
          </p:cNvPr>
          <p:cNvPicPr/>
          <p:nvPr/>
        </p:nvPicPr>
        <p:blipFill>
          <a:blip r:embed="rId2"/>
          <a:srcRect l="0" t="0" r="0" b="5993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5"/>
          <p:cNvSpPr/>
          <p:nvPr/>
        </p:nvSpPr>
        <p:spPr>
          <a:xfrm>
            <a:off x="3702960" y="1123560"/>
            <a:ext cx="5237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усть твоя дорога будет ясной,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ы не знай ни горести, ни бед,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глянись, ведь жизнь прекрасна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 тебе исполнилось 17 лет.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ак солнца луч весной сияет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ак пусть сияет жизнь твоя,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усть сердце горя не узнает,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ебе желаю счастья я!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Будь счастлива всегда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 не грусти ты никогда.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Если слезы в глазах — улыбайся,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ы улыбкой своей покори всех парней,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А верна одному лишь останься!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user posted image">
            <a:hlinkClick r:id="rId1"/>
          </p:cNvPr>
          <p:cNvPicPr/>
          <p:nvPr/>
        </p:nvPicPr>
        <p:blipFill>
          <a:blip r:embed="rId2"/>
          <a:srcRect l="0" t="0" r="0" b="5993"/>
          <a:stretch/>
        </p:blipFill>
        <p:spPr>
          <a:xfrm>
            <a:off x="0" y="0"/>
            <a:ext cx="8964720" cy="6753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index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211640" y="1916280"/>
            <a:ext cx="380376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user posted image"/>
          <p:cNvPicPr/>
          <p:nvPr/>
        </p:nvPicPr>
        <p:blipFill>
          <a:blip r:embed="rId1"/>
          <a:srcRect l="0" t="0" r="0" b="5993"/>
          <a:stretch/>
        </p:blipFill>
        <p:spPr>
          <a:xfrm>
            <a:off x="0" y="-3024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6"/>
          <p:cNvSpPr/>
          <p:nvPr/>
        </p:nvSpPr>
        <p:spPr>
          <a:xfrm>
            <a:off x="1916280" y="-105840"/>
            <a:ext cx="69350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Если 17 тебе только лет,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се по плечу - невозможного нет!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Тебе мы желаем удачи без меры,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адости, счастья, надежды и веры,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усть тебя любят все безгранично,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И проживи свою жизнь на "отлично"!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user posted image"/>
          <p:cNvPicPr/>
          <p:nvPr/>
        </p:nvPicPr>
        <p:blipFill>
          <a:blip r:embed="rId1"/>
          <a:srcRect l="0" t="0" r="0" b="5993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1042920" y="692280"/>
            <a:ext cx="6121440" cy="40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f5f0fc97c490ef1a038915e6ff529ac0_1876787305_800px"/>
          <p:cNvPicPr/>
          <p:nvPr/>
        </p:nvPicPr>
        <p:blipFill>
          <a:blip r:embed="rId1"/>
          <a:stretch/>
        </p:blipFill>
        <p:spPr>
          <a:xfrm>
            <a:off x="360360" y="341280"/>
            <a:ext cx="8423280" cy="610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user posted image"/>
          <p:cNvPicPr/>
          <p:nvPr/>
        </p:nvPicPr>
        <p:blipFill>
          <a:blip r:embed="rId1"/>
          <a:srcRect l="0" t="0" r="0" b="5993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43" descr="Рисунок9.png"/>
          <p:cNvPicPr/>
          <p:nvPr/>
        </p:nvPicPr>
        <p:blipFill>
          <a:blip r:embed="rId1"/>
          <a:stretch/>
        </p:blipFill>
        <p:spPr>
          <a:xfrm>
            <a:off x="4143240" y="428760"/>
            <a:ext cx="4510080" cy="1517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3" name="Рисунок 25" descr="Рисунок5.png"/>
          <p:cNvPicPr/>
          <p:nvPr/>
        </p:nvPicPr>
        <p:blipFill>
          <a:blip r:embed="rId2"/>
          <a:stretch/>
        </p:blipFill>
        <p:spPr>
          <a:xfrm>
            <a:off x="539640" y="1052640"/>
            <a:ext cx="3973680" cy="511812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35" descr="Рисунок7.png"/>
          <p:cNvPicPr/>
          <p:nvPr/>
        </p:nvPicPr>
        <p:blipFill>
          <a:blip r:embed="rId3"/>
          <a:stretch/>
        </p:blipFill>
        <p:spPr>
          <a:xfrm rot="428400">
            <a:off x="5532480" y="1479240"/>
            <a:ext cx="3778200" cy="42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1T18:07:18Z</dcterms:created>
  <dc:creator>Admin</dc:creator>
  <dc:description/>
  <dc:language>en-US</dc:language>
  <cp:lastModifiedBy>21</cp:lastModifiedBy>
  <dcterms:modified xsi:type="dcterms:W3CDTF">2013-01-09T12:22:10Z</dcterms:modified>
  <cp:revision>11</cp:revision>
  <dc:subject/>
  <dc:title>Слайд 1</dc:title>
</cp:coreProperties>
</file>