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8F9-9FAD-496A-9274-312E2BE0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3C2-08AB-443F-83E6-207D5925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981-4ED3-4E0A-9974-CA59B6A1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E7A-B25E-448B-8A9C-B85D863B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095-058C-48EE-A0FD-727E22EB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01B-4261-43D9-92E2-87933748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8C0-F234-467F-A462-C20179B1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D6D-10A6-4BAA-8302-4AA86D0C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201-3B59-4ADC-968A-8665A680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6EF-912A-417B-B959-6CFEF8BF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B54-1DA3-4781-B0BD-49AFC01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360-BAF8-41B0-B929-DAA8794B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8E21-B185-46F2-940D-CB9AD9426F0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320" y="4500720"/>
            <a:ext cx="83581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К «Английский язык» авт.  О. В. Афанасьева, И. В. Михее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2600"/>
            <a:ext cx="815688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714240" y="350028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р работы – учитель английского языка Порожняя Наталья Алексеевна, МБОУ СОШ №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89298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:”Jack went ho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 Jack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g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85816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said:”I have done it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d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said: “I have been coughing for a week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been coughing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a wee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560" y="7858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: “We shall win the ga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 we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 win</a:t>
            </a: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gam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re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the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is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day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 day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o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w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en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se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os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esterday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day 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st week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previous week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morrow          the next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3286080" y="514368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Стрелка вправо 6"/>
          <p:cNvSpPr/>
          <p:nvPr/>
        </p:nvSpPr>
        <p:spPr>
          <a:xfrm>
            <a:off x="3357720" y="31431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трелка вправо 7"/>
          <p:cNvSpPr/>
          <p:nvPr/>
        </p:nvSpPr>
        <p:spPr>
          <a:xfrm>
            <a:off x="3357720" y="37861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Стрелка вправо 8"/>
          <p:cNvSpPr/>
          <p:nvPr/>
        </p:nvSpPr>
        <p:spPr>
          <a:xfrm>
            <a:off x="3357720" y="45007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Стрелка вправо 9"/>
          <p:cNvSpPr/>
          <p:nvPr/>
        </p:nvSpPr>
        <p:spPr>
          <a:xfrm>
            <a:off x="3357720" y="578628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трелка вправо 10"/>
          <p:cNvSpPr/>
          <p:nvPr/>
        </p:nvSpPr>
        <p:spPr>
          <a:xfrm>
            <a:off x="3286080" y="114300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3357720" y="17859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трелка вправо 12"/>
          <p:cNvSpPr/>
          <p:nvPr/>
        </p:nvSpPr>
        <p:spPr>
          <a:xfrm>
            <a:off x="3357720" y="250020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трелка вправо 13"/>
          <p:cNvSpPr/>
          <p:nvPr/>
        </p:nvSpPr>
        <p:spPr>
          <a:xfrm>
            <a:off x="3357720" y="50004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He said:”I can’t translate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is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rticle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he couldn’t translat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:”I was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re yesterday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that he had bee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day before.</a:t>
            </a: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7140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ямая речь является вопроситель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то при обращении в косвенную она становится дополнительным придаточ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венн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типа прямых вопро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" name="Прямая со стрелкой 5"/>
          <p:cNvCxnSpPr/>
          <p:nvPr/>
        </p:nvCxnSpPr>
        <p:spPr>
          <a:xfrm flipH="1">
            <a:off x="2642760" y="2142000"/>
            <a:ext cx="1215360" cy="5007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Прямая со стрелкой 7"/>
          <p:cNvCxnSpPr/>
          <p:nvPr/>
        </p:nvCxnSpPr>
        <p:spPr>
          <a:xfrm>
            <a:off x="5643360" y="2143080"/>
            <a:ext cx="1215000" cy="57240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TextBox 8"/>
          <p:cNvSpPr/>
          <p:nvPr/>
        </p:nvSpPr>
        <p:spPr>
          <a:xfrm>
            <a:off x="500040" y="3071880"/>
            <a:ext cx="36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ециальные вопросы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чинающиеся 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o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which, whose, when, why, how, how many, how much, how long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500800" y="3071880"/>
            <a:ext cx="307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ие вопросы, начинающиеся с вспомогательного или модального глаго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просительного слова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группы слов, то при обращении его в косвенный вопрос производятся следующие изменения:</a:t>
            </a:r>
            <a:br>
              <a:rPr sz="3200"/>
            </a:b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знак опуска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порядок слов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ямом вопросе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меня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рядком слов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ествовательного предложе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еми же изменениями, как и в повествовательных предложениях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ительное слово служит для присоединения косвенного вопроса к главному предложе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He asked me:”Why have you come so lat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y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 late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”Where do you liv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r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v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44280"/>
          <a:ext cx="9144000" cy="674244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67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7">
            <a:hlinkClick r:id="" action="ppaction://hlinkshowjump?jump=nextslide"/>
          </p:cNvPr>
          <p:cNvSpPr/>
          <p:nvPr/>
        </p:nvSpPr>
        <p:spPr>
          <a:xfrm>
            <a:off x="3643200" y="6000840"/>
            <a:ext cx="428760" cy="376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Управляющая кнопка: назад 10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400640" y="463680"/>
            <a:ext cx="5060880" cy="2779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714240" y="1357200"/>
            <a:ext cx="3643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2"/>
          <a:stretch/>
        </p:blipFill>
        <p:spPr>
          <a:xfrm>
            <a:off x="463680" y="549360"/>
            <a:ext cx="4321080" cy="223020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страиваемая 12">
            <a:hlinkClick r:id="" action="ppaction://hlinkshowjump?jump=lastslide"/>
          </p:cNvPr>
          <p:cNvSpPr/>
          <p:nvPr/>
        </p:nvSpPr>
        <p:spPr>
          <a:xfrm>
            <a:off x="8215200" y="592920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помогательног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ального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гол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косвенный вопрос присоединяется к главному предложению при помощи союзов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меющих значение частицы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Далее производятся те же изменения, как и при обращении в косвенную речь вопроса, начинающегося с вопросительного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asked:”Did John read the book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asked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Joh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rea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boo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 ’’Will you be here tomorrow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 shoul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next day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ая речь представляет собой повелительное предложение, то при обращении её в косвенную производятся следующие изменения: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прямая речь –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ание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о глагол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каз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словах, вводящих прямую речь,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няется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tell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еть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order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ыв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Если прямая речь –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ьба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глагол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ask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ить</a:t>
            </a:r>
            <a:r>
              <a:rPr b="0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лительное наклонение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в косвенной речи 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трицательная форма заменяется 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частицей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Sh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o him:”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t five o’clock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l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im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five o’cloc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I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er:”Pleas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k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er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oose the correct verb 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doctor  said to me that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hall/should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t for a week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 going/was going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were/ had been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ent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that day/today)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tudy/studied)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not to play/to not play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560" y="642600"/>
            <a:ext cx="9001080" cy="34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The doctor  said to me that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rest for a week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going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been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resent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 day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udie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 to play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them into Reported speech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“I’m going to the seaside soon,” s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“Does this bus stop next station?” asked Hele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:”Are you working now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:”Can you play the piano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her:”Why are you late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“Who has broken the window?” the teacher aske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“Look at this paper” 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“Don’t go alone in the evening,” she said.</a:t>
            </a:r>
            <a:br>
              <a:rPr sz="3200"/>
            </a:b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said that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going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the seaside so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len asked if that bus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stoppe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llowing stati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 if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working the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 if I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coul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lay the piano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why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te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teacher asked who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ad broken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indow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He said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 look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at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aper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The teacher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ld not to go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one in the ev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Английский язык. 8 кл.: учеб. для общеобразоват. учреждений/ О. В. Авфанасьева, И. В. Михеева.-М.: Дрофа,2009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Английский язык.7-8 классы. Грамматика, лексика, чтение. Тесты и упражнения. Тренировочная тетрадь. Фоменко Е. А., Долгопольская И. Б. – Ростов-на-Дону: Легион, 2011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актическая грамматика английского языка. Израилевич Е. Е., Качалова К. Н. – Москва, «Юнвес», 199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настраиваемая 4"/>
          <p:cNvSpPr/>
          <p:nvPr/>
        </p:nvSpPr>
        <p:spPr>
          <a:xfrm>
            <a:off x="807228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643800"/>
        </p:xfrm>
        <a:graphic>
          <a:graphicData uri="http://schemas.openxmlformats.org/drawingml/2006/table">
            <a:tbl>
              <a:tblPr/>
              <a:tblGrid>
                <a:gridCol w="2065320"/>
                <a:gridCol w="2433600"/>
                <a:gridCol w="2432160"/>
                <a:gridCol w="221292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а последовательности времё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казательных  местоимений и наречий времени и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вел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34"/>
          <p:cNvSpPr/>
          <p:nvPr/>
        </p:nvSpPr>
        <p:spPr>
          <a:xfrm>
            <a:off x="150012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92904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6215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8501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157176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000680" y="4000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6286680" y="392904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850104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1643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6"/>
          <p:cNvSpPr/>
          <p:nvPr/>
        </p:nvSpPr>
        <p:spPr>
          <a:xfrm>
            <a:off x="8501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7"/>
          <p:cNvSpPr/>
          <p:nvPr/>
        </p:nvSpPr>
        <p:spPr>
          <a:xfrm>
            <a:off x="63579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8"/>
          <p:cNvSpPr/>
          <p:nvPr/>
        </p:nvSpPr>
        <p:spPr>
          <a:xfrm>
            <a:off x="38577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54"/>
          <p:cNvSpPr/>
          <p:nvPr/>
        </p:nvSpPr>
        <p:spPr>
          <a:xfrm>
            <a:off x="285840" y="38577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 какого-нибудь лица, передаваемая буквально так, как она была произнесена, называется прям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, передаваемая не слово в слово, а только по содержанию, в виде дополнительных придаточных предложений, называется косвенн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orted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28840" y="5286240"/>
            <a:ext cx="640080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483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ая речь может представлять собой:</a:t>
            </a:r>
            <a:br>
              <a:rPr sz="49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.повествова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.вопроси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.повелительное предло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88581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458200" y="6324480"/>
            <a:ext cx="3808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3786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Simp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214960" y="357120"/>
            <a:ext cx="36432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71720" y="2571840"/>
            <a:ext cx="29289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143680" y="2571840"/>
            <a:ext cx="3786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00040" y="4714920"/>
            <a:ext cx="43578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Стрелка вниз 9"/>
          <p:cNvSpPr/>
          <p:nvPr/>
        </p:nvSpPr>
        <p:spPr>
          <a:xfrm>
            <a:off x="1643040" y="107172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Стрелка вниз 10"/>
          <p:cNvSpPr/>
          <p:nvPr/>
        </p:nvSpPr>
        <p:spPr>
          <a:xfrm>
            <a:off x="6286680" y="135720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Стрелка вниз 11"/>
          <p:cNvSpPr/>
          <p:nvPr/>
        </p:nvSpPr>
        <p:spPr>
          <a:xfrm>
            <a:off x="164304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Стрелка вниз 12"/>
          <p:cNvSpPr/>
          <p:nvPr/>
        </p:nvSpPr>
        <p:spPr>
          <a:xfrm>
            <a:off x="578628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Стрелка вниз 13"/>
          <p:cNvSpPr/>
          <p:nvPr/>
        </p:nvSpPr>
        <p:spPr>
          <a:xfrm>
            <a:off x="1928880" y="528624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286240" y="4429080"/>
            <a:ext cx="3857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-in-the-pa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Стрелка вниз 15"/>
          <p:cNvSpPr/>
          <p:nvPr/>
        </p:nvSpPr>
        <p:spPr>
          <a:xfrm>
            <a:off x="6143760" y="500076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go/go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8534520" y="6324480"/>
            <a:ext cx="380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28624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m/is/a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as/we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43000" y="1928880"/>
            <a:ext cx="257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429160" y="20001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 / has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857160" y="4000680"/>
            <a:ext cx="35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/has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Стрелка вниз 10"/>
          <p:cNvSpPr/>
          <p:nvPr/>
        </p:nvSpPr>
        <p:spPr>
          <a:xfrm>
            <a:off x="142884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Стрелка вниз 11"/>
          <p:cNvSpPr/>
          <p:nvPr/>
        </p:nvSpPr>
        <p:spPr>
          <a:xfrm>
            <a:off x="628668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трелка вниз 12"/>
          <p:cNvSpPr/>
          <p:nvPr/>
        </p:nvSpPr>
        <p:spPr>
          <a:xfrm>
            <a:off x="6357960" y="271476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трелка вниз 13"/>
          <p:cNvSpPr/>
          <p:nvPr/>
        </p:nvSpPr>
        <p:spPr>
          <a:xfrm>
            <a:off x="1500120" y="257184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трелка вниз 14"/>
          <p:cNvSpPr/>
          <p:nvPr/>
        </p:nvSpPr>
        <p:spPr>
          <a:xfrm>
            <a:off x="1571760" y="4714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357880" y="4000680"/>
            <a:ext cx="32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all/will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ould/would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Стрелка вниз 16"/>
          <p:cNvSpPr/>
          <p:nvPr/>
        </p:nvSpPr>
        <p:spPr>
          <a:xfrm>
            <a:off x="6286680" y="457200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: “I live in New York.”</a:t>
            </a:r>
            <a:br>
              <a:rPr sz="5400"/>
            </a:b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 (that)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lived </a:t>
            </a: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New Yor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643960" cy="38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: “I am learning French.”</a:t>
            </a: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was learning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n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7:26:35Z</dcterms:created>
  <dc:creator>user</dc:creator>
  <dc:description/>
  <dc:language>en-US</dc:language>
  <cp:lastModifiedBy>Дом</cp:lastModifiedBy>
  <dcterms:modified xsi:type="dcterms:W3CDTF">2012-03-30T14:35:13Z</dcterms:modified>
  <cp:revision>63</cp:revision>
  <dc:subject/>
  <dc:title>Слайд 1</dc:title>
</cp:coreProperties>
</file>