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gif" ContentType="image/gif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14.gif" ContentType="image/gif"/>
  <Override PartName="/ppt/media/image31.jpeg" ContentType="image/jpeg"/>
  <Override PartName="/ppt/media/image25.jpeg" ContentType="image/jpeg"/>
  <Override PartName="/ppt/media/image2.png" ContentType="image/png"/>
  <Override PartName="/ppt/media/image22.gif" ContentType="image/gif"/>
  <Override PartName="/ppt/media/image15.png" ContentType="image/png"/>
  <Override PartName="/ppt/media/image17.jpeg" ContentType="image/jpeg"/>
  <Override PartName="/ppt/media/image12.gif" ContentType="image/gif"/>
  <Override PartName="/ppt/media/image3.png" ContentType="image/png"/>
  <Override PartName="/ppt/media/image4.png" ContentType="image/png"/>
  <Override PartName="/ppt/media/image23.png" ContentType="image/png"/>
  <Override PartName="/ppt/media/image24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38.gif" ContentType="image/gif"/>
  <Override PartName="/ppt/media/image41.png" ContentType="image/png"/>
  <Override PartName="/ppt/media/image43.jpeg" ContentType="image/jpeg"/>
  <Override PartName="/ppt/media/image44.jpeg" ContentType="image/jpeg"/>
  <Override PartName="/ppt/media/image9.png" ContentType="image/png"/>
  <Override PartName="/ppt/media/image11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19.jpeg" ContentType="image/jpeg"/>
  <Override PartName="/ppt/media/image42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jpeg" ContentType="image/jpeg"/>
  <Override PartName="/ppt/media/image8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5331-6F63-4267-8D9F-04E328903B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930C-CE06-4A27-85D0-F59AE05ABA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ADCA-D9C4-4B37-B2AC-EC89EDCF23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7F0-BBDA-4D24-999C-80F35E50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ADC-2818-40A6-9EDE-DF4D8C90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A50-989D-4413-B43E-3326D2F7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9BE-ECD2-4A4C-9B21-FB64F622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D13-4F36-4019-B12A-D619476F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078-1567-4119-806C-A9AB759D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3B2-45F0-4D2E-9F75-06C57D40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1B4-2F95-40CD-9311-56F35AE6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ADD-D94D-4B21-A79B-2EE832FE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E29-D5C2-4BF4-8C54-5754CC4F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41D-B16F-4E1F-BAFA-64BBADD2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F5C-1850-4582-A721-B8A3E8A5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5BA2-CD05-4293-8963-820CCDC94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aktivsb.ru/prod-1683.html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2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hyperlink" Target="http://images.google.ru/imgres?imgurl=http://goshabagpiper.narod.ru/balalaika0002.jpg&amp;imgrefurl=http://goshabagpiper.narod.ru/beginning.htm&amp;h=529&amp;w=335&amp;sz=66&amp;hl=ru&amp;start=2&amp;tbnid=SWexAlEUtMQctM:&amp;tbnh=132&amp;tbnw=84&amp;prev=/images%3Fq%3D%25D0%25B1%25D0%25B0%25D0%25BB%25D0%25B0%25D0%25BB%25D0%25B0%25D0%25B9%25D0%25BA%25D0%25B0%2B%25D0%25BA%25D0%25B0%25D1%2580%25D1%2582%25D0%25B8%25D0%25BD%25D0%25BA%25D0%25B0%26hl%3Dru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ru/imgres?imgurl=http://www.centrmag.ru/catalog/suv093964.jpg&amp;imgrefurl=http://www.centrmag.ru/book1162002.html&amp;h=400&amp;w=265&amp;sz=7&amp;hl=ru&amp;start=102&amp;tbnid=cBHZNj1o3y1KYM:&amp;tbnh=124&amp;tbnw=82&amp;prev=/images%3Fq%3D%25D0%25BA%25D0%25BE%25D0%25BB%25D0%25BE%25D0%25BA%25D0%25BE%25D0%25BB%25D1%258C%25D1%2587%25D0%25B8%25D0%25BA%2B%25D0%25BA%25D0%25B0%25D1%2580%25D1%2582%25D0%25B8%25D0%25BD%25D0%25BA%25D0%25B0%26start%3D100%26ndsp%3D20%26hl%3Dru%26newwindow%3D1%26sa%3DN" TargetMode="External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074318.mid" descr=""/>
          <p:cNvPicPr/>
          <p:nvPr/>
        </p:nvPicPr>
        <p:blipFill>
          <a:blip r:embed="rId2"/>
          <a:stretch/>
        </p:blipFill>
        <p:spPr>
          <a:xfrm>
            <a:off x="4857840" y="5429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3" descr=""/>
          <p:cNvPicPr/>
          <p:nvPr/>
        </p:nvPicPr>
        <p:blipFill>
          <a:blip r:embed="rId3"/>
          <a:stretch/>
        </p:blipFill>
        <p:spPr>
          <a:xfrm>
            <a:off x="0" y="1052640"/>
            <a:ext cx="9451800" cy="238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700360" y="3213000"/>
            <a:ext cx="3786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img11.nnm.ru/imagez/gallery/7/2/4/4/7/7244709d0d527f42f5a7013d12d96fb5_full.jpg"/>
          <p:cNvPicPr/>
          <p:nvPr/>
        </p:nvPicPr>
        <p:blipFill>
          <a:blip r:embed="rId4"/>
          <a:stretch/>
        </p:blipFill>
        <p:spPr>
          <a:xfrm>
            <a:off x="642960" y="321480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719 оповещатель звуковой (сирена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6720" y="3429000"/>
            <a:ext cx="174132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p-marketing.ru/grape/upload/29/Ris02grafofon.jpg"/>
          <p:cNvPicPr/>
          <p:nvPr/>
        </p:nvPicPr>
        <p:blipFill>
          <a:blip r:embed="rId7"/>
          <a:stretch/>
        </p:blipFill>
        <p:spPr>
          <a:xfrm flipH="1" rot="21440400">
            <a:off x="4066560" y="3789360"/>
            <a:ext cx="2097000" cy="25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6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785880" y="500040"/>
            <a:ext cx="807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говорка «нем как рыба»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казалась опровергнутой. Рыбы очень общительны. Звуки одних рыб напоминают свистки футбольных судей, других – стрельбу из винтовки или пистолета, а кое-кто шумит, словно мотоцикл, или издает хлопки. Одна лишь акула всегда мол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http://cat.tmn.fio.ru/works/40x/311/okun.jpg"/>
          <p:cNvPicPr/>
          <p:nvPr/>
        </p:nvPicPr>
        <p:blipFill>
          <a:blip r:embed="rId2"/>
          <a:stretch/>
        </p:blipFill>
        <p:spPr>
          <a:xfrm>
            <a:off x="4572000" y="392904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http://cat.tmn.fio.ru/works/40x/311/okun.jpg"/>
          <p:cNvPicPr/>
          <p:nvPr/>
        </p:nvPicPr>
        <p:blipFill>
          <a:blip r:embed="rId3"/>
          <a:stretch/>
        </p:blipFill>
        <p:spPr>
          <a:xfrm>
            <a:off x="1285920" y="3929040"/>
            <a:ext cx="3286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http://rusnauka.narod.ru/lib/phisic/destroy/gl7/Image237.gif"/>
          <p:cNvPicPr/>
          <p:nvPr/>
        </p:nvPicPr>
        <p:blipFill>
          <a:blip r:embed="rId2"/>
          <a:stretch/>
        </p:blipFill>
        <p:spPr>
          <a:xfrm>
            <a:off x="3193920" y="3981600"/>
            <a:ext cx="5396040" cy="25905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35712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– это продольная в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28760" y="2008080"/>
            <a:ext cx="84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перечны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олнами называются волны, в которых колебания происходят перпендикулярно направлению распространения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ьным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зываются волны, в которых колебания происходят вдоль направления распространения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486360" y="4357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перечная во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432360" y="56437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ьная во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D:\WINDOWS\Users\Aida\Рабочий стол\зВУКИ\gsl.gif"/>
          <p:cNvPicPr/>
          <p:nvPr/>
        </p:nvPicPr>
        <p:blipFill>
          <a:blip r:embed="rId3"/>
          <a:stretch/>
        </p:blipFill>
        <p:spPr>
          <a:xfrm>
            <a:off x="6000840" y="357120"/>
            <a:ext cx="2793960" cy="13575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3091680" y="1214280"/>
            <a:ext cx="18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чем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real-audio.ru/full-r2.jpg"/>
          <p:cNvPicPr/>
          <p:nvPr/>
        </p:nvPicPr>
        <p:blipFill>
          <a:blip r:embed="rId2"/>
          <a:stretch/>
        </p:blipFill>
        <p:spPr>
          <a:xfrm>
            <a:off x="428760" y="642960"/>
            <a:ext cx="4572000" cy="428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www.real-audio.ru/full-r3.jpg"/>
          <p:cNvPicPr/>
          <p:nvPr/>
        </p:nvPicPr>
        <p:blipFill>
          <a:blip r:embed="rId3"/>
          <a:stretch/>
        </p:blipFill>
        <p:spPr>
          <a:xfrm>
            <a:off x="5143680" y="642960"/>
            <a:ext cx="3375000" cy="42861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362240" y="5072040"/>
            <a:ext cx="64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лыбнись! Это тоже источники звука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www.tmn.fio.ru/works/89x/308/images/16f-i1.gif"/>
          <p:cNvPicPr/>
          <p:nvPr/>
        </p:nvPicPr>
        <p:blipFill>
          <a:blip r:embed="rId2"/>
          <a:stretch/>
        </p:blipFill>
        <p:spPr>
          <a:xfrm>
            <a:off x="3419640" y="2060640"/>
            <a:ext cx="2066760" cy="21603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500040" y="428760"/>
            <a:ext cx="83581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  ♦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чему нельзя услышать звон колокола, находящегося внутри сосуда, из которого откачан возду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785880" y="471492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распространяется в любой упругой среде – твердой, жидкой и газообразной, но не может распространяться в пространстве, где нет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357280" y="1214280"/>
          <a:ext cx="6215400" cy="3597480"/>
        </p:xfrm>
        <a:graphic>
          <a:graphicData uri="http://schemas.openxmlformats.org/drawingml/2006/table">
            <a:tbl>
              <a:tblPr/>
              <a:tblGrid>
                <a:gridCol w="3729240"/>
                <a:gridCol w="2486160"/>
              </a:tblGrid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орость звука, 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здух  (при 0</a:t>
                      </a:r>
                      <a:r>
                        <a:rPr b="1" lang="ru-RU" sz="2400" spc="-1" strike="noStrike" baseline="30000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Ге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Морская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Железо и ста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Стек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5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Тяжелая древес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5" name="Прямоугольник 5"/>
          <p:cNvSpPr/>
          <p:nvPr/>
        </p:nvSpPr>
        <p:spPr>
          <a:xfrm>
            <a:off x="428760" y="492912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корость звука зависит от свойств среды,  в которой распространяется звук.  В воздухе при повышении температуры на 1°С скорость звука возрастает приблизительно на 0,60 м/с.</a:t>
            </a:r>
            <a:r>
              <a:rPr b="1" lang="en-US" sz="2400" spc="-1" strike="noStrike">
                <a:solidFill>
                  <a:srgbClr val="0f217b"/>
                </a:solidFill>
                <a:latin typeface="Arial"/>
                <a:ea typeface="Times New Roman"/>
              </a:rPr>
              <a:t>  </a:t>
            </a:r>
            <a:r>
              <a:rPr b="1" lang="en-US" sz="2000" spc="-1" strike="noStrike">
                <a:solidFill>
                  <a:srgbClr val="0f21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428760" y="3571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Таблица 1.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Скорость звука в различных вещества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" descr="Playing_a_saw.jpg"/>
          <p:cNvPicPr/>
          <p:nvPr/>
        </p:nvPicPr>
        <p:blipFill>
          <a:blip r:embed="rId2"/>
          <a:stretch/>
        </p:blipFill>
        <p:spPr>
          <a:xfrm>
            <a:off x="642960" y="92880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Cellist.JPG"/>
          <p:cNvPicPr/>
          <p:nvPr/>
        </p:nvPicPr>
        <p:blipFill>
          <a:blip r:embed="rId3"/>
          <a:stretch/>
        </p:blipFill>
        <p:spPr>
          <a:xfrm>
            <a:off x="571680" y="2786040"/>
            <a:ext cx="1571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429000" y="2286000"/>
          <a:ext cx="2071800" cy="100008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6e9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14720" y="4500720"/>
          <a:ext cx="4786200" cy="1500120"/>
        </p:xfrm>
        <a:graphic>
          <a:graphicData uri="http://schemas.openxmlformats.org/drawingml/2006/table">
            <a:tbl>
              <a:tblPr/>
              <a:tblGrid>
                <a:gridCol w="2393640"/>
                <a:gridCol w="2392560"/>
              </a:tblGrid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6e9ea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1"/>
          <p:cNvSpPr/>
          <p:nvPr/>
        </p:nvSpPr>
        <p:spPr>
          <a:xfrm>
            <a:off x="500040" y="642960"/>
            <a:ext cx="835812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звук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 это волна, то для определения скорости звука, помимо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ожно воспользоваться известными  формул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"/>
              <p:cNvSpPr txBox="1"/>
              <p:nvPr/>
            </p:nvSpPr>
            <p:spPr>
              <a:xfrm>
                <a:off x="3929040" y="2357280"/>
                <a:ext cx="10717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2286000" y="4572000"/>
                <a:ext cx="2270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4714920" y="5000760"/>
                <a:ext cx="15001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0"/>
              <p:cNvSpPr txBox="1"/>
              <p:nvPr/>
            </p:nvSpPr>
            <p:spPr>
              <a:xfrm>
                <a:off x="2286000" y="4572000"/>
                <a:ext cx="2270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24000" y="1341360"/>
          <a:ext cx="8429400" cy="3363840"/>
        </p:xfrm>
        <a:graphic>
          <a:graphicData uri="http://schemas.openxmlformats.org/drawingml/2006/table">
            <a:tbl>
              <a:tblPr/>
              <a:tblGrid>
                <a:gridCol w="2214360"/>
                <a:gridCol w="1857240"/>
                <a:gridCol w="2301840"/>
                <a:gridCol w="2055960"/>
              </a:tblGrid>
              <a:tr h="4204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1193760" indent="-110160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о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бри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ары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че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анч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пни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ко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м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37" name="Прямоугольник 6"/>
          <p:cNvSpPr/>
          <p:nvPr/>
        </p:nvSpPr>
        <p:spPr>
          <a:xfrm>
            <a:off x="326880" y="40464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Таблиц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7" descr="823446_900x600.jpg"/>
          <p:cNvPicPr/>
          <p:nvPr/>
        </p:nvPicPr>
        <p:blipFill>
          <a:blip r:embed="rId2"/>
          <a:stretch/>
        </p:blipFill>
        <p:spPr>
          <a:xfrm>
            <a:off x="324000" y="4869000"/>
            <a:ext cx="2214360" cy="15714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8" descr="823452_900x675.jpg"/>
          <p:cNvPicPr/>
          <p:nvPr/>
        </p:nvPicPr>
        <p:blipFill>
          <a:blip r:embed="rId3"/>
          <a:stretch/>
        </p:blipFill>
        <p:spPr>
          <a:xfrm>
            <a:off x="2556000" y="4869000"/>
            <a:ext cx="2095200" cy="15714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9" descr="823418_900x604.jpg"/>
          <p:cNvPicPr/>
          <p:nvPr/>
        </p:nvPicPr>
        <p:blipFill>
          <a:blip r:embed="rId4"/>
          <a:stretch/>
        </p:blipFill>
        <p:spPr>
          <a:xfrm>
            <a:off x="6732720" y="4869000"/>
            <a:ext cx="2143080" cy="15714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0" descr="11 - WAP.jpg"/>
          <p:cNvPicPr/>
          <p:nvPr/>
        </p:nvPicPr>
        <p:blipFill>
          <a:blip r:embed="rId5"/>
          <a:stretch/>
        </p:blipFill>
        <p:spPr>
          <a:xfrm>
            <a:off x="4643280" y="4869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89760" y="281160"/>
            <a:ext cx="564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Частота колебаний крыльев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насекомых и птиц в полете, Г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Аристотель"/>
          <p:cNvPicPr/>
          <p:nvPr/>
        </p:nvPicPr>
        <p:blipFill>
          <a:blip r:embed="rId2"/>
          <a:stretch/>
        </p:blipFill>
        <p:spPr>
          <a:xfrm>
            <a:off x="401760" y="3011400"/>
            <a:ext cx="1549440" cy="1749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2000160" y="119916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Звуки начали изучать ещё в далёкой древности. Первые наблюдения по акустике были проведены в VI веке до нашей эры.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фагор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установил связь между высотой тона и длиной струны или трубы, издающе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IV в. до н.э.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истотель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ервый правильно представил, как распространяется звук в воздухе. Он сказал, что звучащее тело вызывает сжатие и разрежение воздуха, и объяснил эхо отражением звука от препят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XV веке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онардо да Винчи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формулировал принцип независимости звуковых волн от различ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434880" y="357120"/>
            <a:ext cx="83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изучения звуков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piplz.ru/photo/Pifagor.jpg"/>
          <p:cNvPicPr/>
          <p:nvPr/>
        </p:nvPicPr>
        <p:blipFill>
          <a:blip r:embed="rId3"/>
          <a:stretch/>
        </p:blipFill>
        <p:spPr>
          <a:xfrm>
            <a:off x="401760" y="1365120"/>
            <a:ext cx="1542960" cy="155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Сам Леонардо Да Винчи"/>
          <p:cNvPicPr/>
          <p:nvPr/>
        </p:nvPicPr>
        <p:blipFill>
          <a:blip r:embed="rId4"/>
          <a:stretch/>
        </p:blipFill>
        <p:spPr>
          <a:xfrm>
            <a:off x="401760" y="4870440"/>
            <a:ext cx="15494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714240" y="557208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ы живем в мире звуков, которые позволяют нам получать информацию о том, что происходит вок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714240" y="42876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ир, в котором мы живем, полон всевозможных звуков. Шелест листвы, раскаты грома, шум морского прибоя, свист ветра, звериное рычание, пение птиц... Эти звуки слышал еще древний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.computerbooks.ru/books/Music/Book.AdobeAfterEffect6/Glava_01/8.gif"/>
          <p:cNvPicPr/>
          <p:nvPr/>
        </p:nvPicPr>
        <p:blipFill>
          <a:blip r:embed="rId2"/>
          <a:stretch/>
        </p:blipFill>
        <p:spPr>
          <a:xfrm>
            <a:off x="2370240" y="2714760"/>
            <a:ext cx="4559040" cy="264312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7"/>
          <p:cNvSpPr/>
          <p:nvPr/>
        </p:nvSpPr>
        <p:spPr>
          <a:xfrm>
            <a:off x="500040" y="3143160"/>
            <a:ext cx="84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  представляет собой металлическую «рогатку», укрепленную на ящичке, у которого нет одной стенки. Если специальным резиновым молоточком ударить по «ножкам» камертона, то он будет издавать звук, называемый музыкальным т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Камертон"/>
          <p:cNvPicPr/>
          <p:nvPr/>
        </p:nvPicPr>
        <p:blipFill>
          <a:blip r:embed="rId2"/>
          <a:stretch/>
        </p:blipFill>
        <p:spPr>
          <a:xfrm>
            <a:off x="500040" y="428760"/>
            <a:ext cx="2495520" cy="2531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tfl.gif"/>
          <p:cNvPicPr/>
          <p:nvPr/>
        </p:nvPicPr>
        <p:blipFill>
          <a:blip r:embed="rId3"/>
          <a:stretch/>
        </p:blipFill>
        <p:spPr>
          <a:xfrm>
            <a:off x="3357720" y="500040"/>
            <a:ext cx="5072040" cy="25718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214720" y="564372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 был  изобретен в 18 веке для настройк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571680" y="5047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 распространяющиеся в упругих средах, газах, жидкостях и твердых телах механические колебания, воспринимаемые у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507672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(звуковые волны) </a:t>
            </a:r>
            <a:r>
              <a:rPr b="1" i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это упругие волны, способные вызвать у человека слуховые ощущения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3286080" y="2143080"/>
            <a:ext cx="5357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роцесс распространения звука также представляет собой волну. Впервые это предположение сделал знаменитый английский физик Исаак Ньютон (1643–17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ttp://www.clubmck.ru/pics/41_1171180515.jpg"/>
          <p:cNvPicPr/>
          <p:nvPr/>
        </p:nvPicPr>
        <p:blipFill>
          <a:blip r:embed="rId2"/>
          <a:stretch/>
        </p:blipFill>
        <p:spPr>
          <a:xfrm>
            <a:off x="928800" y="2357280"/>
            <a:ext cx="1643040" cy="20304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8" descr="http://class-fizika.narod.ru/9_class/28/lawyers_talking_md_wht.gif"/>
          <p:cNvPicPr/>
          <p:nvPr/>
        </p:nvPicPr>
        <p:blipFill>
          <a:blip r:embed="rId2"/>
          <a:stretch/>
        </p:blipFill>
        <p:spPr>
          <a:xfrm>
            <a:off x="7143840" y="357120"/>
            <a:ext cx="1487520" cy="12859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164232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00040" y="5574960"/>
            <a:ext cx="800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бщим во всех случаях является их происхождение. Колебания тел порождают колебания воздуха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01j.ru/imgs/solovey.bmp"/>
          <p:cNvPicPr/>
          <p:nvPr/>
        </p:nvPicPr>
        <p:blipFill>
          <a:blip r:embed="rId3"/>
          <a:stretch/>
        </p:blipFill>
        <p:spPr>
          <a:xfrm>
            <a:off x="7072200" y="2928960"/>
            <a:ext cx="1649520" cy="164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01j.ru/imgs/center.bmp"/>
          <p:cNvPicPr/>
          <p:nvPr/>
        </p:nvPicPr>
        <p:blipFill>
          <a:blip r:embed="rId4"/>
          <a:stretch/>
        </p:blipFill>
        <p:spPr>
          <a:xfrm>
            <a:off x="3643200" y="4071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www.sakhalin.ru/Region/korni/sea/Image/fakt/fakt-(52).jpg"/>
          <p:cNvPicPr/>
          <p:nvPr/>
        </p:nvPicPr>
        <p:blipFill>
          <a:blip r:embed="rId5"/>
          <a:stretch/>
        </p:blipFill>
        <p:spPr>
          <a:xfrm>
            <a:off x="2000160" y="3571920"/>
            <a:ext cx="1571760" cy="15476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Picture 2" descr="http://www.01j.ru/imgs/violin.bmp"/>
          <p:cNvPicPr/>
          <p:nvPr/>
        </p:nvPicPr>
        <p:blipFill>
          <a:blip r:embed="rId6"/>
          <a:stretch/>
        </p:blipFill>
        <p:spPr>
          <a:xfrm>
            <a:off x="357120" y="2786040"/>
            <a:ext cx="1714680" cy="1708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285840" y="1006920"/>
            <a:ext cx="8429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тественные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(голос, шелест листье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шум прибоя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усственные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(камертон, струна, колокол, мембран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0" descr="rojok_02.jpg"/>
          <p:cNvPicPr/>
          <p:nvPr/>
        </p:nvPicPr>
        <p:blipFill>
          <a:blip r:embed="rId7"/>
          <a:stretch/>
        </p:blipFill>
        <p:spPr>
          <a:xfrm>
            <a:off x="5429160" y="3500280"/>
            <a:ext cx="1587600" cy="157176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9" name="Рисунок 3" descr="http://cat.tmn.fio.ru/works/40x/311/bolki.jpg"/>
          <p:cNvPicPr/>
          <p:nvPr/>
        </p:nvPicPr>
        <p:blipFill>
          <a:blip r:embed="rId8"/>
          <a:stretch/>
        </p:blipFill>
        <p:spPr>
          <a:xfrm>
            <a:off x="3643200" y="2714760"/>
            <a:ext cx="1571760" cy="128592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0" name="Рисунок 2" descr="Ins26.gif"/>
          <p:cNvPicPr/>
          <p:nvPr/>
        </p:nvPicPr>
        <p:blipFill>
          <a:blip r:embed="rId9"/>
          <a:stretch/>
        </p:blipFill>
        <p:spPr>
          <a:xfrm>
            <a:off x="5572080" y="2571840"/>
            <a:ext cx="1238400" cy="9284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Ins26.gif"/>
          <p:cNvPicPr/>
          <p:nvPr/>
        </p:nvPicPr>
        <p:blipFill>
          <a:blip r:embed="rId10"/>
          <a:stretch/>
        </p:blipFill>
        <p:spPr>
          <a:xfrm flipH="1">
            <a:off x="2071800" y="2571840"/>
            <a:ext cx="1428480" cy="92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D:\WINDOWS\Users\Aida\Рабочий стол\зВУКИ\musician45.gif"/>
          <p:cNvPicPr/>
          <p:nvPr/>
        </p:nvPicPr>
        <p:blipFill>
          <a:blip r:embed="rId11"/>
          <a:stretch/>
        </p:blipFill>
        <p:spPr>
          <a:xfrm flipH="1">
            <a:off x="7714800" y="3714840"/>
            <a:ext cx="8305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physics.uni-altai.ru/journals/physics/2003/18/no18_02.gif"/>
          <p:cNvPicPr/>
          <p:nvPr/>
        </p:nvPicPr>
        <p:blipFill>
          <a:blip r:embed="rId2"/>
          <a:stretch/>
        </p:blipFill>
        <p:spPr>
          <a:xfrm>
            <a:off x="1143000" y="1214280"/>
            <a:ext cx="2928960" cy="1467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185652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428760" y="2304360"/>
            <a:ext cx="807228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возникают колебательные движения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 оттянуть и отпустить струну музыкального инструмента или стальную пластину, зажатую одним концом в тисках,  они будут издавать зв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ебания струны или металлической пластины передаются окружающему воздуху.  При отклонении пластины в левую сторону, она сжимает слои воздуха слева и разрежает слои воздуха, прилегающие к ней с правой стороны 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жатие и разрежение прилегающих к пластине слоев воздуха будет передаваться соседним сло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642960" y="42876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источники звука в загад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71680" y="3857760"/>
            <a:ext cx="3786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3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Аппарат небольш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 удивительный та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 друг мой дале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Говорить мне с ним лег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елефо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786200" y="3857760"/>
            <a:ext cx="3962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4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Два брат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одно донце стуча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 не просто бью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месте песню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раба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4572000" y="1143000"/>
            <a:ext cx="42148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2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астись корову на луж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тправила хозяй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весив маленький зво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Что это? Отгадай-к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олокольчи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428760" y="1143000"/>
            <a:ext cx="40719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1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 треугольник деревя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тянули три стру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руки взяли, заиграл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ги сами в пляс пош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лалайк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tbn0.google.com/images?q=tbn:g8Exwk-6l6FrGM:http://www.babynote.ru/ECatalog/images/esys_20060802182334.jpg"/>
          <p:cNvPicPr/>
          <p:nvPr/>
        </p:nvPicPr>
        <p:blipFill>
          <a:blip r:embed="rId2"/>
          <a:stretch/>
        </p:blipFill>
        <p:spPr>
          <a:xfrm>
            <a:off x="4859280" y="5229360"/>
            <a:ext cx="1542960" cy="1292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tbn0.google.com/images?q=tbn:SWexAlEUtMQctM:http://goshabagpiper.narod.ru/balalaika000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2565360"/>
            <a:ext cx="800280" cy="1257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tbn0.google.com/images?q=tbn:cBHZNj1o3y1KYM:http://www.centrmag.ru/catalog/suv09396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2421000"/>
            <a:ext cx="113832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tbn0.google.com/images?q=tbn:MzgTKnBG-RioTM:http://www.mobidom.ru/pics/photos/nokia_7360_big.jpg"/>
          <p:cNvPicPr/>
          <p:nvPr/>
        </p:nvPicPr>
        <p:blipFill>
          <a:blip r:embed="rId7"/>
          <a:stretch/>
        </p:blipFill>
        <p:spPr>
          <a:xfrm>
            <a:off x="755640" y="5229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ttp://www.tinylovetoys.ru/mobile/zvuk.jpg"/>
          <p:cNvPicPr/>
          <p:nvPr/>
        </p:nvPicPr>
        <p:blipFill>
          <a:blip r:embed="rId2"/>
          <a:stretch/>
        </p:blipFill>
        <p:spPr>
          <a:xfrm>
            <a:off x="2143080" y="2214720"/>
            <a:ext cx="2606760" cy="21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physics.uni-altai.ru/journals/physics/2003/18/no18_06.gif"/>
          <p:cNvPicPr/>
          <p:nvPr/>
        </p:nvPicPr>
        <p:blipFill>
          <a:blip r:embed="rId3"/>
          <a:stretch/>
        </p:blipFill>
        <p:spPr>
          <a:xfrm>
            <a:off x="4143240" y="3286080"/>
            <a:ext cx="1571760" cy="18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http://cat.tmn.fio.ru/works/40x/311/kamen.jpg"/>
          <p:cNvPicPr/>
          <p:nvPr/>
        </p:nvPicPr>
        <p:blipFill>
          <a:blip r:embed="rId4"/>
          <a:stretch/>
        </p:blipFill>
        <p:spPr>
          <a:xfrm>
            <a:off x="428760" y="2071800"/>
            <a:ext cx="1577880" cy="2149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ttp://www.igrosvit.com.ua/product_thumb.php?img=images/C5859_.jpg&amp;w=400&amp;h=406"/>
          <p:cNvPicPr/>
          <p:nvPr/>
        </p:nvPicPr>
        <p:blipFill>
          <a:blip r:embed="rId5"/>
          <a:stretch/>
        </p:blipFill>
        <p:spPr>
          <a:xfrm>
            <a:off x="1000080" y="4643280"/>
            <a:ext cx="1719360" cy="1744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5786280" y="36432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ебания стенок ста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сле удара молоточ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zvonica2.jpg"/>
          <p:cNvPicPr/>
          <p:nvPr/>
        </p:nvPicPr>
        <p:blipFill>
          <a:blip r:embed="rId6"/>
          <a:stretch/>
        </p:blipFill>
        <p:spPr>
          <a:xfrm>
            <a:off x="7500960" y="200016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8"/>
          <p:cNvSpPr/>
          <p:nvPr/>
        </p:nvSpPr>
        <p:spPr>
          <a:xfrm>
            <a:off x="6354720" y="22147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2152080" y="44290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грем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431640" y="421488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амерт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2"/>
          <p:cNvSpPr/>
          <p:nvPr/>
        </p:nvSpPr>
        <p:spPr>
          <a:xfrm>
            <a:off x="178524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57120" y="114588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Источник звука – это любое тело, совершающее колебания с частотой от 16 до 20000 Гц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4" descr="b2.jpg"/>
          <p:cNvPicPr/>
          <p:nvPr/>
        </p:nvPicPr>
        <p:blipFill>
          <a:blip r:embed="rId7"/>
          <a:stretch/>
        </p:blipFill>
        <p:spPr>
          <a:xfrm>
            <a:off x="3857760" y="464328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fano.jpg"/>
          <p:cNvPicPr/>
          <p:nvPr/>
        </p:nvPicPr>
        <p:blipFill>
          <a:blip r:embed="rId8"/>
          <a:stretch/>
        </p:blipFill>
        <p:spPr>
          <a:xfrm>
            <a:off x="6643800" y="4786200"/>
            <a:ext cx="1500120" cy="15494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9:55:32Z</dcterms:created>
  <dc:creator>Александрова З.В.</dc:creator>
  <dc:description/>
  <dc:language>en-US</dc:language>
  <cp:lastModifiedBy> Dima</cp:lastModifiedBy>
  <dcterms:modified xsi:type="dcterms:W3CDTF">2012-03-05T11:32:57Z</dcterms:modified>
  <cp:revision>137</cp:revision>
  <dc:subject/>
  <dc:title>Слайд 1</dc:title>
</cp:coreProperties>
</file>