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041-7E7C-457D-AAC4-17CE4E06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D8C-267F-4FC9-A940-FF7ECFFC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B8A3D-6F9C-4115-AE21-9B869B8C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FE27D-0750-44A4-826C-4ECB911A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5762C-29A3-4F5E-B46C-2ED3A6D6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62E16-5C34-4866-87F2-D2599D87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D0B66-1BB4-40CE-BCFA-A23DFE06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3E59A-A607-4FB7-B027-8DF6AF52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FD9FF-0499-4EA9-9C81-A126791C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9A6CB-27FD-4D25-83E7-0D2DFB5F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09228-687B-4228-99F8-FC5D1A03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10164-0BD0-4EF5-9968-3978F9BA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E68-7E38-44BC-9716-AC5FA141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95880-B4D2-47F5-9B29-6C7CB163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B940C-5E6D-4606-A00A-D83318FE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B252A-8C5E-4503-93F2-7AC968C9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9532F-16DA-4434-BA63-8CDE1AB4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0F481-FE94-4C0C-8094-D76DBF57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7E672-DD3B-43D2-8B0B-D46DD765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251DC-5BC9-4E59-8A5B-67BD123E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4A812-B8BA-45FF-B92F-F153B820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C9F8F-8D23-4415-A64F-6388FBE1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A4931-31A6-44D6-A2C7-6D4C71D1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B69-549C-4254-924E-E5D928EF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43476-1FD3-4D99-A5C0-C248F0AD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21B7-0B24-4A39-B025-DB82BA3E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F7CD-F086-4F71-AC33-DC9F4289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A061-58C0-46EC-B2C1-E81CFCF5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95F0-3180-4441-880A-6BC11F10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845F-0C22-446D-8A66-EAAA70C9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7E7F-522A-46B2-999D-C0C155DF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C34C-B1F9-403C-88E1-DABC51C5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78D-815F-40C4-BB31-63F9FA42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3B20-5B94-4A1C-9F13-8A3702EE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2606-CD24-42C2-8082-75B0B5E5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3BC3-EBEB-43E6-BC5D-5DB9E584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6E8D-D1A7-4D28-803A-5D5C967E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BFCC-91ED-4322-A868-DA5DC212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F689F-AEB4-4FAF-A0D2-644E826F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A9C8-D042-4560-9211-72454280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9D686-0BEC-4F94-914F-0FC5BFC2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8D07-1010-4345-8545-8F18D47D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E49DA-CEB6-47E1-9268-44EDF562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089-2E9B-477C-8C4F-745D46CD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D0AD7-B8D2-4430-92B2-C622520B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C34FF-9446-457E-8B2E-05C1019A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98E97-B479-40A3-8591-139E564B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C0B0D-2AAC-4B45-959F-2553B831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E6D50-CFA5-4886-8023-5EC74B4B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2609E-F2C3-47A6-9889-54582CE8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35058-70F5-49A2-8C1B-AC97C6CB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08CABF-A5AF-431A-9C6A-B3F22E55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10628B-9E9F-4684-BF4B-709988ED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FB3CA-C2D2-49F1-9683-BD715F16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8FB-EE0C-4015-9242-3A650EA8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220405-3905-4049-A09B-FAEE2146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2ABEA-2404-44CA-B753-D0401E40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CBEACE-F3FC-4867-ADD1-15B2C2C6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01249-4FAF-48B6-9A1C-A84F4D2B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0A467-D444-484F-BA1B-2A56ECF1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4826A0-F1B2-4908-A285-95EBD213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85A9B8-7BB3-471E-9F3F-51F0B4A5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FB9C6-782B-460E-9D33-869CEEE0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85D842-9513-4C6F-866E-70A8B093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EB92A-0015-408A-9513-BFAF2C20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0F6-51B9-4C50-B1EE-1C06E4E7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16DBC-A49A-4748-90CA-B58FB241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ADD08-A742-4BDA-9F4D-A20AE56E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A92EB-3342-43A4-BA2C-2B9FA584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A0793-822A-46F7-8DC9-6B9DA669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3830A-93F1-459E-9E6D-583CD399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6719E-34F0-4569-A148-D9F61BAC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58867-2C28-4603-973F-3C1F0918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3D24C-BFE2-4507-9D80-FC21004D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A19D6-9A6D-4F7E-BE56-1F9BB106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64BEF-8B0B-4D25-B3B0-68C95E70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0B9-878A-45AB-8727-84AE9084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71954-822D-4114-812B-5BA79F35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CD3F5-AD51-4F25-9FAB-48CFCC7E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5CDE0-C790-46C8-9184-05D12846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897FF-30EF-45A0-9B45-1B6EF556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7566A-FE40-4446-9DEF-3F286529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BC268-E33F-4222-A90A-3B4CB913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FE2CA-B230-48A3-A70E-953BBD30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F4165-63BE-4BE3-8E80-4A4B6C73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9630C-297A-4C8B-B064-AC50F92A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27ED5-9E4E-4898-8A41-C3878295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E81-C596-4520-B830-18822989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62F98-B936-494D-845C-D31B160C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2ED68-FAAD-4F1A-BCA0-739A4B7D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95243-5C00-4637-8D88-2338ECBE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7C37C-90CC-4AFB-9243-F18FBE5C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2ED3A-9495-485A-A617-25FFF93A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CC3FA-7BCD-435B-8C35-BF4835A6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820DF-BA90-4273-B730-1CC25B45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FF786-B450-49FF-B785-FE302698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99B29-80BB-4F59-8EB5-F539E804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E9F67-3D98-42EC-8DAF-4C146EBC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2E9-2ACC-4892-A97E-2CECE0DD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4FDC0-699A-47A7-A6F0-94C4A0CC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7FE96-377E-4DA2-B362-E57CED72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3F9E6-D4BA-41D7-B06B-A32650D4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C184B-2A1F-4FA0-960D-50BA684C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C8031-9214-403C-9423-ADE74E81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0C2BA-491A-4121-8F25-D12C08D1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9CA48-EBFC-491B-ACEF-7A5313D7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BF936-B469-4A7E-85C3-F7AAC8EB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690CD-9B49-4841-8B32-860D9DF1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D7A10-8F0B-4721-AFE8-E27B71D5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F65-E922-4985-9CF2-1FC90CA7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4EF69-2C8A-4F30-B624-C85D3517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DD5EC-B806-4852-A834-E966D3A2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2E46A-2354-4E4E-A968-93F0D030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AB27A-1826-4C1C-B603-F7FA4C67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C038E-DDA3-4773-BB5E-DF2CB7D9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FBC7F-D82E-44F4-8167-70447A17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6C44E-E53C-4124-9BCE-37B712FB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A434F-F8AD-40FD-8D2D-ED4B6018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BB054-5498-4626-92B4-4C865393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DC70C-DD85-4181-8267-A86D37A7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5CFE-43B0-440F-8C4B-9718E746FB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9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FA7E-83C0-4209-AD28-FBA2FBD76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9EB7-AFB3-42A2-AEB0-F013D195A8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082C-B6D6-444D-88AB-13DDEB2E9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1381-0A39-4BDC-8BC1-252BF7156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7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5451-9497-42E9-B1DF-080207AC9F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3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87AB-608A-41BE-8471-8458738492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8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B8EB-668D-47FF-AD06-74E684AD17A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6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8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C1FB-4585-4DD6-B16B-344613E7C68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81D7-FD26-4CE1-8644-2160438E7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403280" y="573408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826920" y="836640"/>
            <a:ext cx="7274160" cy="33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Қазақтың ұлттық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йында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1" i="1" lang="kk-KZ" sz="7200" spc="-1" strike="noStrike">
                <a:solidFill>
                  <a:srgbClr val="f7d47d"/>
                </a:solidFill>
                <a:latin typeface="Arial"/>
              </a:rPr>
              <a:t>Омпы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256360" cy="566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i="1" lang="kk-KZ" sz="6600" spc="-1" strike="noStrike">
                <a:solidFill>
                  <a:srgbClr val="ffffff"/>
                </a:solidFill>
                <a:latin typeface="Tahoma"/>
              </a:rPr>
              <a:t>Атбақыл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2484360" y="1773360"/>
            <a:ext cx="3743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116000" y="1390680"/>
            <a:ext cx="71280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6003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4427640" cy="32846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4"/>
          <a:stretch/>
        </p:blipFill>
        <p:spPr>
          <a:xfrm>
            <a:off x="4427640" y="3532320"/>
            <a:ext cx="47163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Сөзді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й сүйегі - положение альчик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Үйіру - сбрасыва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Ұпай - очк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Кезек - очеред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Тимей қалса - если не попад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с–уыс - пригорошн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зғап кетсе  - если сдвин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Басқа асыққа соғылса - если заденет другой альчи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Бір-біріне тимесе - если не попадет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Кестемен жұмыс істейді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1645920"/>
                <a:gridCol w="1645920"/>
                <a:gridCol w="1645560"/>
                <a:gridCol w="1645920"/>
                <a:gridCol w="1645920"/>
              </a:tblGrid>
              <a:tr h="45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алалар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н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н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оялған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тың түр түрінен айтылуы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йынның бұзылуы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468360" y="2205000"/>
            <a:ext cx="8207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1280" y="256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4-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26836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0 -1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24360" y="25574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Хан - 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435640" y="2205000"/>
            <a:ext cx="15843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Ш</a:t>
            </a: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ік шігімен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үк бүгі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Тәйке тәйке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Алшы алшы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164360" y="2349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164360" y="2276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020000" y="2276640"/>
            <a:ext cx="1655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асқа асыққа соғылс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ір біріне тимес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асқа асықты қозғап кетс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Үй тапсырма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2800" spc="-1" strike="noStrike">
                <a:solidFill>
                  <a:srgbClr val="eaeaea"/>
                </a:solidFill>
                <a:latin typeface="Courier New"/>
              </a:rPr>
              <a:t>90 бетте мәтінді оқып, әңгімеле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9:33:07Z</dcterms:created>
  <dc:creator>Admin</dc:creator>
  <dc:description/>
  <dc:language>en-US</dc:language>
  <cp:lastModifiedBy>13</cp:lastModifiedBy>
  <dcterms:modified xsi:type="dcterms:W3CDTF">2009-02-05T08:47:53Z</dcterms:modified>
  <cp:revision>6</cp:revision>
  <dc:subject/>
  <dc:title>Қазақ ұлттық  ойындары.</dc:title>
</cp:coreProperties>
</file>