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A519-007B-47E1-8254-8404C1192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B8FC-7FC6-4AC5-B120-B45C54514099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A91-26D7-4849-BE15-0A07C560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988-4BC6-493B-820A-BF5BE4B3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F76-ABF9-4DAE-ADAA-E0866828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D16-0BFE-43BA-AEB0-C886C969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C6A3-F911-4873-8039-F17FDFB2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2E1C-542F-45FF-AF03-53550FFE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BD35-3C24-48FE-B510-E2609023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021B-1A1B-42EB-A447-D6504FBB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AEB6-6683-4D54-8927-5D6A4198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E3C0-7142-4B56-A4A3-1768D866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B58C-CFB1-4000-8656-23B8F7E7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48B-9A5F-44DD-971A-B6A83CAD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60FA-1C11-45D9-BD83-AA915B28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ADE5-AAAF-4565-9AB5-69D8F359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8F4F-94A7-4D31-9B8D-4F1D44EE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7DAE-D759-43B7-8046-9697B8A6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93F2-BBFD-4699-8B82-5A58058C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6F4-CC9F-4283-A0DA-208B4A5E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6EC-50EA-438D-8CEB-979D80CB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065-2289-4FD7-B1DD-12D0C2E5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354-747C-4B0E-977E-BC3CB526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239-B112-4B4A-B05D-3BF38F00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A6F-FFDE-42FF-8443-231F2975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F3F-135E-47E3-BF5B-B698BD13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FB23-17CB-4B17-8FD0-8B25D4670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6" name="Picture 25" descr="flagukleft"/>
          <p:cNvPicPr/>
          <p:nvPr/>
        </p:nvPicPr>
        <p:blipFill>
          <a:blip r:embed="rId2"/>
          <a:srcRect l="4850" t="1076" r="50740" b="2148"/>
          <a:stretch/>
        </p:blipFill>
        <p:spPr>
          <a:xfrm>
            <a:off x="0" y="0"/>
            <a:ext cx="47991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3" descr="flaguk3"/>
          <p:cNvPicPr/>
          <p:nvPr/>
        </p:nvPicPr>
        <p:blipFill>
          <a:blip r:embed="rId2"/>
          <a:srcRect l="5952" t="45" r="8551" b="21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BAB2-9AC3-4FDC-A2C0-D596306BB204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Text Box 58"/>
          <p:cNvSpPr/>
          <p:nvPr/>
        </p:nvSpPr>
        <p:spPr>
          <a:xfrm>
            <a:off x="898560" y="301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Text Box 60"/>
          <p:cNvSpPr/>
          <p:nvPr/>
        </p:nvSpPr>
        <p:spPr>
          <a:xfrm>
            <a:off x="0" y="1914480"/>
            <a:ext cx="946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олодежный сленг в английском языке 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Rectangle 63"/>
          <p:cNvSpPr/>
          <p:nvPr/>
        </p:nvSpPr>
        <p:spPr>
          <a:xfrm>
            <a:off x="2629080" y="24444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Ш № 13 г.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авлодара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Rectangle 66"/>
          <p:cNvSpPr/>
          <p:nvPr/>
        </p:nvSpPr>
        <p:spPr>
          <a:xfrm>
            <a:off x="460800" y="4473720"/>
            <a:ext cx="50360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ченица 8 «А» класса Ермагамбет Фэридэ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Руководитель: учитель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глийского языка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ейсекеева И. А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Rectangle 67"/>
          <p:cNvSpPr/>
          <p:nvPr/>
        </p:nvSpPr>
        <p:spPr>
          <a:xfrm>
            <a:off x="3673800" y="640080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19"/>
                </a:solidFill>
                <a:latin typeface="Arial"/>
              </a:rPr>
              <a:t>2012 г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6000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263520" y="438480"/>
            <a:ext cx="88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93939"/>
                </a:solidFill>
                <a:latin typeface="Comic Sans MS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393939"/>
                </a:solidFill>
                <a:latin typeface="Comic Sans MS"/>
                <a:ea typeface="Times New Roman"/>
              </a:rPr>
              <a:t>Список наиболее употребляемых слов в речи школьников СОШ № 13 г. Павлодара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95360" y="1174680"/>
          <a:ext cx="7261200" cy="5537160"/>
        </p:xfrm>
        <a:graphic>
          <a:graphicData uri="http://schemas.openxmlformats.org/drawingml/2006/table">
            <a:tbl>
              <a:tblPr/>
              <a:tblGrid>
                <a:gridCol w="2484360"/>
                <a:gridCol w="2482920"/>
                <a:gridCol w="2293920"/>
              </a:tblGrid>
              <a:tr h="28260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лово в русском язык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ексическое значени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Английское слов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бойфренд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Друг, парень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boyfriend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’</a:t>
                      </a: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е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се в порядк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OK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ат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ечеринк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party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герл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Девочка, девушк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girl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анч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Обед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lunch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уикенд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ыходны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weekend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ха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риве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hi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ул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руто, прикольн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cool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ау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упер, блистательн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wow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ба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ок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by</a:t>
                      </a: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Ай</a:t>
                      </a: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’</a:t>
                      </a: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л би бэк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Я вернусь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I’ll be back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Мэйк ап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макияж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Make up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оппинг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оход по магазинам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opping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ё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Черт!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it 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форэв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навсегд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Forever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фейс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иц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Face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респек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Уважение, уважать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Respect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рейз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умашедши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Crazy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орр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Извини, прост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orry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ат ап 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Заткнись 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ut up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у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блин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oot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80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фул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дурак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fool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advTm="85000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30320" y="45684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939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393939"/>
                </a:solidFill>
                <a:latin typeface="Comic Sans MS"/>
              </a:rPr>
              <a:t>Результаты анкетирования     учащихся СОШ № 13 г. Павлодара</a:t>
            </a: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321920" y="1599840"/>
            <a:ext cx="7364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Как часто Вы употребляете англоязычный сленг в своей речи?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1" name="Диаграмма 3" descr=""/>
          <p:cNvPicPr/>
          <p:nvPr/>
        </p:nvPicPr>
        <p:blipFill>
          <a:blip r:embed="rId1"/>
          <a:stretch/>
        </p:blipFill>
        <p:spPr>
          <a:xfrm>
            <a:off x="1584360" y="3097080"/>
            <a:ext cx="6827760" cy="3432240"/>
          </a:xfrm>
          <a:prstGeom prst="rect">
            <a:avLst/>
          </a:prstGeom>
          <a:ln w="0">
            <a:noFill/>
          </a:ln>
        </p:spPr>
      </p:pic>
    </p:spTree>
  </p:cSld>
  <p:transition advTm="40000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468080" y="1201680"/>
            <a:ext cx="721836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Где Вы наиболее часто употребляете этот сленг?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3" name="Диаграмма 3" descr=""/>
          <p:cNvPicPr/>
          <p:nvPr/>
        </p:nvPicPr>
        <p:blipFill>
          <a:blip r:embed="rId1"/>
          <a:stretch/>
        </p:blipFill>
        <p:spPr>
          <a:xfrm>
            <a:off x="858960" y="2365200"/>
            <a:ext cx="8029440" cy="4211640"/>
          </a:xfrm>
          <a:prstGeom prst="rect">
            <a:avLst/>
          </a:prstGeom>
          <a:ln w="0">
            <a:noFill/>
          </a:ln>
        </p:spPr>
      </p:pic>
    </p:spTree>
  </p:cSld>
  <p:transition advTm="12000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358640" y="325440"/>
            <a:ext cx="73278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Знаете ли Вы значения 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англоязычного сленга,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которые Вы употребляете в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своей речи?                     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5" name="Диаграмма 3" descr=""/>
          <p:cNvPicPr/>
          <p:nvPr/>
        </p:nvPicPr>
        <p:blipFill>
          <a:blip r:embed="rId1"/>
          <a:stretch/>
        </p:blipFill>
        <p:spPr>
          <a:xfrm>
            <a:off x="1011240" y="2766960"/>
            <a:ext cx="7840800" cy="3664080"/>
          </a:xfrm>
          <a:prstGeom prst="rect">
            <a:avLst/>
          </a:prstGeom>
          <a:ln w="0">
            <a:noFill/>
          </a:ln>
        </p:spPr>
      </p:pic>
    </p:spTree>
  </p:cSld>
  <p:transition advTm="11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176480" y="909720"/>
            <a:ext cx="771840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Почему Вы употребляете сленг в своей речи?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7" name="Диаграмма 3" descr=""/>
          <p:cNvPicPr/>
          <p:nvPr/>
        </p:nvPicPr>
        <p:blipFill>
          <a:blip r:embed="rId1"/>
          <a:stretch/>
        </p:blipFill>
        <p:spPr>
          <a:xfrm>
            <a:off x="1122480" y="2548080"/>
            <a:ext cx="7399080" cy="415116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56880" y="288720"/>
            <a:ext cx="818676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Где Вы впервые 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столкнулись с этими 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словами?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9" name="Диаграмма 3" descr=""/>
          <p:cNvPicPr/>
          <p:nvPr/>
        </p:nvPicPr>
        <p:blipFill>
          <a:blip r:embed="rId1"/>
          <a:stretch/>
        </p:blipFill>
        <p:spPr>
          <a:xfrm>
            <a:off x="1603440" y="2328840"/>
            <a:ext cx="7321320" cy="391968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12480" y="361800"/>
            <a:ext cx="747396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Слышали ли Вы в речи своих      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сверстников молодежный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англоязычный сленг?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31" name="Диаграмма 3" descr=""/>
          <p:cNvPicPr/>
          <p:nvPr/>
        </p:nvPicPr>
        <p:blipFill>
          <a:blip r:embed="rId1"/>
          <a:stretch/>
        </p:blipFill>
        <p:spPr>
          <a:xfrm>
            <a:off x="1536840" y="2255760"/>
            <a:ext cx="7156440" cy="428472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76480" y="252000"/>
            <a:ext cx="75103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Укажите наиболее часто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употребляемые слова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английского сленга в вашей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речи?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33" name="Диаграмма 3" descr=""/>
          <p:cNvPicPr/>
          <p:nvPr/>
        </p:nvPicPr>
        <p:blipFill>
          <a:blip r:embed="rId1"/>
          <a:stretch/>
        </p:blipFill>
        <p:spPr>
          <a:xfrm>
            <a:off x="2193840" y="2584440"/>
            <a:ext cx="6181920" cy="4280040"/>
          </a:xfrm>
          <a:prstGeom prst="rect">
            <a:avLst/>
          </a:prstGeom>
          <a:ln w="0">
            <a:noFill/>
          </a:ln>
        </p:spPr>
      </p:pic>
    </p:spTree>
  </p:cSld>
  <p:transition advTm="47000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1440000" y="457920"/>
            <a:ext cx="750096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  <a:ea typeface="Times New Roman"/>
              </a:rPr>
              <a:t>    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Проведенное исследование показало, что сленг является экспрессивной и эмоционально - окрашенной лексикой, что он характеризуется фамильярной окраской и делится на две группы: общеупотребительный и общеизвестный сленг, а также что жаргон молодежи имеет большое разнообразие оттенков и что многие слова непонятны для основной массы населения.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Что касается условий функционирования, то нами было выявлено, что школьники употребляют сленг в повседневной жизни для обозначения разных специальностей, для названия учебных предметов, относящихся к студенческой жизни, для обозначения различных зданий и аудиторий. 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Сленг играет очень важную роль в жизни молодежи, ее жизнь сегодня уже немыслима без сленга, который он не только помогает молодым людям общаться между собой, но и облегчает процесс усвоения новой иностранной лексики, расширяя словарный запас.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91000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:\Users\Ильмира\Desktop\картинки англ. яз\time-to-say-good-bye.jpg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p:transition advTm="25000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Актуальность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12480" y="982440"/>
            <a:ext cx="74739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c4c4c"/>
                </a:solidFill>
                <a:uFillTx/>
                <a:latin typeface="Comic Sans MS"/>
              </a:rPr>
              <a:t>Молодёжный сленг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– одно из составляющих процесса развития языка, его пополнения, его многообразия. Ведь язык не может развиваться сам по себе, обладая мистической и мифической субъектностью. Его развивают. Он вбирает в себя другие языки за счет коммуникации в наш более технический век. И, безусловно, язык формируют поэты и писатели, мастера слова. Молодёжный сленг должны знать все, кто хочет более активно, на хорошем уровне взаимодействовать с окружающим нас миром, а значит, хорошо владеть основным международным языком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40000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58640" y="799920"/>
            <a:ext cx="7327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Произвести комплексное описание молодёжного сленга как одной из подсистем современного русского и английского языка, выявить его дифференцирующие признаки, описать особенности употребления сленгизмов, установить значение сленговых единиц и выражений,  изучить , на сколько широко используется англоязычный </a:t>
            </a:r>
            <a:r>
              <a:rPr b="1" i="1" lang="ru-RU" sz="1800" spc="-1" strike="noStrike">
                <a:solidFill>
                  <a:srgbClr val="4c4c4c"/>
                </a:solidFill>
                <a:latin typeface="Comic Sans MS"/>
              </a:rPr>
              <a:t>сленг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в речи школьников</a:t>
            </a:r>
            <a:r>
              <a:rPr b="1" i="1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и выявить наиболее часто используемый сленг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Выше обозначенная цель была реализована через следующие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Задачи: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определить объём и содержание понятия "сленг";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выявить место молодёжного сленга в системе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современного русского и английского языков;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рассмотреть различные виды сленга, привести примеры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употребления сленгизмов и предоставить адекватный перевод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35000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Объект исследования</a:t>
            </a:r>
            <a:r>
              <a:rPr b="1" lang="ru-RU" sz="4400" spc="-1" strike="noStrike">
                <a:solidFill>
                  <a:srgbClr val="39393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2480" y="982440"/>
            <a:ext cx="747396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молодежный сленг как составная часть более широкого образования в современном английском языке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Предмет исследования: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Словообразовательный, лексико – фразеологический и стилистический уровни молодежного сленга, а также словосочетания, фразеологизмы, употребляющиеся для экспрессивного обозначение предметов, понятий, признаков действий и состояний, связанных с учебной  деятельностью, общекультурными интересами и бытом современной молодежи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9000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Гипотеза: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76120" y="1599840"/>
            <a:ext cx="7667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               </a:t>
            </a: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Если изучить сленгизмы, пришедшие из английского                                                                                                               языка в русский язык, тогда можно выявить способы образования сленгизмов, а также пути пополнения словарного запаса школьника.    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4c4c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Методы исследования: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анкетирование; 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наблюдение;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сравнительный анализ;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обобщение. 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c4c4c"/>
                </a:solidFill>
                <a:latin typeface="Comic Sans MS"/>
              </a:rPr>
              <a:t> 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21000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:\Users\Ильмира\Desktop\картинки англ. яз\English_Songs_For_Kids.jpg"/>
          <p:cNvPicPr/>
          <p:nvPr/>
        </p:nvPicPr>
        <p:blipFill>
          <a:blip r:embed="rId1"/>
          <a:stretch/>
        </p:blipFill>
        <p:spPr>
          <a:xfrm>
            <a:off x="5907240" y="3614760"/>
            <a:ext cx="3260520" cy="3005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Молодёжная культура 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49200" y="1417320"/>
            <a:ext cx="7437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c4c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4c4c4c"/>
                </a:solidFill>
                <a:latin typeface="Comic Sans MS"/>
              </a:rPr>
              <a:t>это свой, ни на что не похожий мир. Он отличается от взрослого своей экспрессивной, порой даже резкой и грубой, манерой выражать мысли, который могут употреблять только молодые люди, смелые и решительные, создавшие свой неповторимый мир. Как следствие этого - возникновение молодёжного сленга.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27000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85920" y="507600"/>
            <a:ext cx="7400880" cy="63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c4c4c"/>
                </a:solidFill>
                <a:uFillTx/>
                <a:latin typeface="Comic Sans MS"/>
              </a:rPr>
              <a:t>Сленг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- это не литературная лексика, т.е. это слова и сочетания, находящиеся за пределами литературного английского (Standard English), он возник и употребляется прежде всего в устной речи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Это эмоционально окрашенная лексика;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Фамильярная эмоциональная окраска многих слов и выражений сленга отличается большим разнообразием оттенков (шутливая, ироническая, насмешливая, пренебрежительная, презрительная, грубая и даже вульгарная);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Многие слова и выражения сленга непонятны или малопонятны для основной массы населения (особенно в период их возникновения и перехода в более широкую сферу употребления), потому что они, прежде всего, связаны со своеобразной формой выражения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Сленг - это живой, подвижный язык, который идет в ногу со временем и реагирует на любые перемены в жизни страны и общества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49000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Факторы, влияющие на развитие сленга 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85920" y="1599840"/>
            <a:ext cx="7400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Развитие компьютерных технологий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Современная музыкальная культура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Английский язык, немецкий и французский язык   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компьютерные игры, видео, мультфильмы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хобби и увлечения молодых людей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3" name="Picture 2" descr="C:\Users\Ильмира\Desktop\картинки англ. яз\animated_pencil_3.gif"/>
          <p:cNvPicPr/>
          <p:nvPr/>
        </p:nvPicPr>
        <p:blipFill>
          <a:blip r:embed="rId1"/>
          <a:stretch/>
        </p:blipFill>
        <p:spPr>
          <a:xfrm>
            <a:off x="7153200" y="4925880"/>
            <a:ext cx="1533600" cy="1533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advTm="18000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Ильмира\Desktop\картинки англ. яз\85716532_KopiyalogoSpeakEnglish1283x300.jpg"/>
          <p:cNvPicPr/>
          <p:nvPr/>
        </p:nvPicPr>
        <p:blipFill>
          <a:blip r:embed="rId1"/>
          <a:stretch/>
        </p:blipFill>
        <p:spPr>
          <a:xfrm>
            <a:off x="5850000" y="4560840"/>
            <a:ext cx="1968480" cy="2087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Роль молодежного сленга в английском языке 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32080" y="1599840"/>
            <a:ext cx="7254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Молодежный сленг в английском языке играет достаточно важную роль, которая определяет развитие всего языка в целом, его своеобразие  и отличие от других языков мира. Кроме этого молодежный сленг в английском языке позволяет общаться совершенно на новом уровне, не используя классических конструкций предложений и грамматических основ. А это говорит о том, что молодежь может общаться более раскованно и понимать друг друга  с полуслова. Надо также отметить, что сленг постоянно совершенствуется  и развивается, появляются новые выражения, которые быстро становятся популярными и активно используются  в речи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47000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Ильмира</cp:lastModifiedBy>
  <dcterms:modified xsi:type="dcterms:W3CDTF">2012-10-31T10:13:36Z</dcterms:modified>
  <cp:revision>164</cp:revision>
  <dc:subject/>
  <dc:title>British Flag powerpoint template</dc:title>
</cp:coreProperties>
</file>