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D1C-AAE9-4C03-AA7E-D98D8307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1AE6-B305-4ADA-BD75-D4B451BB9848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3E1-1B03-4A11-8882-915CCF47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4D0-7611-4A40-9541-C0CB8D1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6B3-1DC5-42B5-A80F-2816FF36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7BA-B11B-4B0D-846C-C968F624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EF61-D337-4376-A46F-4256F595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0EB0-1015-4797-9D0B-CB63DBD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DA81-2994-4547-9904-EFE8572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D2CB-01B8-4CA2-BA26-A75C876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ED2F-8861-45EB-8E57-62AA2AA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9EE-ACFF-4391-A0DC-3D1DF1C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0398-B54E-4D62-A77D-3B990B1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7C-1A14-41E8-8AEC-F370D23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FEA-9EA9-4B00-B21D-02B77A4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B6A5-5980-44C7-803D-9441326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7B4-03DA-49DB-BD20-CDF5916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6BD-ADFC-4BF7-A3BD-FADC9A5D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B47-D425-4AA0-9F87-6A2E36B0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CED-8132-4899-AA76-F72ECD1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61C-B6C5-424F-AEC6-D26E64AA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088-B8FD-4E25-B387-6F3F1DD1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7C5-B289-484D-81E8-418FBCD8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E2C-F967-4FB9-9DB7-EE87D30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223-2527-4E7D-B551-92D9A0F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934-B17A-4F4F-A608-48C4A6B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49C3-0239-4E33-BB14-6F26D1FF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" name="Picture 25" descr="flagukleft"/>
          <p:cNvPicPr/>
          <p:nvPr/>
        </p:nvPicPr>
        <p:blipFill>
          <a:blip r:embed="rId2"/>
          <a:srcRect l="4850" t="1076" r="50740" b="2148"/>
          <a:stretch/>
        </p:blipFill>
        <p:spPr>
          <a:xfrm>
            <a:off x="0" y="0"/>
            <a:ext cx="4799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flaguk3"/>
          <p:cNvPicPr/>
          <p:nvPr/>
        </p:nvPicPr>
        <p:blipFill>
          <a:blip r:embed="rId2"/>
          <a:srcRect l="5952" t="45" r="8551" b="21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F65-DA58-42C3-BDA6-1D39B297D54F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0" y="1914480"/>
            <a:ext cx="94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жный сленг в английском языке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2629080" y="24444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 № 13 г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влодар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6"/>
          <p:cNvSpPr/>
          <p:nvPr/>
        </p:nvSpPr>
        <p:spPr>
          <a:xfrm>
            <a:off x="460800" y="4473720"/>
            <a:ext cx="5036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ница 8 «А» класса Ермагамбет Фэридэ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Руководитель: учитель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глийского язык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ейсекеева И. 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Rectangle 67"/>
          <p:cNvSpPr/>
          <p:nvPr/>
        </p:nvSpPr>
        <p:spPr>
          <a:xfrm>
            <a:off x="3673800" y="640080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2012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6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63520" y="438480"/>
            <a:ext cx="88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Список наиболее употребляемых слов в речи школьников СОШ № 13 г. Павлодара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95360" y="1174680"/>
          <a:ext cx="7261200" cy="5537160"/>
        </p:xfrm>
        <a:graphic>
          <a:graphicData uri="http://schemas.openxmlformats.org/drawingml/2006/table">
            <a:tbl>
              <a:tblPr/>
              <a:tblGrid>
                <a:gridCol w="2484360"/>
                <a:gridCol w="2482920"/>
                <a:gridCol w="2293920"/>
              </a:tblGrid>
              <a:tr h="2826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лово в русском язы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ексическое значени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нглийское слов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ойфр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руг, парен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oyfri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е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се в поряд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O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а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ечерин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герл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евочка, девуш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gir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анч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lunch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ик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ыходны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eek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х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риве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hi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уто, прико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ау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пер, блистате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ow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y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й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л би бэ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Я вернус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I’ll be bac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эйк ап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акияж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Make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оппинг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ход по магазинам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pping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ё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Черт!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it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орэв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навсегд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rever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ейс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иц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ace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респек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важение, уважат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Respec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ейз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машедши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raz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орр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Извини, прос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orr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ат ап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Заткнись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ut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у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лин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o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8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ура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85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30320" y="45684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Результаты анкетирования     учащихся СОШ № 13 г. Павлодара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21920" y="1599840"/>
            <a:ext cx="736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ак часто Вы употребляете англоязычный сленг в своей речи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1584360" y="3097080"/>
            <a:ext cx="6827760" cy="3432240"/>
          </a:xfrm>
          <a:prstGeom prst="rect">
            <a:avLst/>
          </a:prstGeom>
          <a:ln w="0">
            <a:noFill/>
          </a:ln>
        </p:spPr>
      </p:pic>
    </p:spTree>
  </p:cSld>
  <p:transition advTm="4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68080" y="1201680"/>
            <a:ext cx="721836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Где Вы наиболее часто употребляете этот сленг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3" name="Диаграмма 3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8029440" cy="4211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58640" y="32544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Знаете ли Вы значения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ого сленга,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оторые Вы употребляете в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оей речи?                     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Диаграмма 3" descr=""/>
          <p:cNvPicPr/>
          <p:nvPr/>
        </p:nvPicPr>
        <p:blipFill>
          <a:blip r:embed="rId1"/>
          <a:stretch/>
        </p:blipFill>
        <p:spPr>
          <a:xfrm>
            <a:off x="1011240" y="2766960"/>
            <a:ext cx="7840800" cy="366408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76480" y="909720"/>
            <a:ext cx="77184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Почему Вы употребляете сленг в своей 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7" name="Диаграмма 3" descr=""/>
          <p:cNvPicPr/>
          <p:nvPr/>
        </p:nvPicPr>
        <p:blipFill>
          <a:blip r:embed="rId1"/>
          <a:stretch/>
        </p:blipFill>
        <p:spPr>
          <a:xfrm>
            <a:off x="1122480" y="2548080"/>
            <a:ext cx="7399080" cy="415116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56880" y="288720"/>
            <a:ext cx="8186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Где Вы впервые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толкнулись с этими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ловами?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9" name="Диаграмма 3" descr=""/>
          <p:cNvPicPr/>
          <p:nvPr/>
        </p:nvPicPr>
        <p:blipFill>
          <a:blip r:embed="rId1"/>
          <a:stretch/>
        </p:blipFill>
        <p:spPr>
          <a:xfrm>
            <a:off x="1603440" y="2328840"/>
            <a:ext cx="7321320" cy="39196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2480" y="361800"/>
            <a:ext cx="74739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лышали ли Вы в речи своих    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ерстников молодежны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ый сленг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1" name="Диаграмма 3" descr=""/>
          <p:cNvPicPr/>
          <p:nvPr/>
        </p:nvPicPr>
        <p:blipFill>
          <a:blip r:embed="rId1"/>
          <a:stretch/>
        </p:blipFill>
        <p:spPr>
          <a:xfrm>
            <a:off x="1536840" y="2255760"/>
            <a:ext cx="7156440" cy="428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76480" y="252000"/>
            <a:ext cx="751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кажите наиболее часто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потребляемые слова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ийского сленга в ваше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2193840" y="2584440"/>
            <a:ext cx="6181920" cy="4280040"/>
          </a:xfrm>
          <a:prstGeom prst="rect">
            <a:avLst/>
          </a:prstGeom>
          <a:ln w="0">
            <a:noFill/>
          </a:ln>
        </p:spPr>
      </p:pic>
    </p:spTree>
  </p:cSld>
  <p:transition advTm="47000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40000" y="457920"/>
            <a:ext cx="750096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  <a:ea typeface="Times New Roman"/>
              </a:rPr>
              <a:t>   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Проведенное исследование показало, что сленг является экспрессивной и эмоционально - окрашенной лексикой, что он характеризуется фамильярной окраской и делится на две группы: общеупотребительный и общеизвестный сленг, а также что жаргон молодежи имеет большое разнообразие оттенков и что многие слова непонятны для основной массы населения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Что касается условий функционирования, то нами было выявлено, что школьники употребляют сленг в повседневной жизни для обозначения разных специальностей, для названия учебных предметов, относящихся к студенческой жизни, для обозначения различных зданий и аудиторий.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Сленг играет очень важную роль в жизни молодежи, ее жизнь сегодня уже немыслима без сленга, который он не только помогает молодым людям общаться между собой, но и облегчает процесс усвоения новой иностранной лексики, расширяя словарный запас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1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:\Users\Ильмира\Desktop\картинки англ. яз\time-to-say-good-bye.jpg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2480" y="982440"/>
            <a:ext cx="7473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Молодёжный 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– одно из составляющих процесса развития языка, его пополнения, его многообразия. Ведь язык не может развиваться сам по себе, обладая мистической и мифической субъектностью. Его развивают. Он вбирает в себя другие языки за счет коммуникации в наш более технический век. И, безусловно, язык формируют поэты и писатели, мастера слова. Молодёжный сленг должны знать все, кто хочет более активно, на хорошем уровне взаимодействовать с окружающим нас миром, а значит, хорошо владеть основным международным языком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0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58640" y="799920"/>
            <a:ext cx="7327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Произвести комплексное описание молодёжного сленга как одной из подсистем современного русского и английского языка, выявить его дифференцирующие признаки, описать особенности употребления сленгизмов, установить значение сленговых единиц и выражений,  изучить , на сколько широко используется англоязычный 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 речи школьников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и выявить наиболее часто используемый сленг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ше обозначенная цель была реализована через следующие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Задачи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определить объём и содержание понятия "сленг"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явить место молодёжного сленга в системе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овременного русского и английского языков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рассмотреть различные виды сленга, привести примеры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употребления сленгизмов и предоставить адекватный перевод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35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Объект исследования</a:t>
            </a:r>
            <a:r>
              <a:rPr b="1" lang="ru-RU" sz="4400" spc="-1" strike="noStrike">
                <a:solidFill>
                  <a:srgbClr val="39393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2480" y="982440"/>
            <a:ext cx="74739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как составная часть более широкого образования в современном английском языке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Предмет исследования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овообразовательный, лексико – фразеологический и стилистический уровни молодежного сленга, а также словосочетания, фразеологизмы, употребляющиеся для экспрессивного обозначение предметов, понятий, признаков действий и состояний, связанных с учебной  деятельностью, общекультурными интересами и бытом современной молодеж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Гипотеза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76120" y="1599840"/>
            <a:ext cx="7667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             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Если изучить сленгизмы, пришедшие из английского                                                                                                               языка в русский язык, тогда можно выявить способы образования сленгизмов, а также пути пополнения словарного запаса школьника.   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Методы исследования: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анкетирование;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наблюдение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сравнительный анализ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обобщение.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c4c4c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Users\Ильмира\Desktop\картинки англ. яз\English_Songs_For_Kids.jpg"/>
          <p:cNvPicPr/>
          <p:nvPr/>
        </p:nvPicPr>
        <p:blipFill>
          <a:blip r:embed="rId1"/>
          <a:stretch/>
        </p:blipFill>
        <p:spPr>
          <a:xfrm>
            <a:off x="5907240" y="3614760"/>
            <a:ext cx="3260520" cy="300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Молодёжная культур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9200" y="1417320"/>
            <a:ext cx="7437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это свой, ни на что не похожий мир. Он отличается от взрослого своей экспрессивной, порой даже резкой и грубой, манерой выражать мысли, который могут употреблять только молодые люди, смелые и решительные, создавшие свой неповторимый мир. Как следствие этого - возникновение молодёжного сленга.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7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85920" y="507600"/>
            <a:ext cx="740088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Сленг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- это не литературная лексика, т.е. это слова и сочетания, находящиеся за пределами литературного английского (Standard English), он возник и употребляется прежде всего в устной речи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Это эмоционально окрашенная лексика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Фамильярная эмоциональная окраска многих слов и выражений сленга отличается большим разнообразием оттенков (шутливая, ироническая, насмешливая, пренебрежительная, презрительная, грубая и даже вульгарная)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ногие слова и выражения сленга непонятны или малопонятны для основной массы населения (особенно в период их возникновения и перехода в более широкую сферу употребления), потому что они, прежде всего, связаны со своеобразной формой выражения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енг - это живой, подвижный язык, который идет в ногу со временем и реагирует на любые перемены в жизни страны и обществ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9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Факторы, влияющие на развитие сленг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85920" y="1599840"/>
            <a:ext cx="7400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Развитие компьютерных технологи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Современная музыкальная культура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Английский язык, немецкий и французский язык   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компьютерные игры, видео, мультфильмы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хобби и увлечения молодых люде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3" name="Picture 2" descr="C:\Users\Ильмира\Desktop\картинки англ. яз\animated_pencil_3.gif"/>
          <p:cNvPicPr/>
          <p:nvPr/>
        </p:nvPicPr>
        <p:blipFill>
          <a:blip r:embed="rId1"/>
          <a:stretch/>
        </p:blipFill>
        <p:spPr>
          <a:xfrm>
            <a:off x="7153200" y="4925880"/>
            <a:ext cx="1533600" cy="153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advTm="18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льмира\Desktop\картинки англ. яз\85716532_KopiyalogoSpeakEnglish1283x300.jpg"/>
          <p:cNvPicPr/>
          <p:nvPr/>
        </p:nvPicPr>
        <p:blipFill>
          <a:blip r:embed="rId1"/>
          <a:stretch/>
        </p:blipFill>
        <p:spPr>
          <a:xfrm>
            <a:off x="5850000" y="4560840"/>
            <a:ext cx="1968480" cy="20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Роль молодежного сленга в английском языке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32080" y="1599840"/>
            <a:ext cx="7254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в английском языке играет достаточно важную роль, которая определяет развитие всего языка в целом, его своеобразие  и отличие от других языков мира. Кроме этого молодежный сленг в английском языке позволяет общаться совершенно на новом уровне, не используя классических конструкций предложений и грамматических основ. А это говорит о том, что молодежь может общаться более раскованно и понимать друг друга  с полуслова. Надо также отметить, что сленг постоянно совершенствуется  и развивается, появляются новые выражения, которые быстро становятся популярными и активно используются  в реч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Ильмира</cp:lastModifiedBy>
  <dcterms:modified xsi:type="dcterms:W3CDTF">2012-10-31T10:13:36Z</dcterms:modified>
  <cp:revision>164</cp:revision>
  <dc:subject/>
  <dc:title>British Flag powerpoint template</dc:title>
</cp:coreProperties>
</file>