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FC2-75DB-43FE-A038-B2E1BF04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35E-4C2B-49ED-905F-70BC0901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1CC-521A-4041-B1F9-C2BC1CA2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AE5-B24E-4B10-9A95-8C20F95B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494-2966-4EF8-BA7A-629FEB1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497-3291-429F-A2BC-2FCEC81E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BA2-A30A-4A5D-9602-9F1D8C8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A09-D2AD-45DB-BE70-FA8382B2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D5A-8D45-47FF-85C7-AB22FDF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1AA-84CB-4F1E-9621-08193FF6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270-78CD-45F9-A81C-F8C9B37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F05-3CFB-4F2D-96E4-F94005D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384F-D2A0-443C-8CE9-D3CA3CBD4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Площадь  круга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и  кругового  сект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14936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Решение 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250920" y="3860640"/>
            <a:ext cx="2886120" cy="282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87280" y="692280"/>
            <a:ext cx="2880000" cy="1224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859280" y="692280"/>
            <a:ext cx="331164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5219640" y="620640"/>
                <a:ext cx="25336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ополнительная  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6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радиус  кругового  сектора,  ограниченного  дугой  в  12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 площадь  которого  равна  площади  круга  с  радиусом 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941800" y="314172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твет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омашнее 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TN029"/>
          <p:cNvPicPr/>
          <p:nvPr/>
        </p:nvPicPr>
        <p:blipFill>
          <a:blip r:embed="rId1"/>
          <a:stretch/>
        </p:blipFill>
        <p:spPr>
          <a:xfrm>
            <a:off x="5796000" y="1413000"/>
            <a:ext cx="2997000" cy="4957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3080" y="3500280"/>
            <a:ext cx="48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п. 111,  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120;  1124;  112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ментарий  к  д/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5640" y="116532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1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5292720" y="1125360"/>
            <a:ext cx="2808360" cy="2737080"/>
          </a:xfrm>
          <a:prstGeom prst="ellipse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5651640" y="1484280"/>
            <a:ext cx="2089080" cy="2068560"/>
          </a:xfrm>
          <a:prstGeom prst="ellipse">
            <a:avLst/>
          </a:prstGeom>
          <a:solidFill>
            <a:srgbClr val="f7cdf7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012000" y="1844640"/>
            <a:ext cx="1368360" cy="1368360"/>
          </a:xfrm>
          <a:prstGeom prst="ellipse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6300720" y="2133720"/>
            <a:ext cx="792360" cy="790560"/>
          </a:xfrm>
          <a:prstGeom prst="ellipse">
            <a:avLst/>
          </a:prstGeom>
          <a:solidFill>
            <a:srgbClr val="f0fcc8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6659640" y="2492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805440" y="2565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165800" y="234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31016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813440" y="278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12000" y="181440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559440" y="242100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205092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94720" y="2101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лощадь 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559440" y="299736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2268360" y="2637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681640" y="275112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? ? 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253440" y="443700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c03c1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c03c1"/>
                </a:solidFill>
                <a:latin typeface="Arial"/>
              </a:rPr>
              <a:t>1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5" descr="1"/>
          <p:cNvPicPr/>
          <p:nvPr/>
        </p:nvPicPr>
        <p:blipFill>
          <a:blip r:embed="rId1"/>
          <a:stretch/>
        </p:blipFill>
        <p:spPr>
          <a:xfrm>
            <a:off x="2556000" y="3789360"/>
            <a:ext cx="2886120" cy="2828880"/>
          </a:xfrm>
          <a:prstGeom prst="rect">
            <a:avLst/>
          </a:prstGeom>
          <a:ln w="0">
            <a:noFill/>
          </a:ln>
        </p:spPr>
      </p:pic>
      <p:sp>
        <p:nvSpPr>
          <p:cNvPr id="145" name="Arc 27"/>
          <p:cNvSpPr/>
          <p:nvPr/>
        </p:nvSpPr>
        <p:spPr>
          <a:xfrm rot="3387000">
            <a:off x="3821040" y="4754160"/>
            <a:ext cx="914400" cy="853920"/>
          </a:xfrm>
          <a:custGeom>
            <a:avLst/>
            <a:gdLst/>
            <a:ahLst/>
            <a:rect l="l" t="t" r="r" b="b"/>
            <a:pathLst>
              <a:path fill="none" w="21600" h="20182">
                <a:moveTo>
                  <a:pt x="7697" y="-1"/>
                </a:moveTo>
                <a:cubicBezTo>
                  <a:pt x="16068" y="3192"/>
                  <a:pt x="21600" y="11222"/>
                  <a:pt x="21600" y="20182"/>
                </a:cubicBezTo>
              </a:path>
              <a:path stroke="0" w="21600" h="20182">
                <a:moveTo>
                  <a:pt x="7697" y="-1"/>
                </a:moveTo>
                <a:cubicBezTo>
                  <a:pt x="16068" y="3192"/>
                  <a:pt x="21600" y="11222"/>
                  <a:pt x="21600" y="20182"/>
                </a:cubicBezTo>
                <a:lnTo>
                  <a:pt x="0" y="20182"/>
                </a:lnTo>
                <a:lnTo>
                  <a:pt x="7697" y="-1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4005000" y="50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421800" y="4653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517320" y="351936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 …  …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7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ишите  форму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Длины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Длины  дуги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кругового  се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тороны  правильного  п-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Радиуса  вписанной  в  правильны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-угольник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правильного  п-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Устный  те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новите,  истины  или  ложны  следующие 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826920" y="3284640"/>
                <a:ext cx="14414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4"/>
          <p:cNvSpPr/>
          <p:nvPr/>
        </p:nvSpPr>
        <p:spPr>
          <a:xfrm>
            <a:off x="399960" y="1916280"/>
            <a:ext cx="840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Площадь  круга  равна  произведению  квадра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его  радиуса  на  </a:t>
            </a:r>
            <a:r>
              <a:rPr b="1" i="1" lang="el-G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76200" y="289404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лощадь  круга  можно  вычислить  по 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73040" y="35002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,   где 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– диаметр 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99600" y="4149720"/>
            <a:ext cx="71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 Площадь  круга  радиуса  10  равна  10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4480" y="4724280"/>
            <a:ext cx="87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лощадь  кругового  сектора,  ограниченного  д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в  90</a:t>
            </a:r>
            <a:r>
              <a:rPr b="1" i="1" lang="ru-RU" sz="28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,  вычисляется  по  формул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6372360" y="5013360"/>
                <a:ext cx="15620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Устный  те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18920" y="1052640"/>
            <a:ext cx="65991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чите  утвержд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8880" y="1743120"/>
            <a:ext cx="80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Если  диаметр  круга  увеличить  в  4  раза, 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площадь  круга  увеличится  в  …  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2720" y="2060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9760" y="2708280"/>
            <a:ext cx="85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Если  радиус  круга  равен  6 см,  то  площадь  е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кругового  сектора  вычисляется  по 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7885080" y="2997360"/>
                <a:ext cx="1044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9"/>
          <p:cNvSpPr/>
          <p:nvPr/>
        </p:nvSpPr>
        <p:spPr>
          <a:xfrm>
            <a:off x="328320" y="4005360"/>
            <a:ext cx="824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3)  Площадь  вписанного  в  окружность 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равна  16 см</a:t>
            </a:r>
            <a:r>
              <a:rPr b="1" i="1" lang="ru-RU" sz="28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.  Площадь  круга,  ограни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данной  окружностью,  равна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65308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69080" y="1743120"/>
            <a:ext cx="359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10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9240" y="227664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132000" y="3213000"/>
            <a:ext cx="3168720" cy="3024360"/>
          </a:xfrm>
          <a:prstGeom prst="ellipse">
            <a:avLst/>
          </a:pr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708360" y="3789360"/>
            <a:ext cx="2016000" cy="19224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572360" y="44370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3347640" y="4724280"/>
            <a:ext cx="1368360" cy="720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4716360" y="4724280"/>
            <a:ext cx="216000" cy="936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717360" y="458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868280" y="49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79160" y="1743120"/>
            <a:ext cx="476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15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6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99240" y="227664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2916360" y="3068640"/>
            <a:ext cx="3600360" cy="3362400"/>
          </a:xfrm>
          <a:prstGeom prst="ellipse">
            <a:avLst/>
          </a:prstGeom>
          <a:solidFill>
            <a:srgbClr val="f7cd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4284720" y="443700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579200" y="4437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084280" y="501336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3635280" y="3141720"/>
            <a:ext cx="1295640" cy="1224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4147560" y="3429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0720" y="1743120"/>
            <a:ext cx="21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= 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9600" y="2276640"/>
            <a:ext cx="81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фигуры,  закрашенной  голуб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2"/>
          <p:cNvPicPr/>
          <p:nvPr/>
        </p:nvPicPr>
        <p:blipFill>
          <a:blip r:embed="rId1"/>
          <a:stretch/>
        </p:blipFill>
        <p:spPr>
          <a:xfrm>
            <a:off x="2700360" y="2763720"/>
            <a:ext cx="4176720" cy="4094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4644360" y="4437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5"/>
          <p:cNvSpPr/>
          <p:nvPr/>
        </p:nvSpPr>
        <p:spPr>
          <a:xfrm rot="7630800">
            <a:off x="4500360" y="486900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582440" y="566100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0720" y="174312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8880" y="227664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Безымянный"/>
          <p:cNvPicPr/>
          <p:nvPr/>
        </p:nvPicPr>
        <p:blipFill>
          <a:blip r:embed="rId1"/>
          <a:stretch/>
        </p:blipFill>
        <p:spPr>
          <a:xfrm>
            <a:off x="2700360" y="2763720"/>
            <a:ext cx="4176720" cy="4094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4212720" y="450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374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50288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35016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18"/>
          <p:cNvSpPr/>
          <p:nvPr/>
        </p:nvSpPr>
        <p:spPr>
          <a:xfrm rot="6183000">
            <a:off x="4486680" y="4666320"/>
            <a:ext cx="914400" cy="887400"/>
          </a:xfrm>
          <a:custGeom>
            <a:avLst/>
            <a:gdLst/>
            <a:ahLst/>
            <a:rect l="l" t="t" r="r" b="b"/>
            <a:pathLst>
              <a:path fill="none" w="21600" h="20985">
                <a:moveTo>
                  <a:pt x="5117" y="-1"/>
                </a:moveTo>
                <a:cubicBezTo>
                  <a:pt x="14791" y="2358"/>
                  <a:pt x="21600" y="11026"/>
                  <a:pt x="21600" y="20985"/>
                </a:cubicBezTo>
              </a:path>
              <a:path stroke="0" w="21600" h="20985">
                <a:moveTo>
                  <a:pt x="5117" y="-1"/>
                </a:moveTo>
                <a:cubicBezTo>
                  <a:pt x="14791" y="2358"/>
                  <a:pt x="21600" y="11026"/>
                  <a:pt x="21600" y="20985"/>
                </a:cubicBezTo>
                <a:lnTo>
                  <a:pt x="0" y="20985"/>
                </a:lnTo>
                <a:lnTo>
                  <a:pt x="5117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014080" y="5300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9360" y="1743120"/>
            <a:ext cx="225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8880" y="227664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4"/>
          <p:cNvPicPr/>
          <p:nvPr/>
        </p:nvPicPr>
        <p:blipFill>
          <a:blip r:embed="rId1"/>
          <a:stretch/>
        </p:blipFill>
        <p:spPr>
          <a:xfrm>
            <a:off x="2843280" y="3213000"/>
            <a:ext cx="4033800" cy="3954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6"/>
          <p:cNvSpPr/>
          <p:nvPr/>
        </p:nvSpPr>
        <p:spPr>
          <a:xfrm>
            <a:off x="25581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73488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4724280" y="4724280"/>
            <a:ext cx="5173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3471840" y="4724280"/>
            <a:ext cx="55584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658480" y="4724280"/>
            <a:ext cx="68796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2989440" y="5195880"/>
            <a:ext cx="3716280" cy="14400"/>
          </a:xfrm>
          <a:custGeom>
            <a:avLst/>
            <a:gdLst/>
            <a:ahLst/>
            <a:rect l="l" t="t" r="r" b="b"/>
            <a:pathLst>
              <a:path w="2341" h="9">
                <a:moveTo>
                  <a:pt x="0" y="9"/>
                </a:moveTo>
                <a:lnTo>
                  <a:pt x="234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3"/>
          <p:cNvSpPr/>
          <p:nvPr/>
        </p:nvSpPr>
        <p:spPr>
          <a:xfrm>
            <a:off x="5724360" y="5157720"/>
            <a:ext cx="14472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"/>
          <p:cNvSpPr/>
          <p:nvPr/>
        </p:nvSpPr>
        <p:spPr>
          <a:xfrm>
            <a:off x="4788000" y="5157720"/>
            <a:ext cx="14436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5"/>
          <p:cNvSpPr/>
          <p:nvPr/>
        </p:nvSpPr>
        <p:spPr>
          <a:xfrm>
            <a:off x="3851280" y="5157720"/>
            <a:ext cx="14436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5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5:54:55Z</dcterms:created>
  <dc:creator>Каратановы</dc:creator>
  <dc:description/>
  <dc:language>en-US</dc:language>
  <cp:lastModifiedBy>Баймурунова </cp:lastModifiedBy>
  <dcterms:modified xsi:type="dcterms:W3CDTF">2013-01-31T05:14:13Z</dcterms:modified>
  <cp:revision>5</cp:revision>
  <dc:subject/>
  <dc:title>Площадь  круга и  кругового  сектора.</dc:title>
</cp:coreProperties>
</file>