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B0FA-1A35-468E-AD9F-30CBC3DC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A02-AA91-4D99-B865-A1EED4A1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22B2-A875-4122-A8AF-D93F242A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75FD-F76B-4230-9A1A-11B9437C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C089-FBE8-4366-8B04-0D22372B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8F38-66BE-46FB-B238-08264CA8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5132-6950-4689-B8E4-ECA8D260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16E7-2638-4144-8A60-7EBB33B2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C560-0116-468D-AFC4-04E5F3A6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1C3B-024B-4B4E-9DBC-C8834AC6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093F-7DDB-4AF7-8ECC-FFF0E67B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3E4D-ECF0-4BF1-9193-5C3A8350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C8E9-060A-4DA1-8399-EE829A1E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1912-03CB-4122-9204-AC404756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FC00-6C37-400E-B4CB-BD1569F3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9D8A-3371-441F-B4EF-2A4BDFA9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6870-0223-470F-9EB9-82ABB810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E6CA-BDFC-4C0D-8A9C-DEFDA963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1F3-DDA4-47D7-AC00-E325B6EC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311-F9BC-4200-982F-634265E8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7CC8-753D-4D7B-AEA5-F6AB5ED6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F160-ECDB-4F81-BDF1-DD343F9A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54D-D535-4529-855F-1C1AC52D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A4B-57E5-4DDB-8E5A-482C13E3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383B-B753-4B34-AF9E-6B4DD1656C2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DEEF-F6C0-4CAF-8481-C0600AB4150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60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УРОК-ЗАЧЕТ ПО 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ТЕМЕ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« ОСНОВЫ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ТРИГОНОМЕТРИИ»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989880" y="5486400"/>
            <a:ext cx="12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 КЛА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В КАКИХ ЧЕТВЕРТЯХ СИНУС ИМЕЕТ ЗНАК «+» 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А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Б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II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II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III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и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IV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I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и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IV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8.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 Найдите радианную меру угла, равного 45</a:t>
            </a:r>
            <a:r>
              <a:rPr b="1" lang="en-US" sz="4400" spc="-1" strike="noStrike">
                <a:solidFill>
                  <a:srgbClr val="703dff"/>
                </a:solidFill>
                <a:latin typeface="Sylfaen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440080"/>
            <a:ext cx="7696080" cy="30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1" lang="el-GR" sz="40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/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1" lang="el-GR" sz="40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В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l-GR" sz="4000" spc="-1" strike="noStrike">
                <a:solidFill>
                  <a:srgbClr val="000000"/>
                </a:solidFill>
                <a:latin typeface="Comic Sans MS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Г.  </a:t>
            </a:r>
            <a:r>
              <a:rPr b="1" lang="el-GR" sz="40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/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9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КАКАЯ ИЗ ЭТИХ ФУНКЦИЙ ЧЁТНАЯ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А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СИНУ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ТАНГЕН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КОТАНГЕН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Г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КОСИНУ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10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ВЫБЕРИТЕ ПРАВИЛЬНУЮ ЗАВИСИМОСТЬ МЕЖДУ ТАНГЕНСОМ И КОТАНГЕНС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3430080"/>
            <a:ext cx="76960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А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q x·ctq x=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q x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tq x=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В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q x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tq x=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Г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q x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tq x=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11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При каком значении </a:t>
            </a:r>
            <a:r>
              <a:rPr b="1" lang="el-GR" sz="4400" spc="-1" strike="noStrike">
                <a:solidFill>
                  <a:srgbClr val="703dff"/>
                </a:solidFill>
                <a:latin typeface="Comic Sans MS"/>
              </a:rPr>
              <a:t>α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 синус и косинус имеют одинаковое значени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и </a:t>
            </a:r>
            <a:r>
              <a:rPr b="1" lang="el-GR" sz="36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=30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Б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и </a:t>
            </a:r>
            <a:r>
              <a:rPr b="1" lang="el-GR" sz="36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=60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В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и </a:t>
            </a:r>
            <a:r>
              <a:rPr b="1" lang="el-GR" sz="36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=45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Г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ри </a:t>
            </a:r>
            <a:r>
              <a:rPr b="1" lang="el-GR" sz="40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=90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.КАКАЯ ФУНКЦИЯ ИМЕЕТ ЗНАК «-» ВО 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II 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и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 III 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четвертях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СИНУ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КОСИНУ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В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ТАНГЕН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КОТАНГЕН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13.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 НАЙТИ ГРАДУСНУЮ МЕРУ УГЛА, РАВНОГО 3</a:t>
            </a:r>
            <a:r>
              <a:rPr b="1" lang="el-GR" sz="4400" spc="-1" strike="noStrike">
                <a:solidFill>
                  <a:srgbClr val="703dff"/>
                </a:solidFill>
                <a:latin typeface="Comic Sans MS"/>
              </a:rPr>
              <a:t>Π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/4 радиа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3125520"/>
            <a:ext cx="7696080" cy="23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Б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50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13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306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dff"/>
                </a:solidFill>
                <a:latin typeface="Comic Sans MS"/>
              </a:rPr>
              <a:t>2 ЧАСТЬ </a:t>
            </a:r>
            <a:br>
              <a:rPr sz="4800"/>
            </a:br>
            <a:r>
              <a:rPr b="1" lang="en-US" sz="4800" spc="-1" strike="noStrike">
                <a:solidFill>
                  <a:srgbClr val="703dff"/>
                </a:solidFill>
                <a:latin typeface="Comic Sans MS"/>
              </a:rPr>
              <a:t>«ГЕОМЕТРИЯ»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найди лишнее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380880" y="0"/>
            <a:ext cx="8382240" cy="6377040"/>
          </a:xfrm>
          <a:custGeom>
            <a:avLst/>
            <a:gdLst>
              <a:gd name="textAreaLeft" fmla="*/ 413280 w 8382240"/>
              <a:gd name="textAreaRight" fmla="*/ 7968960 w 8382240"/>
              <a:gd name="textAreaTop" fmla="*/ 413280 h 6377040"/>
              <a:gd name="textAreaBottom" fmla="*/ 5963760 h 6377040"/>
            </a:gdLst>
            <a:ahLst/>
            <a:rect l="textAreaLeft" t="textAreaTop" r="textAreaRight" b="textAreaBottom"/>
            <a:pathLst>
              <a:path w="28392" h="21600">
                <a:moveTo>
                  <a:pt x="0" y="0"/>
                </a:moveTo>
                <a:lnTo>
                  <a:pt x="28392" y="0"/>
                </a:lnTo>
                <a:lnTo>
                  <a:pt x="28392" y="21600"/>
                </a:lnTo>
                <a:lnTo>
                  <a:pt x="0" y="21600"/>
                </a:lnTo>
                <a:close/>
              </a:path>
              <a:path fill="lightenLess" w="28392" h="21600">
                <a:moveTo>
                  <a:pt x="0" y="0"/>
                </a:moveTo>
                <a:lnTo>
                  <a:pt x="28392" y="0"/>
                </a:lnTo>
                <a:lnTo>
                  <a:pt x="26992" y="1400"/>
                </a:lnTo>
                <a:lnTo>
                  <a:pt x="1400" y="1400"/>
                </a:lnTo>
                <a:close/>
              </a:path>
              <a:path fill="darken" w="28392" h="21600">
                <a:moveTo>
                  <a:pt x="28392" y="0"/>
                </a:moveTo>
                <a:lnTo>
                  <a:pt x="28392" y="21600"/>
                </a:lnTo>
                <a:lnTo>
                  <a:pt x="26992" y="20200"/>
                </a:lnTo>
                <a:lnTo>
                  <a:pt x="26992" y="1400"/>
                </a:lnTo>
                <a:close/>
              </a:path>
              <a:path fill="darkenLess" w="28392" h="21600">
                <a:moveTo>
                  <a:pt x="28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92" y="20200"/>
                </a:lnTo>
                <a:close/>
              </a:path>
              <a:path fill="lighten" w="28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4083120" y="3308400"/>
          <a:ext cx="977760" cy="243000"/>
        </p:xfrm>
        <a:graphic>
          <a:graphicData uri="http://schemas.openxmlformats.org/drawingml/2006/table">
            <a:tbl>
              <a:tblPr/>
              <a:tblGrid>
                <a:gridCol w="9777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4083120" y="3308400"/>
          <a:ext cx="977760" cy="243000"/>
        </p:xfrm>
        <a:graphic>
          <a:graphicData uri="http://schemas.openxmlformats.org/drawingml/2006/table">
            <a:tbl>
              <a:tblPr/>
              <a:tblGrid>
                <a:gridCol w="9777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083120" y="3308400"/>
          <a:ext cx="977760" cy="243000"/>
        </p:xfrm>
        <a:graphic>
          <a:graphicData uri="http://schemas.openxmlformats.org/drawingml/2006/table">
            <a:tbl>
              <a:tblPr/>
              <a:tblGrid>
                <a:gridCol w="9777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2460600" y="4253040"/>
            <a:ext cx="6476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9800" y="4272120"/>
            <a:ext cx="647640" cy="285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92720" y="4290120"/>
            <a:ext cx="685800" cy="257400"/>
          </a:xfrm>
          <a:custGeom>
            <a:avLst/>
            <a:gdLst>
              <a:gd name="textAreaLeft" fmla="*/ 150840 w 685800"/>
              <a:gd name="textAreaRight" fmla="*/ 534960 w 685800"/>
              <a:gd name="textAreaTop" fmla="*/ 56520 h 257400"/>
              <a:gd name="textAreaBottom" fmla="*/ 20088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595840" y="4262400"/>
            <a:ext cx="674640" cy="303120"/>
            <a:chOff x="5595840" y="4262400"/>
            <a:chExt cx="674640" cy="303120"/>
          </a:xfrm>
        </p:grpSpPr>
        <p:cxnSp>
          <p:nvCxnSpPr>
            <p:cNvPr id="198" name=""/>
            <p:cNvCxnSpPr/>
            <p:nvPr/>
          </p:nvCxnSpPr>
          <p:spPr>
            <a:xfrm>
              <a:off x="5614560" y="4290120"/>
              <a:ext cx="108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9" name=""/>
            <p:cNvSpPr/>
            <p:nvPr/>
          </p:nvSpPr>
          <p:spPr>
            <a:xfrm>
              <a:off x="5623560" y="4554720"/>
              <a:ext cx="59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910480" y="4423320"/>
              <a:ext cx="323280" cy="1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910480" y="4270680"/>
              <a:ext cx="35964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595840" y="4262400"/>
              <a:ext cx="67464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764400" y="4262040"/>
            <a:ext cx="741240" cy="303120"/>
            <a:chOff x="6764400" y="4262040"/>
            <a:chExt cx="741240" cy="303120"/>
          </a:xfrm>
        </p:grpSpPr>
        <p:sp>
          <p:nvSpPr>
            <p:cNvPr id="204" name=""/>
            <p:cNvSpPr/>
            <p:nvPr/>
          </p:nvSpPr>
          <p:spPr>
            <a:xfrm>
              <a:off x="6764400" y="4272840"/>
              <a:ext cx="8280" cy="28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764400" y="4423320"/>
              <a:ext cx="741240" cy="14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7344000" y="4262040"/>
              <a:ext cx="150480" cy="16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764400" y="4272840"/>
              <a:ext cx="57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460600" y="4761000"/>
            <a:ext cx="6476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40240" y="4780080"/>
            <a:ext cx="342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4560" y="4808520"/>
            <a:ext cx="743040" cy="266760"/>
          </a:xfrm>
          <a:prstGeom prst="parallelogram">
            <a:avLst>
              <a:gd name="adj" fmla="val 696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57840" y="4741920"/>
            <a:ext cx="457200" cy="361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02560" y="4818240"/>
            <a:ext cx="676080" cy="257040"/>
          </a:xfrm>
          <a:custGeom>
            <a:avLst/>
            <a:gdLst>
              <a:gd name="textAreaLeft" fmla="*/ 171000 w 676080"/>
              <a:gd name="textAreaRight" fmla="*/ 505080 w 676080"/>
              <a:gd name="textAreaTop" fmla="*/ 65160 h 257040"/>
              <a:gd name="textAreaBottom" fmla="*/ 19188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07" y="21600"/>
                </a:lnTo>
                <a:lnTo>
                  <a:pt x="6693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79680" y="5335560"/>
            <a:ext cx="676440" cy="257040"/>
          </a:xfrm>
          <a:custGeom>
            <a:avLst/>
            <a:gdLst>
              <a:gd name="textAreaLeft" fmla="*/ 171000 w 676440"/>
              <a:gd name="textAreaRight" fmla="*/ 505440 w 676440"/>
              <a:gd name="textAreaTop" fmla="*/ 65160 h 257040"/>
              <a:gd name="textAreaBottom" fmla="*/ 19188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07" y="21600"/>
                </a:lnTo>
                <a:lnTo>
                  <a:pt x="6693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78240" y="5277600"/>
            <a:ext cx="676080" cy="314280"/>
          </a:xfrm>
          <a:custGeom>
            <a:avLst/>
            <a:gdLst>
              <a:gd name="textAreaLeft" fmla="*/ 171000 w 676080"/>
              <a:gd name="textAreaRight" fmla="*/ 505080 w 676080"/>
              <a:gd name="textAreaTop" fmla="*/ 79560 h 314280"/>
              <a:gd name="textAreaBottom" fmla="*/ 234720 h 3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07" y="21600"/>
                </a:lnTo>
                <a:lnTo>
                  <a:pt x="6693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478040" y="5306760"/>
            <a:ext cx="512640" cy="265320"/>
            <a:chOff x="4478040" y="5306760"/>
            <a:chExt cx="512640" cy="265320"/>
          </a:xfrm>
        </p:grpSpPr>
        <p:sp>
          <p:nvSpPr>
            <p:cNvPr id="216" name=""/>
            <p:cNvSpPr/>
            <p:nvPr/>
          </p:nvSpPr>
          <p:spPr>
            <a:xfrm>
              <a:off x="4478400" y="53071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78400" y="5572080"/>
              <a:ext cx="5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792680" y="5307120"/>
              <a:ext cx="19800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4478040" y="5306760"/>
              <a:ext cx="322920" cy="1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731560" y="5326200"/>
            <a:ext cx="473760" cy="236160"/>
            <a:chOff x="5731560" y="5326200"/>
            <a:chExt cx="473760" cy="236160"/>
          </a:xfrm>
        </p:grpSpPr>
        <p:sp>
          <p:nvSpPr>
            <p:cNvPr id="221" name=""/>
            <p:cNvSpPr/>
            <p:nvPr/>
          </p:nvSpPr>
          <p:spPr>
            <a:xfrm>
              <a:off x="6205320" y="5326200"/>
              <a:ext cx="0" cy="23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738760" y="556236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5731560" y="5326200"/>
              <a:ext cx="183240" cy="23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5906520" y="5326200"/>
              <a:ext cx="298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764400" y="5316480"/>
            <a:ext cx="743040" cy="266760"/>
          </a:xfrm>
          <a:prstGeom prst="parallelogram">
            <a:avLst>
              <a:gd name="adj" fmla="val 696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31960" y="5805360"/>
            <a:ext cx="3240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30520" y="5786280"/>
            <a:ext cx="381240" cy="35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9160" y="5776920"/>
            <a:ext cx="571320" cy="342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6000" y="5776920"/>
            <a:ext cx="457200" cy="361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363920" y="5804640"/>
            <a:ext cx="676440" cy="314280"/>
          </a:xfrm>
          <a:custGeom>
            <a:avLst/>
            <a:gdLst>
              <a:gd name="textAreaLeft" fmla="*/ 171000 w 676440"/>
              <a:gd name="textAreaRight" fmla="*/ 505440 w 676440"/>
              <a:gd name="textAreaTop" fmla="*/ 79560 h 314280"/>
              <a:gd name="textAreaBottom" fmla="*/ 234720 h 3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07" y="21600"/>
                </a:lnTo>
                <a:lnTo>
                  <a:pt x="6693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51040" y="6342120"/>
            <a:ext cx="295200" cy="25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01920" y="6361200"/>
            <a:ext cx="743040" cy="266760"/>
          </a:xfrm>
          <a:prstGeom prst="parallelogram">
            <a:avLst>
              <a:gd name="adj" fmla="val 696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458960" y="6351120"/>
            <a:ext cx="512640" cy="265320"/>
            <a:chOff x="4458960" y="6351120"/>
            <a:chExt cx="512640" cy="265320"/>
          </a:xfrm>
        </p:grpSpPr>
        <p:sp>
          <p:nvSpPr>
            <p:cNvPr id="234" name=""/>
            <p:cNvSpPr/>
            <p:nvPr/>
          </p:nvSpPr>
          <p:spPr>
            <a:xfrm>
              <a:off x="4459320" y="635148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59320" y="6616440"/>
              <a:ext cx="5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773600" y="6351480"/>
              <a:ext cx="19800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4458960" y="6351120"/>
              <a:ext cx="322920" cy="1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815080" y="6332400"/>
            <a:ext cx="371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02560" y="6361200"/>
            <a:ext cx="676080" cy="257040"/>
          </a:xfrm>
          <a:custGeom>
            <a:avLst/>
            <a:gdLst>
              <a:gd name="textAreaLeft" fmla="*/ 171000 w 676080"/>
              <a:gd name="textAreaRight" fmla="*/ 505080 w 676080"/>
              <a:gd name="textAreaTop" fmla="*/ 65160 h 257040"/>
              <a:gd name="textAreaBottom" fmla="*/ 19188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07" y="21600"/>
                </a:lnTo>
                <a:lnTo>
                  <a:pt x="6693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371600" y="65160"/>
          <a:ext cx="6858000" cy="6727680"/>
        </p:xfrm>
        <a:graphic>
          <a:graphicData uri="http://schemas.openxmlformats.org/drawingml/2006/table">
            <a:tbl>
              <a:tblPr/>
              <a:tblGrid>
                <a:gridCol w="216000"/>
                <a:gridCol w="500760"/>
                <a:gridCol w="1061640"/>
                <a:gridCol w="1062000"/>
                <a:gridCol w="1364760"/>
                <a:gridCol w="1137600"/>
                <a:gridCol w="15152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йдите лишне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ст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диамет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верш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перимет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уго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верш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ст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диагона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ос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средняя ли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кру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треугольн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прямоугольн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пятиугольн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ром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ст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диагона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хор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диамет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уго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радиу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диамет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верш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хор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ду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1280"/>
            <a:ext cx="7315200" cy="298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1 ЧАСТЬ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« ТРИГОНОМЕТРИЯ»</a:t>
            </a: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тест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.И.______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47920" y="1828800"/>
          <a:ext cx="3813120" cy="3308040"/>
        </p:xfrm>
        <a:graphic>
          <a:graphicData uri="http://schemas.openxmlformats.org/drawingml/2006/table">
            <a:tbl>
              <a:tblPr/>
              <a:tblGrid>
                <a:gridCol w="1906200"/>
                <a:gridCol w="1906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омер вопро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риант отв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438280" y="57913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59436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ценка: 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687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Чему равен тангенс 45</a:t>
            </a:r>
            <a:r>
              <a:rPr b="1" lang="en-US" sz="5400" spc="-1" strike="noStrike">
                <a:solidFill>
                  <a:srgbClr val="703dff"/>
                </a:solidFill>
                <a:latin typeface="Sylfaen"/>
              </a:rPr>
              <a:t>°</a:t>
            </a:r>
            <a:r>
              <a:rPr b="1" lang="ru-RU" sz="5400" spc="-1" strike="noStrike">
                <a:solidFill>
                  <a:srgbClr val="703dff"/>
                </a:solidFill>
                <a:latin typeface="Sylfaen"/>
              </a:rPr>
              <a:t> 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34800"/>
            <a:ext cx="377496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MS Reference Specialty"/>
                <a:ea typeface="MS Reference Specialty"/>
              </a:rPr>
              <a:t>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341600" y="2209680"/>
            <a:ext cx="3770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КОСИНУС-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CO+SINUS. CO(</a:t>
            </a: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лат)-совместно</a:t>
            </a:r>
            <a:br>
              <a:rPr sz="4000"/>
            </a:b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SINUS</a:t>
            </a: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(лат)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- 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3772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ОЛУДУ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0" y="2696760"/>
            <a:ext cx="419112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В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КРУЖ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ЧАСТЬ КРУ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 ОСНОВНОЕ ТРИГОНОМЕТРИЧЕСКОЕ ТОЖДЕСТВО ИМЕЕТ ВИД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99800" y="2744280"/>
            <a:ext cx="693900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А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²X-COS²X=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Б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²X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S²X=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В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²X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S²X=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Г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²X-COS²X=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4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ПРИ УВЕЛИЧЕНИИ УГЛА ЗНАЧЕНИЯ КОТАНГЕНС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28520" y="2771280"/>
            <a:ext cx="6940440" cy="26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А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Е ИЗМЕНЯ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Б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УВЕЛИЧИВАЮТСЯ И        УМЕНЬША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В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УВЕЛИЧИВА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Г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УМЕНЬША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ЧЕМУ РАВНА ГРАДУСНАЯ МЕРА УГЛА В 1 РАДИАН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37749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. 53,7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. 57,3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06920" y="2590560"/>
            <a:ext cx="37749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. 50,5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.  57,5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6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КАК НАЗЫВАЮТСЯ ФУНКЦИИ</a:t>
            </a:r>
            <a:br>
              <a:rPr sz="4400"/>
            </a:b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 У=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SIN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X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 и У=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COS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2439720"/>
            <a:ext cx="70102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ЛОГАРИФМИЧЕСК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ПОКАЗАТЕЛЬН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ТРИГОНОМЕТРИЧЕСК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ОБРАТН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риворучко</dc:creator>
  <dc:description/>
  <dc:language>en-US</dc:language>
  <cp:lastModifiedBy>Tatyana</cp:lastModifiedBy>
  <dcterms:modified xsi:type="dcterms:W3CDTF">2008-01-25T04:45:58Z</dcterms:modified>
  <cp:revision>8</cp:revision>
  <dc:subject/>
  <dc:title>криворучк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