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D2E-218D-4AA1-8291-24278520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B47-A3B9-4CCA-BDFA-B21A32D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4C6-10CE-4693-89A7-8695E950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4A3-F007-4E50-9766-7BB6EF06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D551-F855-4690-AE9C-E7C3DA25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7A77-0CF5-468A-A33D-9FBB9FA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6A62-EDC9-48AB-955F-B7C27C8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A091-8DBB-4960-84CB-1416ABD3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2CE6-43E9-40F4-BF1E-401FDFB5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8E5-17D5-4711-84ED-E9D1710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C6C4-ABF1-4056-8CFA-845B72F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1F7-4F7E-494C-B5F0-07AE303B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FC95-6CBE-47D2-AE2C-9F1BEE4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D937-A72D-45BD-9597-411E229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3D33-7B31-449E-9052-96C9111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D760-C1A6-4D8D-A8E7-33595B98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33EE-F28A-4137-ABEE-5DCB047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39DF-9629-41BF-8313-F382C727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DCC3-9590-44AE-8BA4-942C16E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2C78-D125-4C4F-B763-68471AC3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336B-E1EE-495D-888B-B8AF268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C2F2-9728-46AC-B8CF-C3E5376F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CF7-3F83-40ED-979A-41272A76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3684-CBD8-4F99-8036-170BD5E1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AB41-2E3E-4340-A46D-F663562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2D37-44AA-4B04-9DA7-98D4469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653C-B1C2-4073-93F7-ECB3DF9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9B4E-C707-4F51-9141-F9CF1322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2169-7EB3-4BBE-BC0C-B2F14F32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F88A-EF6B-4FEC-ABBE-C02576B7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2B4F-76FF-4048-96F5-FF5DB94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DCD3-849B-497C-A4EB-3118F94E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6433-597D-441A-A481-F0369E3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1BC-132A-4A84-9C67-2906303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3144-BFBC-485D-921A-6C16D31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7986-17F4-4467-9977-216C86E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CBD8-1EC7-4927-A9CB-F8174BC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4E15-FF2D-4269-A551-FB7066AE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77715-C731-45D3-AB12-42E91A7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88B3-70F4-4161-92D5-C777197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E862-A0A9-41DA-9A4B-40D528C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6C48-64FA-4015-B61B-FC10A9C5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5F10-130F-4F62-BA4A-F885F46D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CBA-F951-4725-8847-FB5B952A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99D-A805-4B11-B9B4-7890E3A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F99-E623-4969-9A65-7126862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C3D-9D04-4E70-8673-8B146CB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FB4-6DD7-43EC-8F5F-68E6B2E6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774D-36FF-4FFF-9D79-7FAB24A5C6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6B0-D31C-458C-B943-E254E267DD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853-DB24-455B-A481-B86F6CC2B5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0C0-E8C4-47A5-9113-E58409997C4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440" y="4051440"/>
            <a:ext cx="669456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Имя прилагательно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488880"/>
            <a:ext cx="74768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7d47d"/>
                </a:solidFill>
                <a:latin typeface="Arial"/>
              </a:rPr>
              <a:t>1.Что такое имя прилагательное?</a:t>
            </a:r>
            <a:endParaRPr b="0" lang="en-US" sz="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ло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часть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член предлож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2. В какой строке даны только имена прилагательны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иний, синь, сине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надежда, белый, син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адёжный, синенький, белы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3. С какой частью речи связано  имя прилагательно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с глаголо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е связан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4.У прилагательного нет следующего признак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чи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род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ремен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5.В каком имени прилагательном нужно писать окончание –Е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9360">
            <a:solidFill>
              <a:srgbClr val="c1605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утренн… неб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утренн… заряд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утренн… завтра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6. Укажи род прилагательных в предложен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есеннем лесу песню раннюю запел жаворон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м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.р.;ср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7. В каком падеже у имён прилагательных окончания –ОМУ,-ЕМУ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267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 твор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в род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 да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8. Какая буква пропущена в окончании имён прилагательны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ужился в син…м неб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 ближн…м озе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-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-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другая букв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9.Укажи падеж прилагательных в словосочетаниях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дел в синем небе, рисовал на холодном ок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ин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предлож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твор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0. Если прилагательное имеет окончание –АЯ (-ЯЯ), то какого оно род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едне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жен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уж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840" y="14997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8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9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0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31:43Z</dcterms:created>
  <dc:creator>Olga</dc:creator>
  <dc:description/>
  <dc:language>en-US</dc:language>
  <cp:lastModifiedBy>Computer</cp:lastModifiedBy>
  <dcterms:modified xsi:type="dcterms:W3CDTF">2013-02-14T11:01:04Z</dcterms:modified>
  <cp:revision>16</cp:revision>
  <dc:subject/>
  <dc:title>1.Что такое имя прилагательное?</dc:title>
</cp:coreProperties>
</file>