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DDB-32F8-415A-92B9-54927A78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625-E3D8-4AEB-8CFE-B36429A5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037-B4FA-4E26-B0BB-DF3DA361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F922-B7E1-47F4-8B01-E3196A1F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6C19-61F1-49A8-9087-6FE4667F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B2FD-9B96-4E46-B7E4-4F5698EA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F1CA-77DB-42DC-9C80-BC758B0E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FE8B-3F26-497D-89C0-5FDB39FF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18C3-629A-485F-BF09-3364BF4C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CEF9-8E98-4582-ACB1-2A9BE230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402B-EF14-4A6F-B22E-9BAE2B24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851-AED9-45B1-8AC6-54785BC6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F6A9-DAB9-4318-BF7B-4BE4C969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BC4D-1FCC-4D7F-99AB-4C88D14E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8430-3B2C-434B-9B8D-E1619B25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BB37-FAE5-483F-AE06-5169AADA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D08C-CB60-4D63-9804-1B70C462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63058-4359-4B30-8A0A-2A838961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9D11C-E803-4AB9-B02E-D9A5C279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70A35-1B94-452F-BAD5-E888C5E6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F2E36-1B2D-4429-B588-8F064E7D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09251-6DBA-4E1D-B41C-77801231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8FA-B55B-4EEC-AEA1-BD25D6F7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4158C-C01D-49B6-8779-E80ACE7E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44FD6-E78F-4F3C-B072-DEFDEB81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EE7A-AD9D-4D80-833D-16D532FA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34F57-5B22-4913-BA70-4ECB3253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39893-427D-41E7-852C-5A40502A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A6335-3EBF-4CB0-912F-071608BC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04F4D-7027-46A9-9663-53729396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16FBE-DDEB-4821-A72C-09098C2A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F43CC-1F7A-40DB-B6CC-BE6D06DA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42C9B-88D6-4324-8F72-027B43AD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C23-8E29-4217-9AD3-E325BEC5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AA4E5-7690-4B0C-8FCE-795ACB65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2BC92-FC05-423F-BEB6-D282C473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4BA8F-A670-4822-88E1-DED12FC3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F630B-4E88-4697-A000-132D6FAE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601AE-7DF7-4E52-875B-D5C52DA0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477ED-7155-463A-9488-5D297D11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12605-2FE9-4DBC-BA2E-B2351A7A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9E17C-6603-4275-BF77-CE2B7EAE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0F94C-439B-41E3-9525-723A2596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D6DD7-F84E-4189-8D39-850156EB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F9E-424A-4A83-B316-EAC0C2C9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728AA-C597-4A42-92F7-F7CC61F8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759D7-AD70-44EA-B66D-8F4DA6D4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25626-A3BF-4F9A-843C-0117CC12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3A917-F8AB-48F9-8B93-9F649DEC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E51ED-2C89-40B0-879D-852FEACC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E9197-4548-4254-B043-06AF72F7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C1DA0-17EA-48DA-9488-5765D917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31D78-6B1F-4B77-AD53-DF330A85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40D8E-A831-44BA-B321-C9717F44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6C330-AFC7-4E21-8E7D-FEA9B247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235-B5FF-43FB-9A62-DE4440B8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2C263-7873-4F89-9F45-78ADC715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A87-940B-41DD-B7AD-CBDF5FD9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C26-EDD7-48E2-834A-A901C2A2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29E4-A6F5-4B23-BCA2-3E64223C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FA83-E1D8-42EB-AE93-04875F3A800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83CB-B31C-449A-94BA-801C219A155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5E90-F340-439B-9D7E-FE61A3C848A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75A8-C03E-4A3B-910A-55E94304398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FFF3-AD6C-489F-BAC4-78D55C67178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40080" y="512640"/>
            <a:ext cx="5413320" cy="2919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gradFill rotWithShape="0">
            <a:gsLst>
              <a:gs pos="0">
                <a:srgbClr val="e7a492"/>
              </a:gs>
              <a:gs pos="100000">
                <a:srgbClr val="f07b54"/>
              </a:gs>
            </a:gsLst>
            <a:lin ang="5400000"/>
          </a:gradFill>
          <a:ln w="11520">
            <a:solidFill>
              <a:srgbClr val="de6c36"/>
            </a:solidFill>
            <a:miter/>
          </a:ln>
          <a:effectLst>
            <a:outerShdw dist="25560" dir="5400000" blurRad="0" rotWithShape="0">
              <a:srgbClr val="873f1d">
                <a:alpha val="83000"/>
              </a:srgbClr>
            </a:outerShdw>
          </a:effectLst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Trebuchet MS"/>
              </a:rPr>
              <a:t>Маугл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52280" y="428760"/>
            <a:ext cx="77425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000680" y="428760"/>
            <a:ext cx="3781080" cy="561960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4"/>
          <p:cNvSpPr/>
          <p:nvPr/>
        </p:nvSpPr>
        <p:spPr>
          <a:xfrm>
            <a:off x="214200" y="714240"/>
            <a:ext cx="35006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жозеф Редьярд Киплинг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0 декабря 1865 –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8 января1936 (70 лет) – британский автор и поэт. Наиболее известные: сборник рассказов который включает «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Рикки-Тикки-Тави»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(1901) (сказка приключения), «Маугли»- сказ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28760" y="343080"/>
            <a:ext cx="75960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493560" y="428760"/>
            <a:ext cx="728208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642960" y="109440"/>
            <a:ext cx="72262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714240" y="142920"/>
            <a:ext cx="729936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785880" y="355680"/>
            <a:ext cx="7041960" cy="60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785880" y="347760"/>
            <a:ext cx="72104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14200" y="193680"/>
            <a:ext cx="753264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Station</cp:lastModifiedBy>
  <dcterms:modified xsi:type="dcterms:W3CDTF">2010-02-16T18:07:07Z</dcterms:modified>
  <cp:revision>14</cp:revision>
  <dc:subject/>
  <dc:title>Ричард Киплинг</dc:title>
</cp:coreProperties>
</file>