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4CC-00D6-4A38-ADFD-113F4238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A2D-5272-4C01-9BC8-27CA9E56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41B-85F2-4DB6-8CD1-5017AC49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520-5068-41AF-BDCE-1F5CCF94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451-BE5F-4F57-ABEB-3247FF29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DBEA-842E-4890-AE64-0361652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39AE-EC12-43EF-A757-ECAD8EB0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12F9-D85B-463C-8885-CB8BA823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54BC-411D-4EDD-86AE-E0231B1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93B5-13A0-42DB-9859-2F5A3198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34E-B590-4CEB-B75D-285A5DC3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98A-608C-436D-8133-B2C2B58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3BCE-CB52-4100-A329-5A4BEFF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AD4B-22A7-4751-A298-B4E7A47E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3AE-4906-4D42-A425-823677F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F94-497A-4326-87BA-FADCEBB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40B8-6A26-48A6-876E-1F234851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3FDE-0A99-406D-A40A-A27C800F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225B-1E38-44E0-8D64-4524C9FE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0BB6-FBC1-4796-9C87-F45B8658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C145-8305-4FD4-8E1D-B22A5EE4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2C02-9D6E-48A3-865C-7BB38EA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220-6890-44A7-9756-3C14D439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5C30-DB65-4AE5-8697-E905B0E3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0A2D-95C5-4660-84C9-E52DEE7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05A7-7D17-451F-8D3B-D8949E2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A8BA-EBA1-4316-9069-648C9E9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BE79-CA5D-4AD5-BE35-8B7CB233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0057-1944-4AD1-9B3B-1FDB452B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44FE-C934-4C61-BECE-FA806869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F422-E01E-4C22-97D3-8AFCE95A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FCAE-BFE6-410E-8BF8-47B1F43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FF8B-10E9-442A-87D8-DD392B91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AA4-F6D9-443B-B8A0-59954E28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E0E5-FEA4-42FC-B6A8-43EFF7D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C72A-D817-4DDD-A15C-6CE22F0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833F-99BE-4088-ADAF-9CEC137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3EBC-C75E-46AD-B19C-F659990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305A-2CAF-42E6-AD0B-9BA58237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4334-D942-4999-8216-64AACDA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C1810-3470-4682-B75C-24A4331B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5548-8888-47CB-85CD-8BC4CE74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9BA8-09EA-4C8F-A8FF-E78BA51D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65C6-A3B1-4CA5-BE77-08675082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6CC-C13A-434A-A7A6-A6A0885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CEAF7-E83E-44C9-A97C-44C5379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FA96-1CA1-4295-8696-036EEC5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C5FD-27BE-4A4E-A163-8E00FC17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D9FF-14EF-4AB2-86B4-C2D83163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172B-561C-4AF6-8400-3D50495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CF280-711D-4909-B0D0-F8BFF3E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0745-69EB-42A0-8C62-3B3FD51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DC5E-11E9-4656-9688-68847EF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D651-4496-4EF9-ACE6-3C33925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5243-5DC1-4C1D-9F84-0C46C8D0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EFD-C8D5-41E1-ADA9-DB2C5BFE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4D98-CC6D-42F1-9245-6A3F22CE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7F3-0AC4-40C0-A0F6-5C6C8F45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559-31E1-4BEE-ADB9-852AAC6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999-ED84-4ECB-B08F-B2298EE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914-717C-48A5-9316-DDF1F6B8C26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741-B87F-4AE0-BF46-3270E12E641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CAF3-9E4E-4FDE-B563-0FF26F9AA28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900D-DD4D-44E1-9A48-10C50867235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68F9-F7ED-4121-BBB3-5475404F5E7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0080" y="512640"/>
            <a:ext cx="5413320" cy="2919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gradFill rotWithShape="0">
            <a:gsLst>
              <a:gs pos="0">
                <a:srgbClr val="e7a492"/>
              </a:gs>
              <a:gs pos="100000">
                <a:srgbClr val="f07b54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5560" dir="5400000" blurRad="0" rotWithShape="0">
              <a:srgbClr val="873f1d">
                <a:alpha val="83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rebuchet MS"/>
              </a:rPr>
              <a:t>Маугл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52280" y="428760"/>
            <a:ext cx="7742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000680" y="428760"/>
            <a:ext cx="3781080" cy="5619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214200" y="714240"/>
            <a:ext cx="3500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жозеф Редьярд Киплин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0 декабря 1865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 января1936 (70 лет) – британский автор и поэт. Наиболее известные: сборник рассказов который включает «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икки-Тикки-Тав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1901) (сказка приключения), «Маугли»- сказ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28760" y="343080"/>
            <a:ext cx="7596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93560" y="428760"/>
            <a:ext cx="72820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42960" y="109440"/>
            <a:ext cx="72262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14240" y="142920"/>
            <a:ext cx="72993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85880" y="355680"/>
            <a:ext cx="704196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85880" y="347760"/>
            <a:ext cx="7210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7532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Station</cp:lastModifiedBy>
  <dcterms:modified xsi:type="dcterms:W3CDTF">2010-02-16T18:07:07Z</dcterms:modified>
  <cp:revision>14</cp:revision>
  <dc:subject/>
  <dc:title>Ричард Киплинг</dc:title>
</cp:coreProperties>
</file>