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D96-33C9-489A-B655-4CB0ACF9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A3C-55BC-446B-B54D-5DA0A122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630-5173-4735-8D3E-5126CF8F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844-9236-49BE-8BCF-2431999D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535-A086-4892-A2C6-496CE563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800-807A-436C-9903-526F752E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6694-91CF-4B50-94C7-57962E59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6A6-60D4-4DAF-AAB1-70CE6E9E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AED-3B30-48EE-8751-9AC4AC04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80C-18C1-485C-8997-0928FEB3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DFA-063D-4735-8E53-0E701962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727-FF58-494F-BC86-31E56E42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B565-47A9-4A39-A65E-8ABDB7BD32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__________ 2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асшифруй название растений и живот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Афд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Дьлеб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Арс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Кутб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Ис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Пантю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Угроза животным и растени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ырубка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садка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валка мус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бор бук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грязнение водоё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ж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здание заповед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Браконье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храна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kb07"/>
          <p:cNvPicPr/>
          <p:nvPr/>
        </p:nvPicPr>
        <p:blipFill>
          <a:blip r:embed="rId1"/>
          <a:stretch/>
        </p:blipFill>
        <p:spPr>
          <a:xfrm>
            <a:off x="468360" y="476280"/>
            <a:ext cx="8229600" cy="55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d12_60070099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55956_or"/>
          <p:cNvPicPr/>
          <p:nvPr/>
        </p:nvPicPr>
        <p:blipFill>
          <a:blip r:embed="rId1"/>
          <a:stretch/>
        </p:blipFill>
        <p:spPr>
          <a:xfrm>
            <a:off x="2095560" y="19080"/>
            <a:ext cx="49528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a0f94f0871c4fb84cda192f82b1f414"/>
          <p:cNvPicPr/>
          <p:nvPr/>
        </p:nvPicPr>
        <p:blipFill>
          <a:blip r:embed="rId1"/>
          <a:stretch/>
        </p:blipFill>
        <p:spPr>
          <a:xfrm>
            <a:off x="2133720" y="254160"/>
            <a:ext cx="48765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dadc35fdc42a"/>
          <p:cNvPicPr/>
          <p:nvPr/>
        </p:nvPicPr>
        <p:blipFill>
          <a:blip r:embed="rId1"/>
          <a:stretch/>
        </p:blipFill>
        <p:spPr>
          <a:xfrm>
            <a:off x="1397160" y="870120"/>
            <a:ext cx="6349680" cy="51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ICT2558_32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9"/>
          <p:cNvPicPr/>
          <p:nvPr/>
        </p:nvPicPr>
        <p:blipFill>
          <a:blip r:embed="rId1"/>
          <a:stretch/>
        </p:blipFill>
        <p:spPr>
          <a:xfrm>
            <a:off x="1619280" y="189000"/>
            <a:ext cx="5905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Красная кни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Животны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стени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Что произойдёт, если будут вырубать лес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_2880_79731861_XL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4:12:49Z</dcterms:created>
  <dc:creator>Admin</dc:creator>
  <dc:description/>
  <dc:language>en-US</dc:language>
  <cp:lastModifiedBy>Computer</cp:lastModifiedBy>
  <dcterms:modified xsi:type="dcterms:W3CDTF">2013-02-14T11:10:43Z</dcterms:modified>
  <cp:revision>4</cp:revision>
  <dc:subject/>
  <dc:title>Слайд 1</dc:title>
</cp:coreProperties>
</file>