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11C-0A98-47A7-85CF-ED5DD854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393-80B2-4C86-BC47-EEB305F7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084-5111-4A3D-9986-E7EE607F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DB0-74B2-4A9B-AE87-20DAF310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907-A46D-4CF1-A82D-11FD4A13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FDB-9074-49D7-8C7F-CFEA5325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D85-9B30-46EA-AC47-79F5C47B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D17-3377-4840-8314-63527FF9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9BC-7A92-48D6-8287-B0F5F5A9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845C-FA4A-4AD7-8728-9F898734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BAF-94EA-46AF-B544-515DD2F2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2CC-C8AC-4759-A8E9-DFD857C8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31D0-1B11-4F01-9DE2-E2E8FBCC0E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2142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Педагогический совет «Пути формирования информационной и коммуникативной компетенции в образовательном пространстве школ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Анализ урока в рамках  диагностики качества реализации компетентностного под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Тема урока:Г. В. Черноголов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«Сказка об одном зернышк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Класс:   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Компетенция: ключевые компетенции: коммуникативная, информационная, самоменеджме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Аспект: 1. публичное выступление, диалог, продуктивная групповая коммуник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2. извлечение первичной информации, обработка первичной информации, обработка вторичной информ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3. оценка деятельности и оценка собственного продви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МО     гуманитарного цик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ГУ  СОСШПА № 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0" y="165384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инение на литературную тем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Чтобы ты сделал, если бы нашел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олшебный меч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мешок с золот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зернышк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Чему учит «Сказка об одном зернышке»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Кто из героев «Сказки» понравился и почему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Чудесное рядом с н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Рисунок к произведени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какими затруднениями столкнулись при выполнении задан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предлагаете пути их преодолен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3"/>
          <p:cNvSpPr/>
          <p:nvPr/>
        </p:nvSpPr>
        <p:spPr>
          <a:xfrm>
            <a:off x="0" y="0"/>
            <a:ext cx="9144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 – конспект урока по тем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казка об одном зернышке»       Г.В. Черноголов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ительный урок по разделу «Фольклор и литература 20 века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едение для чтения и обсуждения. 1 ча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беспечить усвоение и осмысление содержания текста сказки, ее идейно-гуманистической направленности и общечеловеческого смысл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должить работу над литературными терминами: тема, идея, художественный образ, портрет героя, сказка литературная, художественно-изобразительные средств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продолжить формирование общеучебных умени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ть с книгой, словаре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ставлять план ответа, компози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ясно и точно выражать свои мысл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ть в группе, пар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ценивать свою деятельнос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развивать информационную компетенцию. Аспек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звлечение первичной информа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звлекают информацию по заданному вопросу из текста, содержащего художественный образ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торичная обработка информации, систематизирование извлеченной информации  в рамках заданной структу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работка информации (излагают полученную информацию в контексте решаемой задачи,  делают выводы и приводят аргументы или данные для подтверждения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развивать коммуникативную компетенцию в аспекта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убличного выступления (используют вербальные средства для своего выступления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иалога (высказывает мнение и запрашивает мнение партнера в рамках диалог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одуктивная групповая коммуникация  (учащиеся самостоятельно договариваются о правилах и вопросах для обсуждения в соответствии с поставленной перед группой задачей, учащиеся следят за обсуждением и обобщают, фиксируют, распределяют и принимают на себя обязанности в рамках выполнения групповой работы. Они задают вопросы на уточнение и понимание идей,  уточняют идеи друг друг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1000080"/>
          <a:ext cx="9144000" cy="58737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134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дарт  ЗУНов на вх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дарт ЗУНов  на вых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ния теоретико- литературные: литература и фольклор, жанр – сказка литературная, тема и идея произ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рико-литературные : ФИО автора, биографические сведени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оретико-литературные: Составление модели произведени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хемы компози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крыть тему и идею данной сказк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жан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-творческая деятельность: характеризовать героя, составлять простой план, выразительно читать произведение, сравнивать литературных геро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-творческая деятельность: охарактеризовать героев сказки на основе их поступков и взаимоотношений с другими персонажами, сравнивать литературных героев, выявлять позицию автора, его отношение к персонажам, передавать индивидуальное восприятие Х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уровне компетен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уровне компетен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16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ая. В аспекте публичного выступления: готовит план выступления, соблюдает нормы публичной речи и регла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аспекте диалог: воспринимает основное содержание информации в монологе, отвечает на вопросы и задает 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родуктивно-групповая коммуникация: учащиеся самостоятельно следуют заданной процедуре группового обсуж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щиеся распределяют и принимают на себя обязанности в рамках выполнения группово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ая. В аспекте публичного выступления: использует вербальные средства и невербальные средства или наглядные материал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аспекте диалог: воспринимает  основное содержание информации в диалоге, монологе, группе. Высказывает мнение (суждение) и запрашивает мнение партнера в рамках диал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родуктивно – групповая коммуникация: учащиеся следят за соблюдением процедуры обсуждения, обобщают. Фиксируют решения в конце работы, они сопоставляют свои идеи с идеями других членов группы, развивают и уточняют идеи друг д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1"/>
          <p:cNvSpPr/>
          <p:nvPr/>
        </p:nvSpPr>
        <p:spPr>
          <a:xfrm>
            <a:off x="0" y="504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вивать интерес к изучению художественной литерату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оспитывать вдумчивого читателя, внимательного к слов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овать эмоционально-ценностные отнош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3059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64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ая компетент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извлечения первичной информации: извлекает информацию по заданному вопросу из Х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ая компетент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ервичная обработка информации: систематизирует извлеченную информацию по заданной те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 вторичная обработка информации: делает вывод на основе полученной информации и приводит несколько аргументов для его подтвер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деятельности: 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деятельности: оценка деятельности,  осуществляет текущий контроль свое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собственного продвижения: указывает сильные и слабые стороны свое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собственного продвижения: называет трудности, с которыми столкнулись при решении проблемы и предлагают пути их преодол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"/>
          <p:cNvSpPr/>
          <p:nvPr/>
        </p:nvSpPr>
        <p:spPr>
          <a:xfrm>
            <a:off x="0" y="3089880"/>
            <a:ext cx="9144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ства организации познавательной деятельности учащих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рточки-задания для самостоятельной работы в групп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ст по произведени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организации познавательной деятельности учащих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оделировани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сследовательски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етод ИК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етоды самоконтрол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ловесные (диалог и монолог, комментирование лексического значения слов, озвучивание схемы, устное высказывание на тему, передача собственного восприятия ХП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обуч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М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на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руппова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ронтальна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урока – комбинированный (урок изучения темы, закрепления и контрол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36000"/>
            <a:ext cx="914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-конспект уро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тивационный эта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: если вы успешно справитесь с заданием, то  научитесь правильно поступать в сложных жизненных ситуациях, делать добро, прощать об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ем тему урока и запишем в тетрад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йте определим цели урок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итать и обсуждать произведе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нализировать поступки героев и их характер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ределять тему и идею произвед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ставлять композиционную сх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упление подготовленного учащегося о Г.В. Черноголовино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КТ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сатели Казахст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ина Васильевна Черноголовина (192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Галина Васильевна Черноголовина"/>
          <p:cNvPicPr/>
          <p:nvPr/>
        </p:nvPicPr>
        <p:blipFill>
          <a:blip r:embed="rId1"/>
          <a:stretch/>
        </p:blipFill>
        <p:spPr>
          <a:xfrm>
            <a:off x="7543800" y="1428840"/>
            <a:ext cx="1600200" cy="2133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0" y="358776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стный казахстанский писатель И.П.Шухов в январе 1966 года писал: «С большой душевной готовностью и охотой рекомендую принять в члены Союза писателей СССР Черноголовину Галину Васильевну - автора нескольких превосходных детских книжек, вышедших на Дальнем Востоке, в Алма-Ате, Москве… Горячо верю в ее хорошее литературное будущее». Но Черноголовина Г.В. известна в Казахстане не только как детская писательница, но и как талантливый публицист, автор повестей и романов о людях Целины. Несколько лет она была заместителем главного редактора журнала «Простор2, председателем Совета по русской литературе в Союзе писателей Казахстана. В годы перестройки вошла в общественно-литературное движение «Апрель», способствующее укреплению в обществе принципов демократии, гражданского согласия и мир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ина Васильевна Черноголовина родилась 15 марта 1929 года в селе Знаменском Омской области. Окончила Хабаровский педагогический институт. Преподавала русский язык и литературу в сельской школе. Работала на радио, в районных газетах Хабаровского и Краснодарск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35280"/>
            <a:ext cx="9144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ев. В 1963 году переехала с семьей в г. лма-Ату. С середины 1990-х годов живет в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деятельность Г.Черноголовиной берет начало на Дальнем Востоке. В 1960 году в Хабаровском книжном издательстве выходит ее первая книга – сборник рассказов для детей о людях таежного села «Цветы голубики». Через два года появились еще три книжки для детей: «Веселые странички о братце и сестричке», «Капельки амурские», «Мальчик-Мазайчик». Затем: «Ванька-встанька Новосел» (1965), «Лодка в протоке» (1966), «Свеча за красным стеклом» (1968), «Теплая краюшка» (1972), «Робот на час» (1968) и др. Всего в авторстве Г.В.Черноголовиной выпущено 15 изданий для детей разных жанров, около половины из них вышло в Москве, в издательстве «Детская литература». Они стали заметным явлением в казахстанской и общесоюзной литературе для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ение «Сказки об одном зернышке» (стр. 340-34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равилось вам произведение? Кто из героев понравился, чем имен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арная работа: ветрогар, продуб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трогар – «продубела кожа на ветр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беть – сделаться крепкой, как кора д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2         Анализ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по групп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форме пятистишия составить характеристику младшего б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арактеризовать Илюшу, составив пятистиш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арактеризовать Тоню, составив пятистиш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модель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ьность – сказка - ре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схему композиции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зка в сказке. Зачин, испытание, возвра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выполненного задания в груп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группа.  Модельны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Б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Упрямый, но доб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Огорчается, выращивает, прощ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«Семь сел, семь городов прокормлю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Труже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группа.  Модельны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И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Младший, хитрый – прехит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Любит, выдумывает, забот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«Вдруг этот колос волшебный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Фант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0" y="39960"/>
            <a:ext cx="9144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 То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Старшая, весел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Спорит, заботиться, люби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«Потом опять веснушки заметно!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Помошни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одель художественного мира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Diagram 11"/>
          <p:cNvGrpSpPr/>
          <p:nvPr/>
        </p:nvGrpSpPr>
        <p:grpSpPr>
          <a:xfrm>
            <a:off x="3929040" y="301680"/>
            <a:ext cx="5486400" cy="2341440"/>
            <a:chOff x="3929040" y="301680"/>
            <a:chExt cx="5486400" cy="2341440"/>
          </a:xfrm>
        </p:grpSpPr>
        <p:pic>
          <p:nvPicPr>
            <p:cNvPr id="53" name="Схема 14" descr=""/>
            <p:cNvPicPr/>
            <p:nvPr/>
          </p:nvPicPr>
          <p:blipFill>
            <a:blip r:embed="rId1"/>
            <a:stretch/>
          </p:blipFill>
          <p:spPr>
            <a:xfrm>
              <a:off x="3929040" y="301680"/>
              <a:ext cx="548640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AutoShape 14"/>
            <p:cNvSpPr/>
            <p:nvPr/>
          </p:nvSpPr>
          <p:spPr>
            <a:xfrm rot="16200000">
              <a:off x="3810240" y="432360"/>
              <a:ext cx="2221920" cy="1978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альность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Фокус»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агнитофоно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AutoShape 13"/>
            <p:cNvSpPr/>
            <p:nvPr/>
          </p:nvSpPr>
          <p:spPr>
            <a:xfrm rot="16200000">
              <a:off x="7298280" y="432360"/>
              <a:ext cx="2221920" cy="1978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альность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лосок в посылк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Oval 12"/>
            <p:cNvSpPr/>
            <p:nvPr/>
          </p:nvSpPr>
          <p:spPr>
            <a:xfrm>
              <a:off x="5454720" y="448560"/>
              <a:ext cx="2490120" cy="151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антастический мир «Сказки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20"/>
          <p:cNvSpPr/>
          <p:nvPr/>
        </p:nvSpPr>
        <p:spPr>
          <a:xfrm>
            <a:off x="212400" y="2550240"/>
            <a:ext cx="75049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позиция произведения «Сказка об одном зернышк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 часть. Реальность. Фоку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часть. Зачин сказ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часть. Трудная задача для брат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часть. Испытание братьев, их возвращ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часть. Развязка в сказ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6 часть. Реальность. Колосо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нтрол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ест с последующей проверкой по ключ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ематический тест по произведению Г.В Черноголовиной «Сказка об одном зернышк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. Определите жанр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. Расска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. Фольклорная  сказ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. Литературная сказ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. Укажи персонажей данного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. Пет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. Ксения Сергеев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.  Илюш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0" y="36360"/>
            <a:ext cx="914400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акой прием использует авто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ы медлишь? – говорит ему зернышко. – Бросай меня в земл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равн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Олицетвор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Антитез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то из братьев нашел волшебное зернышко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тарш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Сред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Младш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ое выражение лица было у Илюши, когда он решил показать  Фокус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Хитрое-прехитр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Печальн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Радостн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Какую трудную задачу выполнил младший брат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Куп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Накорм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Покор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акой прием использует автор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ой выдумщик! – засмеялась Тоня. – Все бы ему, как в сказ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равн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Гипербо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Эпит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Почему младший брат принял старших  к себ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терпеливы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сочувствует братьям в бед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умеет прощ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Что символизирует зернышко в произведении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труд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терпен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ожидание чу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проверка по ключ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2286000" y="0"/>
            <a:ext cx="4572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-  Б,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– 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– 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– Б,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– А, Б,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6:16:35Z</dcterms:created>
  <dc:creator>LAN_OS</dc:creator>
  <dc:description/>
  <dc:language>en-US</dc:language>
  <cp:lastModifiedBy>LAN_OS</cp:lastModifiedBy>
  <dcterms:modified xsi:type="dcterms:W3CDTF">2010-12-04T17:00:43Z</dcterms:modified>
  <cp:revision>5</cp:revision>
  <dc:subject/>
  <dc:title>Слайд 1</dc:title>
</cp:coreProperties>
</file>