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1F8-79DA-47BC-8B6B-4A40D7A5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370-B289-43A9-995D-9FA05799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DEF-AFE7-4576-BCDB-C683F3A1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710-DF73-456B-B546-5EB7385D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1733-4D64-4801-9EE7-DC931328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AE3D-AA64-450D-B81E-29EFF2C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095-7D74-495A-831E-1FD8F8FC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A8C6-F46B-4A4C-9F39-C14F6A9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534E-DE6B-47D8-A313-F7409C6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228E-8269-4487-A658-5CED5FBA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F339-8A9D-4BF8-AAC8-0FBBB52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7E8-704C-449E-8C78-321612D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049-F578-4426-950D-70E51A0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519-F63C-4845-9799-ED05375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0A9-582D-4F6C-81BC-102DA8F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3CBD-94EE-46EA-8508-25A484ED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BE3B-ADD8-45D5-A3FB-D9488D5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4A7-439A-4832-9372-9E6D8130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277-8003-41A1-BB1F-C0813FED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108-8AE5-485F-8445-144D0ABD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6C9-0F42-4976-A2CE-84A5E36E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837-81D0-4EC4-9112-5DD9C91C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90E-958C-40D1-8CB3-B3D8BEB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9DA-092C-4D73-BC17-5188CE5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C816-72B3-4F41-B8E1-5686914165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054D-DE02-4FBF-8973-3A9BE5C0DF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 – біздің екінші үйімі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276640"/>
            <a:ext cx="9144000" cy="475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Asilbek Ensepov - Gafiz.mp3" descr=""/>
          <p:cNvPicPr/>
          <p:nvPr/>
        </p:nvPicPr>
        <p:blipFill>
          <a:blip r:embed="rId3"/>
          <a:stretch/>
        </p:blipFill>
        <p:spPr>
          <a:xfrm>
            <a:off x="611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Сөйлемнің дұрыс+, бұрысын- анықт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1.Табиғат пен адам – біртұта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2. Бұлақтардың көзін ашу ешкімге керек еме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3. Су бар жерде – тіршілік жо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4.Орман – ауаны тазартп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5. Бізді қоршаған орта тап- таз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Көп нүктенің орнына тиісті әріптерді қойып,көшіріп жазыңдар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у ...ан жер  таби...аты – хал...ымыздың ұлт..ық мақтанын...шы. Сонд...қтан оны а...лап  қор... ауға үлес қ...су – бізд..ң  азама...тық бор...шымыз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Ассоциация құр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карта 009"/>
          <p:cNvPicPr/>
          <p:nvPr/>
        </p:nvPicPr>
        <p:blipFill>
          <a:blip r:embed="rId1"/>
          <a:stretch/>
        </p:blipFill>
        <p:spPr>
          <a:xfrm>
            <a:off x="539640" y="2205000"/>
            <a:ext cx="860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kk-KZ" sz="3600" spc="-1" strike="noStrike">
                <a:solidFill>
                  <a:srgbClr val="cc0000"/>
                </a:solidFill>
                <a:latin typeface="Arial"/>
              </a:rPr>
              <a:t>Тілшімен сұб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6" descr="карта 004"/>
          <p:cNvPicPr/>
          <p:nvPr/>
        </p:nvPicPr>
        <p:blipFill>
          <a:blip r:embed="rId1"/>
          <a:stretch/>
        </p:blipFill>
        <p:spPr>
          <a:xfrm>
            <a:off x="755640" y="2349360"/>
            <a:ext cx="8388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2362320"/>
          <a:ext cx="7693200" cy="3736800"/>
        </p:xfrm>
        <a:graphic>
          <a:graphicData uri="http://schemas.openxmlformats.org/drawingml/2006/table">
            <a:tbl>
              <a:tblPr/>
              <a:tblGrid>
                <a:gridCol w="341280"/>
                <a:gridCol w="328680"/>
                <a:gridCol w="398520"/>
                <a:gridCol w="355680"/>
                <a:gridCol w="371520"/>
                <a:gridCol w="355680"/>
                <a:gridCol w="326880"/>
                <a:gridCol w="328680"/>
                <a:gridCol w="326880"/>
                <a:gridCol w="285840"/>
                <a:gridCol w="369720"/>
                <a:gridCol w="328680"/>
                <a:gridCol w="284040"/>
                <a:gridCol w="327240"/>
                <a:gridCol w="328680"/>
                <a:gridCol w="298440"/>
                <a:gridCol w="285480"/>
                <a:gridCol w="684360"/>
                <a:gridCol w="682560"/>
                <a:gridCol w="6843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050 Aktan-Esimde.mp3" descr=""/>
          <p:cNvPicPr/>
          <p:nvPr/>
        </p:nvPicPr>
        <p:blipFill>
          <a:blip r:embed="rId1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02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473040"/>
                <a:gridCol w="473400"/>
                <a:gridCol w="453960"/>
                <a:gridCol w="434880"/>
                <a:gridCol w="530280"/>
                <a:gridCol w="473040"/>
                <a:gridCol w="492120"/>
                <a:gridCol w="473040"/>
                <a:gridCol w="434880"/>
                <a:gridCol w="436680"/>
                <a:gridCol w="434880"/>
                <a:gridCol w="406440"/>
                <a:gridCol w="492120"/>
                <a:gridCol w="434880"/>
                <a:gridCol w="379440"/>
                <a:gridCol w="435240"/>
                <a:gridCol w="434880"/>
              </a:tblGrid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Қорытын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336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биғатты қорғау үшін б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Күресейік, бір-бір ағаш егейі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екке отырмай жасымыз бен к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за ауа үшін терімізді төгейік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050 Aktan-Esimde.mp3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402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Таза болса табиғат, аман болар адамза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уа - өмірі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– қазына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- үйің, атамекенің.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Сабақтың  жоспа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8244000" cy="4437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 шақы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Бейнефильм “ Қазақстанның табиғаты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Мәтінмен жұмы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Өзіңді тексе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Ассоциация құ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ілшімен сұхба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лан, тап. Сөзжұмба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Үйге тапсыр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Қорытын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Ой шақыр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Адамның десі сау болу үшін не істеу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үгінде жер бетінде қандай мәселе өзекті мәселеге айналд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Дүниежүзілік мәселе қандай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із қандай үлес қосуымыз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Табиғатты  қорғау дегеніміз – адамның өзін-өзі қорға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3724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5950080"/>
            <a:ext cx="914400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ff"/>
                </a:solidFill>
                <a:latin typeface="Arial"/>
              </a:rPr>
              <a:t>Енді,табиғат, экологиялық мәселелер жөнінде кім не айтқысы келеді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Бейнефильм ”Қазақстанның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              табиғаты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2276640"/>
            <a:ext cx="9144000" cy="4208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ты қорғандар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абиғат – халық қазынасы. Сондықтан біз оның байлығын пайдалана отырып, қорғай білуіміз қажет.Соған байланысты 1966 жылы біздің елімізде “Халықаралық табиғат қорғау қоғамы” құрылды. Оның басты мақсаты- саны сиреп, құрып бара жатқан аң, құстарды, өсімдіктрді қамқорлыққа алып, арнайы кітапқа тіркеу. Мұндай кітапты “ Қызыл  кітап “ деп ат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Өзіңді текс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Бастауыш пен баяндауыш арасына сызықша қойыңы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пен адам  біртұта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тіршілік көзі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тірі дү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йлақтың аты  Байқоңы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біздің ортақ үйімі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Сөйлемдегі баяндауыштың орнын толықтырып, астын сыз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Адам баласы табиғатты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Біз бұлақтардың көзін  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Су мол болса, астық та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абиғаты сақталған халықтар ұзақ өмір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Экологиясы төмен аймақтарымыз көбейіп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0000"/>
                </a:solidFill>
                <a:latin typeface="Arial"/>
              </a:rPr>
              <a:t>Керекті сөздер: </a:t>
            </a:r>
            <a:r>
              <a:rPr b="1" lang="kk-KZ" sz="2400" spc="-1" strike="noStrike">
                <a:solidFill>
                  <a:srgbClr val="006666"/>
                </a:solidFill>
                <a:latin typeface="Arial"/>
              </a:rPr>
              <a:t>сүреді, барады, қорғау тиіс, аштық, мол бола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976640" y="242100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735440" y="277956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328284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7164360" y="375588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569360" y="411480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06:03Z</dcterms:created>
  <dc:creator>Айтжановы</dc:creator>
  <dc:description/>
  <dc:language>en-US</dc:language>
  <cp:lastModifiedBy>21</cp:lastModifiedBy>
  <dcterms:modified xsi:type="dcterms:W3CDTF">2013-03-19T02:30:03Z</dcterms:modified>
  <cp:revision>4</cp:revision>
  <dc:subject/>
  <dc:title>Ќазаќстан – біздіѕ екінші їйімі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110</vt:lpwstr>
  </property>
</Properties>
</file>