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7.gif" ContentType="image/gif"/>
  <Override PartName="/ppt/media/image12.jpeg" ContentType="image/jpeg"/>
  <Override PartName="/ppt/media/image6.png" ContentType="image/png"/>
  <Override PartName="/ppt/media/image5.wmf" ContentType="image/x-wmf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F1F-8780-44FC-AD49-BB0556CA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6D2-4157-45B5-87B1-CB58E436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5D9-2FAE-44F6-A6B3-28AEF71B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7D4C-BFFD-4752-ADE4-0F87BA0E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922-1C59-4FD3-AA79-85311114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6626-D83E-47DD-B06F-C17461F9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50DB-F26C-43CC-B6E5-59AC8F83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11C5-5C67-4B48-9986-D8E50EAE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38B-F6A4-4B09-94E3-B33ADA6C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DE56-F916-4FCC-B7FA-B404A751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0F2-D6B1-4999-A5FA-A0B0566F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5E0-51B5-40C2-8AA5-9968E953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D5C2-2794-40F2-B8BA-B08FF2A7484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Автомобиль. Дорога. Пешеход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i-main-pic" descr="Картинка 88 из 2345"/>
          <p:cNvPicPr/>
          <p:nvPr/>
        </p:nvPicPr>
        <p:blipFill>
          <a:blip r:embed="rId1"/>
          <a:stretch/>
        </p:blipFill>
        <p:spPr>
          <a:xfrm>
            <a:off x="1474920" y="1773360"/>
            <a:ext cx="6048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928800" y="260280"/>
            <a:ext cx="256356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ДТП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4859280" y="3789360"/>
            <a:ext cx="3954600" cy="2808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4032360" cy="280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>
            <a:off x="3708360" y="268200"/>
            <a:ext cx="42483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8" descr="Безымянный"/>
          <p:cNvPicPr/>
          <p:nvPr/>
        </p:nvPicPr>
        <p:blipFill>
          <a:blip r:embed="rId1"/>
          <a:stretch/>
        </p:blipFill>
        <p:spPr>
          <a:xfrm>
            <a:off x="-714240" y="0"/>
            <a:ext cx="1021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3" descr="dotbordr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PASTE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dotbordr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1567800" y="0"/>
            <a:ext cx="33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орожный зна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09480" y="5943600"/>
            <a:ext cx="809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Comic Sans MS"/>
              </a:rPr>
              <a:t>Нужны для регулирования движения транспорта и пешехо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2057400" y="685800"/>
            <a:ext cx="67057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-табличка со схематическим рисунком,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омогающим регулировать движение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5867280" y="1905120"/>
            <a:ext cx="2590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едупреждающие</a:t>
            </a:r>
            <a:endParaRPr b="1" i="1" lang="en-US" sz="20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1219320" y="1981080"/>
            <a:ext cx="2514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апрещающие </a:t>
            </a:r>
            <a:endParaRPr b="1" i="1" lang="en-US" sz="20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WordArt 9"/>
          <p:cNvSpPr txBox="1"/>
          <p:nvPr/>
        </p:nvSpPr>
        <p:spPr>
          <a:xfrm>
            <a:off x="1143000" y="2971800"/>
            <a:ext cx="2666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редписывающие 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WordArt 10"/>
          <p:cNvSpPr txBox="1"/>
          <p:nvPr/>
        </p:nvSpPr>
        <p:spPr>
          <a:xfrm>
            <a:off x="5867280" y="3048120"/>
            <a:ext cx="3048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наки приоритета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WordArt 11"/>
          <p:cNvSpPr txBox="1"/>
          <p:nvPr/>
        </p:nvSpPr>
        <p:spPr>
          <a:xfrm>
            <a:off x="2362320" y="426708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наки сервиса и 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дополнительной информации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4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8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иды дорожных знак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ешеходный перехо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2987640" y="3141720"/>
            <a:ext cx="30970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713880"/>
            <a:ext cx="640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ешеходная зон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32288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апрет движения на велосипед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35701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Дети на дорог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3" descr="028"/>
          <p:cNvPicPr/>
          <p:nvPr/>
        </p:nvPicPr>
        <p:blipFill>
          <a:blip r:embed="rId1"/>
          <a:stretch/>
        </p:blipFill>
        <p:spPr>
          <a:xfrm>
            <a:off x="2627280" y="2133720"/>
            <a:ext cx="3643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ыберите правильные пункт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365840" y="1600200"/>
            <a:ext cx="58438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прещается ездить на велосипеде с неисправным рул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066680" y="213372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решается ездить по тротуар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066680" y="266688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решается ездить, не держась за ру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066680" y="320040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прещается перевозить пассажиров старше 7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066680" y="373392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решается ездить по дороге без световых приб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066680" y="426708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прещается ездить без звукового сигн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066680" y="480060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здить на велосипеде разрешено лицам с 14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1066680" y="533412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прещается ездить парами по ширине доро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285840" y="6072120"/>
            <a:ext cx="22860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6629400" y="6019920"/>
            <a:ext cx="2286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вер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087920" y="1600200"/>
            <a:ext cx="58438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ещается ездить на велосипеде с неисправным рул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1066680" y="2133720"/>
            <a:ext cx="64008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ешается ездить по тротуар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066680" y="2666880"/>
            <a:ext cx="64008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ешается ездить, не держась за ру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1066680" y="3200400"/>
            <a:ext cx="6400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ещается перевозить пассажиров старше 7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1066680" y="373392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решается ездить по дороге без световых приб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1066680" y="3733920"/>
            <a:ext cx="64008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ешается ездить по дороге без световых приб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1066680" y="4267080"/>
            <a:ext cx="6400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ещается ездить без звукового сигн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1066680" y="480060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здить на велосипеде разрешено лицам с 14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1066680" y="4800600"/>
            <a:ext cx="6400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здить на велосипеде разрешено лицам с 14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1066680" y="5334120"/>
            <a:ext cx="6400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ещается ездить парами по ширине доро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апомните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142880" y="1285560"/>
            <a:ext cx="4543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876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efac9"/>
                </a:solidFill>
                <a:latin typeface="Calibri"/>
              </a:rPr>
              <a:t>    </a:t>
            </a: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Не перебегайте улиц и дорог перед близко  движущимся                             транспортом – это очень </a:t>
            </a:r>
            <a:r>
              <a:rPr b="1" lang="ru-RU" sz="3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пасно</a:t>
            </a: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для жизни.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876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Ни одно даже самое важное дело 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   </a:t>
            </a: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не  стоит 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     </a:t>
            </a:r>
            <a:r>
              <a:rPr b="1" lang="ru-RU" sz="3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вашей жизни</a:t>
            </a: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!!!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476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6133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амятка при переходе дорог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5000760" y="2286000"/>
            <a:ext cx="371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Умей не только видеть , но и слышать улиц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Обращай внимание на сигналы автомобиля (указатели поворота, заднего хода, тормоза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Контролируй свои движения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поворот головы для осмотра дороги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остановку для пропуска автомобил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856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орожная Академ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715000"/>
            <a:ext cx="6400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  <a:ea typeface="Aharoni"/>
              </a:rPr>
              <a:t>«Дисциплина на улице – залог безопасности»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10" descr="пдд2"/>
          <p:cNvPicPr/>
          <p:nvPr/>
        </p:nvPicPr>
        <p:blipFill>
          <a:blip r:embed="rId2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HAPPYBOY"/>
          <p:cNvPicPr/>
          <p:nvPr/>
        </p:nvPicPr>
        <p:blipFill>
          <a:blip r:embed="rId3"/>
          <a:stretch/>
        </p:blipFill>
        <p:spPr>
          <a:xfrm>
            <a:off x="2928960" y="3357720"/>
            <a:ext cx="1152360" cy="187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MIS105"/>
          <p:cNvPicPr/>
          <p:nvPr/>
        </p:nvPicPr>
        <p:blipFill>
          <a:blip r:embed="rId4"/>
          <a:stretch/>
        </p:blipFill>
        <p:spPr>
          <a:xfrm>
            <a:off x="4857840" y="3000240"/>
            <a:ext cx="16081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18"/>
          <p:cNvSpPr/>
          <p:nvPr/>
        </p:nvSpPr>
        <p:spPr>
          <a:xfrm>
            <a:off x="4572000" y="1219320"/>
            <a:ext cx="0" cy="5638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0" y="16765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ы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ревний вид транс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304920" y="281952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ый распространенный вид транс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228600" y="44197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ый быстрый вид транс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380880" y="556272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ый мелкомасштабный вид транспорта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257800" y="4419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ОД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5105520" y="17524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ВТОМОБИ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5"/>
          <p:cNvSpPr/>
          <p:nvPr/>
        </p:nvSpPr>
        <p:spPr>
          <a:xfrm>
            <a:off x="5257800" y="5715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ОЗДУШ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5105520" y="3048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ЖЕЛЕЗНОДОРОЖ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3" descr="bar67"/>
          <p:cNvPicPr/>
          <p:nvPr/>
        </p:nvPicPr>
        <p:blipFill>
          <a:blip r:embed="rId1"/>
          <a:stretch/>
        </p:blipFill>
        <p:spPr>
          <a:xfrm rot="5400000">
            <a:off x="1793160" y="3921120"/>
            <a:ext cx="5638680" cy="235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534520" cy="8380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сставьте в нужном порядке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1783 L 0.01667 0.20232 E">
                                      <p:cBhvr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778 E">
                                      <p:cBhvr>
                                        <p:cTn id="7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3.33333E-006 -0.39329 E">
                                      <p:cBhvr>
                                        <p:cTn id="7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4 E">
                                      <p:cBhvr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2357280" y="457200"/>
            <a:ext cx="43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Подзаголовок 2"/>
          <p:cNvSpPr/>
          <p:nvPr/>
        </p:nvSpPr>
        <p:spPr>
          <a:xfrm>
            <a:off x="428760" y="3143160"/>
            <a:ext cx="235728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етре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6286680" y="3143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ес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22"/>
          <p:cNvSpPr/>
          <p:nvPr/>
        </p:nvSpPr>
        <p:spPr>
          <a:xfrm>
            <a:off x="428760" y="61657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кипа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Рисунок 3" descr="H:\Documents and Settings\Гость\Рабочий стол\enc_0399.jpg"/>
          <p:cNvPicPr/>
          <p:nvPr/>
        </p:nvPicPr>
        <p:blipFill>
          <a:blip r:embed="rId1"/>
          <a:stretch/>
        </p:blipFill>
        <p:spPr>
          <a:xfrm>
            <a:off x="179280" y="549360"/>
            <a:ext cx="2739960" cy="251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:\Documents and Settings\Гость\Рабочий стол\D5YL9CA2JMW8DCA2T5C2BCAIHO6Z2CADRBV99CAYMLKWHCA4BCSUHCAMEPCM8CA6N1UGKCAH5ZC1MCAP452OBCAZZSAXPCATXSZ9DCAJ9BDRHCA4J8AA3CAX5W6OYCAOBWSG1CAPH60OCCAE75V4NCA26GASM.jpg"/>
          <p:cNvPicPr/>
          <p:nvPr/>
        </p:nvPicPr>
        <p:blipFill>
          <a:blip r:embed="rId2"/>
          <a:stretch/>
        </p:blipFill>
        <p:spPr>
          <a:xfrm>
            <a:off x="3203640" y="549360"/>
            <a:ext cx="2611440" cy="2525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H:\Documents and Settings\Гость\Рабочий стол\parmobile2.jpg"/>
          <p:cNvPicPr/>
          <p:nvPr/>
        </p:nvPicPr>
        <p:blipFill>
          <a:blip r:embed="rId3"/>
          <a:stretch/>
        </p:blipFill>
        <p:spPr>
          <a:xfrm>
            <a:off x="3132000" y="3933720"/>
            <a:ext cx="2664000" cy="220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:\Documents and Settings\Гость\Рабочий стол\B5U80CAUQ9561CAWG0CXOCAMQIDWUCAGLEB9WCADLD6YBCAXYUV6SCAR8CT09CAKYGJZ6CAUQH1QYCAADF3A4CA7JEVQHCAAHKTNUCA7B93H0CAFROSNACA11Z7XUCAAYBCCTCA8JZ306CA0KHBCVCAPT6G3Q.jpg"/>
          <p:cNvPicPr/>
          <p:nvPr/>
        </p:nvPicPr>
        <p:blipFill>
          <a:blip r:embed="rId4"/>
          <a:stretch/>
        </p:blipFill>
        <p:spPr>
          <a:xfrm>
            <a:off x="6156360" y="549360"/>
            <a:ext cx="2608200" cy="2525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17"/>
          <p:cNvSpPr/>
          <p:nvPr/>
        </p:nvSpPr>
        <p:spPr>
          <a:xfrm>
            <a:off x="6296040" y="314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ес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Рисунок 18" descr="карета"/>
          <p:cNvPicPr/>
          <p:nvPr/>
        </p:nvPicPr>
        <p:blipFill>
          <a:blip r:embed="rId5"/>
          <a:stretch/>
        </p:blipFill>
        <p:spPr>
          <a:xfrm>
            <a:off x="250920" y="3933720"/>
            <a:ext cx="2592360" cy="2232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1"/>
          <p:cNvSpPr/>
          <p:nvPr/>
        </p:nvSpPr>
        <p:spPr>
          <a:xfrm>
            <a:off x="3295800" y="61657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омоби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H:\Documents and Settings\Гость\Рабочий стол\TkyUUhAEKN.jpg"/>
          <p:cNvPicPr/>
          <p:nvPr/>
        </p:nvPicPr>
        <p:blipFill>
          <a:blip r:embed="rId6"/>
          <a:stretch/>
        </p:blipFill>
        <p:spPr>
          <a:xfrm>
            <a:off x="6012000" y="3933720"/>
            <a:ext cx="2832120" cy="2232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5"/>
          <p:cNvSpPr/>
          <p:nvPr/>
        </p:nvSpPr>
        <p:spPr>
          <a:xfrm>
            <a:off x="5581800" y="616572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вый автомоби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одзаголовок 2"/>
          <p:cNvSpPr/>
          <p:nvPr/>
        </p:nvSpPr>
        <p:spPr>
          <a:xfrm>
            <a:off x="971640" y="3143160"/>
            <a:ext cx="727236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ервая  повоз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2848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Ежегодно в мире в результате ДТП погибают и получают ранения более </a:t>
            </a:r>
            <a:r>
              <a:rPr b="1" lang="ru-RU" sz="2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0 млн.</a:t>
            </a: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человек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По данным Всемирного банка глобальные экономические потери составляют более </a:t>
            </a:r>
            <a:r>
              <a:rPr b="1" lang="ru-RU" sz="2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00 млрд.</a:t>
            </a: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долларов в год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Всемирная организация здравоохранения  свидетельствует, что на долю ДТП приходится более </a:t>
            </a:r>
            <a:r>
              <a:rPr b="1" lang="ru-RU" sz="2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0% смертельных исходов</a:t>
            </a: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от всех несчастных случаев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В ХХ веке автомобиль стал причиной смерти около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     </a:t>
            </a: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30 млн. человек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В России потери, связанные  с ДТП в несколько раз превышают ущерб от  железнодорожных катастроф, пожаров и других видов несчастных случаев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Масштаб ДТП угрожает национальной безопасности.                  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efac9"/>
                </a:solidFill>
                <a:latin typeface="Calibri"/>
              </a:rPr>
              <a:t>                              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efac9"/>
                </a:solidFill>
                <a:latin typeface="Calibri"/>
              </a:rPr>
              <a:t>                              </a:t>
            </a:r>
            <a:r>
              <a:rPr b="1" lang="ru-RU" sz="1900" spc="-1" strike="noStrike">
                <a:solidFill>
                  <a:srgbClr val="fefac9"/>
                </a:solidFill>
                <a:latin typeface="Calibri"/>
              </a:rPr>
              <a:t>Из доклада рабочей группы  Президиума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efac9"/>
                </a:solidFill>
                <a:latin typeface="Calibri"/>
              </a:rPr>
              <a:t>                              </a:t>
            </a:r>
            <a:r>
              <a:rPr b="1" lang="ru-RU" sz="1900" spc="-1" strike="noStrike">
                <a:solidFill>
                  <a:srgbClr val="fefac9"/>
                </a:solidFill>
                <a:latin typeface="Calibri"/>
              </a:rPr>
              <a:t>Государственного совета Российской  федерации.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огноз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По данным Всемирной организации здравоохранения , если срочно не предпринять мер , то в ближайшие годы уровень смертности на дорогах  мира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вырастет на 60%.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И этим Земля будет обязана странам с низким и средним уровнем доходов населения, где из-за плохих дорог , старых автомобилей и отсутствия водительской культуры рост смертности может достичь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83%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татисти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По итогам прошлого 2008 года в     России произошла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23 851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авария 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в которых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погибло 1116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и ранено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24 707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школьников и дошколят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На пешеходов составлено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560 тыс.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протоколов за нарушение ПДД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Получается, что 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каждый третий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россиянин, включая младенцев и стариков, нарушил ПДД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ичины ДТП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ереход через проезжую часть вне установленных для перехода мест:  35-40%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еожиданный выход из-за движущихся или стоящих транспортных средств или других препятствий, мешающих обзору: 25-30%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еподчинение сигналам светофора: 10-15%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гры на проезжей части и ходьба по ней при наличии тротуара: -5-10%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6:17:29Z</dcterms:created>
  <dc:creator>Света</dc:creator>
  <dc:description/>
  <dc:language>en-US</dc:language>
  <cp:lastModifiedBy>21</cp:lastModifiedBy>
  <dcterms:modified xsi:type="dcterms:W3CDTF">2013-04-08T12:14:39Z</dcterms:modified>
  <cp:revision>19</cp:revision>
  <dc:subject/>
  <dc:title>Слайд 1</dc:title>
</cp:coreProperties>
</file>