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6.jpeg" ContentType="image/jpeg"/>
  <Override PartName="/ppt/media/laser.wav" ContentType="audio/x-wav"/>
  <Override PartName="/ppt/media/image15.jpeg" ContentType="image/jpeg"/>
  <Override PartName="/ppt/media/explode.wav" ContentType="audio/x-wav"/>
  <Override PartName="/ppt/media/image5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click.wav" ContentType="audio/x-wav"/>
  <Override PartName="/ppt/media/whoosh.wav" ContentType="audio/x-wav"/>
  <Override PartName="/ppt/media/image10.jpeg" ContentType="image/jpeg"/>
  <Override PartName="/ppt/media/image8.jpeg" ContentType="image/jpeg"/>
  <Override PartName="/ppt/media/bomb.wav" ContentType="audio/x-wav"/>
  <Override PartName="/ppt/media/arrow.wav" ContentType="audio/x-wav"/>
  <Override PartName="/ppt/media/camera.wav" ContentType="audio/x-wav"/>
  <Override PartName="/ppt/media/image17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suction.wav" ContentType="audio/x-wav"/>
  <Override PartName="/ppt/media/image25.jpeg" ContentType="image/jpeg"/>
  <Override PartName="/ppt/media/image18.jpeg" ContentType="image/jpeg"/>
  <Override PartName="/ppt/media/image23.jpeg" ContentType="image/jpeg"/>
  <Override PartName="/ppt/media/push.wav" ContentType="audio/x-wav"/>
  <Override PartName="/ppt/media/image19.jpeg" ContentType="image/jpeg"/>
  <Override PartName="/ppt/media/image24.jpeg" ContentType="image/jpeg"/>
  <Override PartName="/ppt/media/drumroll.wav" ContentType="audio/x-wav"/>
  <Override PartName="/ppt/media/image26.jpeg" ContentType="image/jpeg"/>
  <Override PartName="/ppt/media/applause.wav" ContentType="audio/x-wav"/>
  <Override PartName="/ppt/media/image1.jpeg" ContentType="image/jpeg"/>
  <Override PartName="/ppt/media/image22.jpeg" ContentType="image/jpeg"/>
  <Override PartName="/ppt/media/cashreg.wav" ContentType="audio/x-wav"/>
  <Override PartName="/ppt/media/image2.jpeg" ContentType="image/jpeg"/>
  <Override PartName="/ppt/media/hammer.wav" ContentType="audio/x-wav"/>
  <Override PartName="/ppt/media/image12.jpeg" ContentType="image/jpeg"/>
  <Override PartName="/ppt/media/image4.png" ContentType="image/png"/>
  <Override PartName="/ppt/media/image6.jpeg" ContentType="image/jpeg"/>
  <Override PartName="/ppt/media/type.wav" ContentType="audio/x-wav"/>
  <Override PartName="/ppt/media/image7.jpeg" ContentType="image/jpeg"/>
  <Override PartName="/ppt/media/image3.jpeg" ContentType="image/jpeg"/>
  <Override PartName="/ppt/media/voltag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2B9-B17C-4979-8D2C-B3714E24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2F5-860A-4136-954B-000CB2B3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C32-37C2-4154-A43E-B1ECBF96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D44-C5E1-4AA8-A042-C87D7C8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8D8A-6963-43A0-AAEF-6FD4D18C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724-FD22-414A-A00B-6DF016E9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172-9E91-40B3-BE2E-B442CFD7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D90E-D169-4170-AAA2-60362EC8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8847-4B33-477D-9926-39420895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6D2E-60BA-4E5D-8153-BDAC6252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EE1-22E6-4880-9145-85477AF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D85-577E-40AF-A8D2-CA0314DB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51EE-E9BE-4923-823F-EBC5D988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A45D-68BE-49F5-B6A2-E801AC3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5871-ED2E-42C1-A064-3A7C692C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C39-02DF-41DF-8DD1-595400D9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79F3-C86F-4AAE-976A-A2DC07CE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64EB3-46BB-49F6-BA7E-609E0851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64AFF-E242-4587-A50F-60A7D79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0C98B-71A7-470E-B47E-336F377E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E15B3-CC11-4EAC-9915-E80E018D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F7D03-8D7C-4A41-BF63-E1079BCA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4BA-93D6-4FEE-8224-57DD661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220C1-B0A0-40D5-BDA3-A2A51B4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E89A8-376B-46C8-819B-1B4F5E6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A467D-769E-4C62-9D94-8965B96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FB3C6-5C9E-4422-A01D-AACB599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92CAF-F6EE-4BAB-80F8-C8D8D39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F7AB4-4CBF-4481-81FF-C8799102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F8910-EF70-42F1-A693-F0E9A8CD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66D4-32AC-4586-9398-89E4BFF5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47DD-7522-4644-8C1D-74D34D2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13AD-B281-4EA7-ABEF-419BE85E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840-CD76-4489-B7A2-C07B3CFE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71D6-0C06-4B23-B9E0-3BC137C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B940-67E3-4634-B4FD-56FAF12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FA99-15F3-4FDB-B738-8A44FF0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E207-E19B-4C0A-BF0B-73BE600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2484-78BC-4DEE-B20E-84B6B27B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BCD2-3A66-4B32-B2FB-DB5E5F3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6D56-EBCA-476A-9361-EFDAD6FD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8753-1360-4777-A377-8E44C3E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1B28-0F6B-4A09-9939-AB473F81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EA47-E325-4B6C-A002-EE173C5D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4F4-887D-4858-91C1-4656BA19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92BF7-E478-4C8C-9481-E8E1973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860D-8950-4661-82A7-49DE68E1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C1FB-67D3-41F1-A667-B5764E3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99A9-45BE-4B4F-ADDF-2BC3C64C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89B6-5B99-47BB-8340-577F3123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4A47-6F91-46BC-81C9-F4954DB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F2C3-6E24-4227-A7F3-6C8763E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BCBF-5E71-42F0-9F13-6293F18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B968-F4F3-4D35-A21B-DD071FEC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4473-25FC-49B3-9E1B-0470C5B8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A6B-91EC-40C2-883D-0BB1F1E7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44BE-2B90-4CB6-9BDE-BD16AF5D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478AA-F707-4E87-9E57-E60CDED6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09A7-97E2-46D5-8A06-59292BC7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2038-3431-4C78-BBCD-0F11ED26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05307-0649-4CE5-84B9-98E9617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AE98-D259-4BE7-A7EB-48466376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CFD80-1564-48CF-9CC1-F13FD620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F61D-5762-46FE-9D24-2C4B18D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6C2BB-183B-4137-A3B7-D064808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CBF2-9330-4F6E-A1B8-6582B77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4B8-167C-4C47-8502-7A252F5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81755-EDE6-49D1-A60E-1EE3E6CB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04053-EBE5-4800-800E-A6C27916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2D19-9483-484E-B33C-79D621EE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ECA-E828-42E2-A980-E18BCA1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18E-D3C8-4C9D-ABFE-1A883B26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EC15-C6B0-4110-BE73-24416A833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BE85-2C7D-4B93-8A89-F82E4D3FB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296-E01F-48B3-9AB8-6154608E3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5EF-4954-42F4-BA87-4BDB54152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7CB5-8461-416B-889A-F0742326D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2AD7-DA6D-4F5A-89C2-80E2FF7A2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drumroll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umroll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push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lick.wav"/><Relationship Id="rId4" Type="http://schemas.openxmlformats.org/officeDocument/2006/relationships/audio" Target="../media/push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51348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Урок природоведения в 4 классе по программе Плеша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16000" y="1052640"/>
            <a:ext cx="66978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вотные леса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ЗАЯЦ - БЕЛЯК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тел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8-68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хвост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5-10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,5-5 к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ычк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ночки; в брачный период, осенью и зимой, объединяются в маленькие груп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ищ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вы, многолетники, низкие кустар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олжительность жизн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ычно около 2 лет, очень редко 8-9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0" y="2019240"/>
            <a:ext cx="432108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4437000"/>
            <a:ext cx="8280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яцы-беляки большую часть своей жизни проводят в одиночестве. С приходом зимы в Арктике зайцы начинают объединяться в небольшие группки. Зимой жизнь в группах обеспечивает им лучшую защиту от хищников. В случае опасности вся группа разбегается в разные стороны, что на некоторое время выбивает врага из колеи и дает белякам больше шансов на спас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4960"/>
            <a:ext cx="4238640" cy="4108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003640" y="339120"/>
            <a:ext cx="331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яц-беляк является добычей многих хищников. К его основным врагам относятся песец, волк, рысь, филин и беркут. Поэтому нет ничего удивительного в том, что заяц-беляк отличается хорошо развитой покровительственной окраской, большой подвижностью и умением быстро бег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979640" y="54936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УКУШК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4824360" cy="38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3108240" y="2274840"/>
          <a:ext cx="2928960" cy="14382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3110040" y="41011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1970640"/>
            <a:ext cx="3166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лина: ДО 4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Размах крыльев: 55-6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Масса: 110-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130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ривыч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одиночки; в период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нездования на короткое время образуют па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ища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насекомые и их личинки. 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Зву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самец «ку-ку», самка из­дает звучные горловые тре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К роду кукушек принадлежит 130 видов птиц, обитающих почти во всем мире. Ближайшим родственником является глухая кукуш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750"/>
                            </p:stCondLst>
                            <p:childTnLst>
                              <p:par>
                                <p:cTn id="60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150"/>
                            </p:stCondLst>
                            <p:childTnLst>
                              <p:par>
                                <p:cTn id="618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700"/>
                            </p:stCondLst>
                            <p:childTnLst>
                              <p:par>
                                <p:cTn id="62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800"/>
                            </p:stCondLst>
                            <p:childTnLst>
                              <p:par>
                                <p:cTn id="63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200"/>
                            </p:stCondLst>
                            <p:childTnLst>
                              <p:par>
                                <p:cTn id="63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750"/>
                            </p:stCondLst>
                            <p:childTnLst>
                              <p:par>
                                <p:cTn id="64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92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9700"/>
                            </p:stCondLst>
                            <p:childTnLst>
                              <p:par>
                                <p:cTn id="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45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12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85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45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39668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Кукушка известна тем, что откладывает свои яйца в гнезда других птиц. Ее птенцов выкармливают приемные родители. Такое поведение пернатых называется гнездовым паразитизмом. Каждая кукушка подбрасывает яйца в гнезда того вида птиц, которые выкормили ее саму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61080" cy="374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788000" y="4234320"/>
            <a:ext cx="41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Кукушка питается насекомыми, которых обычно отыскивает на деревьях и в кустарнике. Она склевывает всех насекомых, которые попадаются у нее на пути. Кукушка -одна из немногих птиц, которые поедают и мохнатых гусени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527280" cy="2808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684360" y="595008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5950080"/>
            <a:ext cx="3529080" cy="358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6021360"/>
            <a:ext cx="3167280" cy="576360"/>
          </a:xfrm>
          <a:custGeom>
            <a:avLst/>
            <a:gdLst>
              <a:gd name="textAreaLeft" fmla="*/ 395640 w 3167280"/>
              <a:gd name="textAreaRight" fmla="*/ 2771640 w 3167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ahoma"/>
              </a:rPr>
              <a:t>БЕЛ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: 20-32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 хвоста: 19-31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Масса: 200-1000 г, в зависимости от времени года (летом белка весит мень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ивычки: живут на деревьях. Держатся поодиноч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Звуки: резкое «тюк-тюк-тю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ища: шишки, кора, сок растении, орехи, яйца, грибы и насеком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одолжительность жизни: обычно 2-3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10080" y="1557360"/>
            <a:ext cx="40435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000"/>
                            </p:stCondLst>
                            <p:childTnLst>
                              <p:par>
                                <p:cTn id="7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8000"/>
                            </p:stCondLst>
                            <p:childTnLst>
                              <p:par>
                                <p:cTn id="7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500"/>
                            </p:stCondLst>
                            <p:childTnLst>
                              <p:par>
                                <p:cTn id="7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0" y="380520"/>
            <a:ext cx="375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При помощи сильных задних лапок, снабженных острыми коготками, белка замечательно лазает по деревьям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4248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Белки ведут дневной образ жизни. Они проводят дн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в поисках пищи, часть которой сразу же съедают, а другую прячут в тайники, таким образом они делают запасы на зиму. Когда количество пищ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уменьшается, белки выходят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на поиски корма уже на рассвете.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384720" cy="2913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932360" y="1916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Белки, обитающие в городских парках и садах, охотно берут пищу, которую им приносят люди, однако их лесные собратья стараются избегать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032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Эту презентацию вашему вниманию представила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Красноборской начальной школ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Ожегова Людмил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560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: самец 112 с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самка 108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 хвоста: до 40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Масса: самец 5,9 кг, самка 5,2 к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ривычки: ночной образ жизни; совместная забота о потомстве, в остальное время держатся по одиночк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ища: дождевые черви, кролики, птицы, насекомые, плоды. Продолжительность жизни: на свободе от 18 месяцев до 2 лет, в неволе до 14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очти 50 различных подвидов, наиболее известный - серебристая лис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808520" cy="5327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835280" y="404640"/>
            <a:ext cx="59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ЖАЯ ЛИСИЦА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4465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Лисы ведут одиночный образ жизни, за исключением брачного периода и 3-4 месяцев, когда вместе заботятся о потомстве. Большую часть дня они поводят в норе или логове. Лисы хорошо приспособлены для ночной охоты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3280" y="764640"/>
            <a:ext cx="4197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Веками человек охотился на лис ради красивого меха. Но лисы – сообразительные животные. Они быстро приспосабливаются к новым условиям, поэтому исчезновение этому виду не гроз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3068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30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ahoma"/>
              </a:rPr>
              <a:t>СНЕГИ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Длина: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I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5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CM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азмах крыльев: 25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Масса: до 34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ивычки: пугливые птиц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ища: семена, почки деревьев и кустарников и яго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одолжительность жизни:2-4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На Азорских островах обитает подвид снегиря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murina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 оперении которого отсутствует красный цвет. Североевропейский подвид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yrrhula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тличается более крупными размер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68560" cy="4641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87280" y="260280"/>
            <a:ext cx="1368720" cy="1368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егирь живет в Средней Европе, за исключением высоких гор и части побережья Северного моря, круглый год. Его легко узнать по характерной черной шапочке. Самца трудно перепутать с какой-либо другой птицей благодаря ярко окрашенным шее, груди и брюшку. Снегири отличаются не только красотой, но и солидностью: они никогда не торопятся, не суетятся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514836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Снегирей часто можно увидеть на фруктовых деревьях в парке, в саду. В некоторых странах садоводы стреляют в снегирей или ловят их в силки, хотя исследования показали, что эти птицы кормятся на фруктовых деревьях только в том случае, когда им не хватает семян дикорастущих видов растений. Когда-то люди держали снегирей, как и других певчих птиц, в клетках. Снегирь - очень легко выучивает мелодии, которые ему насвистывает владелец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957840" cy="396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09564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02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Длин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-3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ысота в холке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0-2,3 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асс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270-500 кг, на Аляске до 600 кг; самец значительно крупнее и тяжелее сам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ивычк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ержатся поодиночке, зимой небольшими группами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ищ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истья, хвоя, ветки, водная растительность, кора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одолжительность жизн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20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ось - единственный вид своего рода. Некоторые ученые выделяют в семействе оленевых отдельное подсемейство - лоси 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b7"/>
                </a:solidFill>
                <a:latin typeface="Arial"/>
              </a:rPr>
              <a:t>Alcinae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5116680" cy="5184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556000" y="260280"/>
            <a:ext cx="424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51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лося очень слабое зрение – это компенсируется великолепно развитым слухом и обонянием. Известны случаи, когда лоси во время гона атаковали поезда, звук сигналов которых принимали за рев конкурентов.</a:t>
            </a: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3933360"/>
            <a:ext cx="3949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оси, как правило, держатся поодиночке или маленькими группами. Весной и летом самцы и самки держатся отдельно. Самки в это время живут со своими детенышами. Летом лоси встречаются преимущественно на равнинах, вблизи озер и болот. С наступлением похолодания животные ухолят на возвышенности и ищут укрытия в лес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60836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650"/>
                            </p:stCondLst>
                            <p:childTnLst>
                              <p:par>
                                <p:cTn id="4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Garamond"/>
              </a:rPr>
              <a:t>ВАЛЬДШНЕП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88944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4284720" y="1628640"/>
          <a:ext cx="4858920" cy="4601880"/>
        </p:xfrm>
        <a:graphic>
          <a:graphicData uri="http://schemas.openxmlformats.org/drawingml/2006/table">
            <a:tbl>
              <a:tblPr/>
              <a:tblGrid>
                <a:gridCol w="4858920"/>
              </a:tblGrid>
              <a:tr h="460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ВЕЛИЧ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тела: 33-35 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люв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,5-8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рыл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0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асс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90-320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ОБРАЗ ЖИЗ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ивычки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ержатся поодиночке; полигамн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ищ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ждевые черви, насеко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ые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и их личинки, в основном жуки и личинки двукрыл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4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лагодаря своей окраске, вальдшне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чти не заметен на фоне опавш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листвы. Перья на крыльях и теле у н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ржавчато-бурые с темными пятн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рюшко беловато-охристое с коричневы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перечными полосами. На голове вид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еремежающиеся светлые и темные поло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248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3:17:17Z</dcterms:created>
  <dc:creator>user</dc:creator>
  <dc:description/>
  <dc:language>en-US</dc:language>
  <cp:lastModifiedBy>Владимир Меженный</cp:lastModifiedBy>
  <dcterms:modified xsi:type="dcterms:W3CDTF">2006-12-26T10:00:19Z</dcterms:modified>
  <cp:revision>6</cp:revision>
  <dc:subject/>
  <dc:title>Слайд 1</dc:title>
</cp:coreProperties>
</file>