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laser.wav" ContentType="audio/x-wav"/>
  <Override PartName="/ppt/media/image15.jpeg" ContentType="image/jpeg"/>
  <Override PartName="/ppt/media/explode.wav" ContentType="audio/x-wav"/>
  <Override PartName="/ppt/media/image5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click.wav" ContentType="audio/x-wav"/>
  <Override PartName="/ppt/media/whoosh.wav" ContentType="audio/x-wav"/>
  <Override PartName="/ppt/media/image10.jpeg" ContentType="image/jpeg"/>
  <Override PartName="/ppt/media/image8.jpeg" ContentType="image/jpeg"/>
  <Override PartName="/ppt/media/bomb.wav" ContentType="audio/x-wav"/>
  <Override PartName="/ppt/media/arrow.wav" ContentType="audio/x-wav"/>
  <Override PartName="/ppt/media/camera.wav" ContentType="audio/x-wav"/>
  <Override PartName="/ppt/media/image17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suction.wav" ContentType="audio/x-wav"/>
  <Override PartName="/ppt/media/image25.jpeg" ContentType="image/jpeg"/>
  <Override PartName="/ppt/media/image18.jpeg" ContentType="image/jpeg"/>
  <Override PartName="/ppt/media/image23.jpeg" ContentType="image/jpeg"/>
  <Override PartName="/ppt/media/push.wav" ContentType="audio/x-wav"/>
  <Override PartName="/ppt/media/image19.jpeg" ContentType="image/jpeg"/>
  <Override PartName="/ppt/media/image24.jpeg" ContentType="image/jpeg"/>
  <Override PartName="/ppt/media/drumroll.wav" ContentType="audio/x-wav"/>
  <Override PartName="/ppt/media/image26.jpeg" ContentType="image/jpeg"/>
  <Override PartName="/ppt/media/applause.wav" ContentType="audio/x-wav"/>
  <Override PartName="/ppt/media/image1.jpeg" ContentType="image/jpeg"/>
  <Override PartName="/ppt/media/image22.jpeg" ContentType="image/jpeg"/>
  <Override PartName="/ppt/media/cashreg.wav" ContentType="audio/x-wav"/>
  <Override PartName="/ppt/media/image2.jpeg" ContentType="image/jpeg"/>
  <Override PartName="/ppt/media/hammer.wav" ContentType="audio/x-wav"/>
  <Override PartName="/ppt/media/image12.jpeg" ContentType="image/jpeg"/>
  <Override PartName="/ppt/media/image4.png" ContentType="image/png"/>
  <Override PartName="/ppt/media/image6.jpeg" ContentType="image/jpeg"/>
  <Override PartName="/ppt/media/type.wav" ContentType="audio/x-wav"/>
  <Override PartName="/ppt/media/image7.jpeg" ContentType="image/jpeg"/>
  <Override PartName="/ppt/media/image3.jpeg" ContentType="image/jpeg"/>
  <Override PartName="/ppt/media/voltag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E62-2F45-414A-B2A8-8CDAC3E5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A2C-7B0C-4FD9-AF20-6BC6D03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298-BD40-4697-914E-9171625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AF2-06B2-4A54-85DB-09A60D51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D39D-2661-4DF0-A59F-57D83A68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278B-8800-440D-B50A-2504CDE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4EFA-42E0-4F8E-92AD-45101E5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2FE8-C70D-4404-9986-9AE12F1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24DF-A822-44F2-92EE-42CC5EB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F93-E58C-4C29-885E-DDCFBE8A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0B6-BEF4-4D8D-BD15-5D3638A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CB5-030B-47D3-BBA0-1778B236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180-087A-4136-AD35-CF227E5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FAAB-D492-49DC-B405-9F24DE3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6CE-E40F-4EF6-85C5-0AD2E87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61A2-CA14-40F1-82C0-4D2B2348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EF87-6D0C-430A-9E9A-DF16BFA8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B021C-A639-419E-A727-6D7F3EFE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E8E1F-3CD3-4A7A-8DD9-7A85EE1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51738-5C60-4A9F-9390-D3E0D1A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90F3F-ACBE-4D75-BD61-6E90B84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E4D9-13B0-456B-82B9-DA94427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DDF-FCB5-4BB3-8972-35F6087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0E2A0-A513-4617-AA1D-6F3EF31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9C1A6-9358-4342-8C92-B83235D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8FB4A-C47B-4DE5-8357-A222B6E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80EE-58FC-4A0E-B45E-8AAE6B9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69E44-7A3A-487E-B895-3DE4445A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2DC01-5D20-44DF-8525-F8CF90B5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470B1-CAB1-42E8-80C1-96993FF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DF60-323C-4007-8E05-76203646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5363-1930-4270-90A3-516BF003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6DF4-15E8-4F80-B3DF-CADD311D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0A4-729A-4FA8-881C-2410B3D7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5631-9062-4EB5-9612-A02A0D5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2967-ACD1-42CB-BB18-AEE9D3F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9D81-6F16-44E1-9EA7-7A7E1A2F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DF31-2DE7-4AFD-85B6-8A67BCA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C27F-F775-4E90-8F27-F4A0D57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75F1-38A1-4DCE-BE78-5D400E9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1827-6A17-4900-AA5C-6C741F1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893B-AB3C-46B0-8A1A-8A78C484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EF05-04BD-4FBC-A621-72C234D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C971-F17F-4CF3-B0E0-D5800240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5BF-5B1F-4152-9F92-FBE49CE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3AE9-59AC-4B90-82F6-21C2AF2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A232-6486-4922-B585-5BF8052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5DFF-4384-44C4-8ED2-2285557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3A49-BEBD-41E2-ADE2-662C3FB5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1813-294A-451F-95A5-ACAC831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2455-09AE-4647-839F-C7A1BCB9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CECD-E52D-4E67-97CF-2E57DB5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9586-E5A6-4B73-A7FA-7BF17DE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0B18-F694-471B-ACC3-12E98D7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7A01-A268-4314-A6D9-667B008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BAB-0C6A-492A-BAA2-AFA026C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DC1F-25E3-44F6-AB9F-2C1B33D8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737E2-F1C5-448F-A3EE-3332510C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24AD-E8FF-401E-93D2-7178E69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D5AC0-B0D3-4120-9B6F-FB2D3AEE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CD4C-24F8-41B8-BA36-674448C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F091-878A-4214-90A5-E7FDF9E1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E83A-097D-4EF2-956E-E7D418A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DF52-2886-4DE9-BBEA-CBDF3AA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7B744-30E6-4CDF-AD07-320BFE8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6D99-9E98-45B6-A63B-C0B8479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F87-F5BB-4F4A-950E-F01A526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175A-7639-41F9-A74E-EC547EA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26F5-2855-400D-891F-DF10F6BC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8B6A-3358-4808-AF5A-D1C005DD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1E3-2A1C-4AB0-904D-40A711E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31E-8CF9-488B-9CCB-29A98147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14CD-E8FF-41C0-9D0D-5C38234D3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C95B-5430-4F32-B37B-31DAF7CBF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B62-25CE-4A06-929A-78AC3C95F1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7F9-B07D-477A-B5D5-2EFD9601C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C2E0-7130-4FB7-976E-D15EB1FEE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48D-DC8F-42DF-A6F4-599577654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drumroll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umroll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ush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audio" Target="../media/push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51348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рок природоведения в 4 классе по программе Плеша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16000" y="1052640"/>
            <a:ext cx="6697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отные леса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тел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8-6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хвост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5-1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5-5 к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ычк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ночки; в брачный период, осенью и зимой, объединяются в маленькие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ищ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вы, многолетники, низкие кустар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жизн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ычно около 2 лет, очень редко 8-9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0" y="2019240"/>
            <a:ext cx="432108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280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яцы-беляки большую часть своей жизни проводят в одиночестве. С приходом зимы в Арктике зайцы начинают объединяться в небольшие группки. Зимой жизнь в группах обеспечивает им лучшую защиту от хищников. В случае опасности вся группа разбегается в разные стороны, что на некоторое время выбивает врага из колеи и дает белякам больше шансов на спас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4238640" cy="4108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003640" y="339120"/>
            <a:ext cx="33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яц-беляк является добычей многих хищников. К его основным врагам относятся песец, волк, рысь, филин и беркут. Поэтому нет ничего удивительного в том, что заяц-беляк отличается хорошо развитой покровительственной окраской, большой подвижностью и умением быстро бег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979640" y="54936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УКУШ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824360" cy="38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3108240" y="2274840"/>
          <a:ext cx="2928960" cy="1438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3110040" y="4101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1970640"/>
            <a:ext cx="3166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лина: ДО 4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Размах крыльев: 55-6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Масса: 110-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130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ривыч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одиночки; в период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нездования на короткое время образуют па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ища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насекомые и их личинки. 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Зву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самец «ку-ку», самка из­дает звучные горловые тр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К роду кукушек принадлежит 130 видов птиц, обитающих почти во всем мире. Ближайшим родственником является глухая кукуш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750"/>
                            </p:stCondLst>
                            <p:childTnLst>
                              <p:par>
                                <p:cTn id="60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150"/>
                            </p:stCondLst>
                            <p:childTnLst>
                              <p:par>
                                <p:cTn id="618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700"/>
                            </p:stCondLst>
                            <p:childTnLst>
                              <p:par>
                                <p:cTn id="62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800"/>
                            </p:stCondLst>
                            <p:childTnLst>
                              <p:par>
                                <p:cTn id="6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200"/>
                            </p:stCondLst>
                            <p:childTnLst>
                              <p:par>
                                <p:cTn id="63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750"/>
                            </p:stCondLst>
                            <p:childTnLst>
                              <p:par>
                                <p:cTn id="64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2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7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45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12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85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45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39668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Кукушка известна тем, что откладывает свои яйца в гнезда других птиц. Ее птенцов выкармливают приемные родители. Такое поведение пернатых называется гнездовым паразитизмом. Каждая кукушка подбрасывает яйца в гнезда того вида птиц, которые выкормили ее сам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61080" cy="374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788000" y="4234320"/>
            <a:ext cx="41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Кукушка питается насекомыми, которых обычно отыскивает на деревьях и в кустарнике. Она склевывает всех насекомых, которые попадаются у нее на пути. Кукушка -одна из немногих птиц, которые поедают и мохнатых гусени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527280" cy="2808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684360" y="59500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5950080"/>
            <a:ext cx="3529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6021360"/>
            <a:ext cx="3167280" cy="576360"/>
          </a:xfrm>
          <a:custGeom>
            <a:avLst/>
            <a:gdLst>
              <a:gd name="textAreaLeft" fmla="*/ 395640 w 3167280"/>
              <a:gd name="textAreaRight" fmla="*/ 2771640 w 3167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ahoma"/>
              </a:rPr>
              <a:t>БЕЛ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: 20-32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 хвоста: 19-31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Масса: 200-1000 г, в зависимости от времени года (летом белка весит мен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ивычки: живут на деревьях. Держатся поодиноч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Звуки: резкое «тюк-тюк-тю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ища: шишки, кора, сок растении, орехи, яйца, грибы и насеком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одолжительность жизни: обычно 2-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10080" y="1557360"/>
            <a:ext cx="40435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0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80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0" y="380520"/>
            <a:ext cx="375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При помощи сильных задних лапок, снабженных острыми коготками, белка замечательно лазает по деревьям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4248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Белки ведут дневной образ жизни. Они проводят дн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в поисках пищи, часть которой сразу же съедают, а другую прячут в тайники, таким образом они делают запасы на зиму. Когда количество пищ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уменьшается, белки выходят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на поиски корма уже на рассвете.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913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32360" y="1916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Белки, обитающие в городских парках и садах, охотно берут пищу, которую им приносят люди, однако их лесные собратья стараются избегать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032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Эту презентацию вашему вниманию представила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Красноборской начальной шко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жег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560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: самец 112 с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самка 108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 хвоста: до 40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Масса: самец 5,9 кг, самка 5,2 к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ривычки: ночной образ жизни; совместная забота о потомстве, в остальное время держатся по одиночк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ища: дождевые черви, кролики, птицы, насекомые, плоды. Продолжительность жизни: на свободе от 18 месяцев до 2 лет, в неволе до 14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очти 50 различных подвидов, наиболее известный - серебристая ли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808520" cy="5327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835280" y="404640"/>
            <a:ext cx="59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ЖАЯ ЛИСИЦА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4465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Лисы ведут одиночный образ жизни, за исключением брачного периода и 3-4 месяцев, когда вместе заботятся о потомстве. Большую часть дня они поводят в норе или логове. Лисы хорошо приспособлены для ночной охоты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3280" y="764640"/>
            <a:ext cx="4197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Веками человек охотился на лис ради красивого меха. Но лисы – сообразительные животные. Они быстро приспосабливаются к новым условиям, поэтому исчезновение этому виду не гроз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3068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ahoma"/>
              </a:rPr>
              <a:t>СНЕГИ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Длина: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I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5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CM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азмах крыльев: 2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Масса: до 34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ивычки: пугливые птиц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ища: семена, почки деревьев и кустарников и яго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одолжительность жизни:2-4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На Азорских островах обитает подвид снегиря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murina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 оперении которого отсутствует красный цвет. Североевропейский подвид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yrrhula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тличается более крупными размер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68560" cy="4641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87280" y="260280"/>
            <a:ext cx="1368720" cy="1368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егирь живет в Средней Европе, за исключением высоких гор и части побережья Северного моря, круглый год. Его легко узнать по характерной черной шапочке. Самца трудно перепутать с какой-либо другой птицей благодаря ярко окрашенным шее, груди и брюшку. Снегири отличаются не только красотой, но и солидностью: они никогда не торопятся, не суетятся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514836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Снегирей часто можно увидеть на фруктовых деревьях в парке, в саду. В некоторых странах садоводы стреляют в снегирей или ловят их в силки, хотя исследования показали, что эти птицы кормятся на фруктовых деревьях только в том случае, когда им не хватает семян дикорастущих видов растений. Когда-то люди держали снегирей, как и других певчих птиц, в клетках. Снегирь - очень легко выучивает мелодии, которые ему насвистывает владеле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957840" cy="396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095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02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Длин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-3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ысота в холке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0-2,3 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асс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270-500 кг, на Аляске до 600 кг; самец значительно крупнее и тяжелее сам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ивычк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ержатся поодиночке, зимой небольшими группами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ищ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истья, хвоя, ветки, водная растительность, кора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одолжительность жизн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20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ось - единственный вид своего рода. Некоторые ученые выделяют в семействе оленевых отдельное подсемейство - лоси 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b7"/>
                </a:solidFill>
                <a:latin typeface="Arial"/>
              </a:rPr>
              <a:t>Alcinae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5116680" cy="518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556000" y="260280"/>
            <a:ext cx="424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51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лося очень слабое зрение – это компенсируется великолепно развитым слухом и обонянием. Известны случаи, когда лоси во время гона атаковали поезда, звук сигналов которых принимали за рев конкурентов.</a:t>
            </a: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3933360"/>
            <a:ext cx="3949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оси, как правило, держатся поодиночке или маленькими группами. Весной и летом самцы и самки держатся отдельно. Самки в это время живут со своими детенышами. Летом лоси встречаются преимущественно на равнинах, вблизи озер и болот. С наступлением похолодания животные ухолят на возвышенности и ищут укрытия в лес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0836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650"/>
                            </p:stCondLst>
                            <p:childTnLst>
                              <p:par>
                                <p:cTn id="4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Garamond"/>
              </a:rPr>
              <a:t>ВАЛЬДШНЕП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8944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4284720" y="1628640"/>
          <a:ext cx="4858920" cy="4601880"/>
        </p:xfrm>
        <a:graphic>
          <a:graphicData uri="http://schemas.openxmlformats.org/drawingml/2006/table">
            <a:tbl>
              <a:tblPr/>
              <a:tblGrid>
                <a:gridCol w="4858920"/>
              </a:tblGrid>
              <a:tr h="46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ВЕЛИЧ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тела: 33-35 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люв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,5-8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рыл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0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сс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90-320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ОБРАЗ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вычки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ржатся поодиночке; полигамн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ищ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ждевые черви, насеко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ые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 их личинки, в основном жуки и личинки двукрыл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4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лагодаря своей окраске, вальдшне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чти не заметен на фоне опавш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листвы. Перья на крыльях и теле у н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ржавчато-бурые с темными пятн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рюшко беловато-охристое с коричневы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перечными полосами. На голове вид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еремежающиеся светлые и темные поло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248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3:17:17Z</dcterms:created>
  <dc:creator>user</dc:creator>
  <dc:description/>
  <dc:language>en-US</dc:language>
  <cp:lastModifiedBy>Владимир Меженный</cp:lastModifiedBy>
  <dcterms:modified xsi:type="dcterms:W3CDTF">2006-12-26T10:00:19Z</dcterms:modified>
  <cp:revision>6</cp:revision>
  <dc:subject/>
  <dc:title>Слайд 1</dc:title>
</cp:coreProperties>
</file>