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940-FE90-4B27-AAF4-298A72CE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A6E-C5BB-443B-8B8C-1100AC49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F68-0542-4E90-8E73-D0771DDE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BD7-09B9-403D-AF6A-9AD1241C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75C-3CDF-445C-99C1-4CBE9B51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6B8-7A2E-4DC1-B2A0-693ACBDC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AE3-DAE9-464B-8393-76D8003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3CF-164C-49B8-8F3F-6A17EF95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B39-737D-4C11-B71C-EAAF7A9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6CE-DB7B-41FC-A95A-6B4A01F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CFF-C7FA-48BE-991B-978A6BB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8B8-7E82-4BA0-BD55-86DE01C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758-260A-49C2-B897-1E03416D5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4/aleks12161.5/0_268c_8cf8b409_X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davay.ru/upload/knig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ren.ru/upload/iblock/25a/640.640.9999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6/642/36642909_1Romanov_Roman_zimniy_den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g-fotki.yandex.ru/get/4011/anastasya-topol2010.a/0_2acda_c1005dcd_XL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076.radikal.ru/1005/f2/5c1308faf4d3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25 из 2379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Французские поэ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5300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16 из 158"/>
          <p:cNvPicPr/>
          <p:nvPr/>
        </p:nvPicPr>
        <p:blipFill>
          <a:blip r:embed="rId2"/>
          <a:stretch/>
        </p:blipFill>
        <p:spPr>
          <a:xfrm>
            <a:off x="4427640" y="1557360"/>
            <a:ext cx="4356000" cy="4579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арль Бодлер               Теофил Го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Толковый слов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могает уточнить лексическое значение слова, выявить многознач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Словарь синоним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Помогает избежать повторов, сделать речь выразитель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4920" y="1484280"/>
            <a:ext cx="4535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Словарь антоним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Помогает подчеркнуть противопо-ложность, сделать речь образ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артинка 21 из 1997"/>
          <p:cNvPicPr/>
          <p:nvPr/>
        </p:nvPicPr>
        <p:blipFill>
          <a:blip r:embed="rId1"/>
          <a:stretch/>
        </p:blipFill>
        <p:spPr>
          <a:xfrm>
            <a:off x="0" y="1557360"/>
            <a:ext cx="450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гра «Компетентность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605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 дом, квартира, жилплощадь, пристанище, приют, угол, гнездо, крыша (над головой); жильё (разг.); кров (уст.); кровля (уст.) /неопрятное, неудобное: берлога, логово, логовище (разг.) /темное, тесное: нора (раз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а ср. Помещение для жилья. 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Благоустройство жили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  –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реданный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друг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– злейший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ра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Виноват ли я, нет ли, пусть теперь об этом судят друзья и вр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гра «Компетентность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605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Жилище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- дом, квартира, жилплощадь, пристанище, приют, угол, гнездо, крыша (над головой); жильё (разг.); кров (уст.); кровля (уст.) /неопрятное, неудобное: берлога, логово, логовище (разг.) /темное, тесное: нора (раз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Жилище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- а ср. Помещение для жилья. 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Благоустройство жили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РУ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реданный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друг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– злейший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ра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Виноват ли я, нет ли, пусть теперь об этом судят друзья и вр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Ключ к тесту: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а; 2-в; 3-г; 4-а; 5-г; 6-б; 7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213336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Критерии самооценк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6-7 баллов – оптима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4-5 баллов – допустим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1-3 балла - недостато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Эсс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41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1Тема урока помогла мн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Я узнал(а)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2Ещё я хочу задать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вопрос: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4 из 28422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к же, как ручей журчит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ша речь всегда звучит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рекрасна! Как жива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ышим мы её слова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ма, дом, семья, отец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ячик, солнышко, скворец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главное наследство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имать должны мы с детства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удем мы родную реч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чать, любить, береч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оль имен существительных                     в предложении и в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Я знаю, что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Лексик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здел науки о языке, изучающий его словарный соста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50 из 3214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слова, </a:t>
            </a:r>
            <a:br>
              <a:rPr sz="4800"/>
            </a:b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близкие по значен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ЛД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ЕН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УЖАЩ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17 из 167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слова, противоположные по значен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9 из 3703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8 из 1259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ногозначные сло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имеют два и больше сходных зна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896000" cy="530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20 из 739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557360"/>
            <a:ext cx="428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Омоним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слова, разные  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по значению, но одинаковые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по звучанию и напис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2 из 100768"/>
          <p:cNvPicPr/>
          <p:nvPr/>
        </p:nvPicPr>
        <p:blipFill>
          <a:blip r:embed="rId1"/>
          <a:stretch/>
        </p:blipFill>
        <p:spPr>
          <a:xfrm>
            <a:off x="4788000" y="4149720"/>
            <a:ext cx="4356000" cy="270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8 из 208868"/>
          <p:cNvPicPr/>
          <p:nvPr/>
        </p:nvPicPr>
        <p:blipFill>
          <a:blip r:embed="rId2"/>
          <a:stretch/>
        </p:blipFill>
        <p:spPr>
          <a:xfrm>
            <a:off x="0" y="1989000"/>
            <a:ext cx="478800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4788000" cy="270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29 из 4364"/>
          <p:cNvPicPr/>
          <p:nvPr/>
        </p:nvPicPr>
        <p:blipFill>
          <a:blip r:embed="rId4"/>
          <a:stretch/>
        </p:blipFill>
        <p:spPr>
          <a:xfrm>
            <a:off x="4788000" y="1989000"/>
            <a:ext cx="4356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Предложит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ОТМ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ЛЕНТЯ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КИ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59:37Z</dcterms:created>
  <dc:creator>007</dc:creator>
  <dc:description/>
  <dc:language>en-US</dc:language>
  <cp:lastModifiedBy>надежда</cp:lastModifiedBy>
  <dcterms:modified xsi:type="dcterms:W3CDTF">2012-03-23T20:04:59Z</dcterms:modified>
  <cp:revision>4</cp:revision>
  <dc:subject/>
  <dc:title>Урок русского языка</dc:title>
</cp:coreProperties>
</file>