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1DCB-C635-4728-BD2D-A9F376179D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40A8-5B6C-42A2-B08B-A08B094C66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7ECB-8F5B-4801-872E-00194C8DBC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63B7-5900-4042-BC91-C22DF91DB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E3C5-1DE4-4864-9F06-C34622E8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2041-927B-437F-A07F-8AA85A8AA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17AF-B0D5-43CF-8D4A-938520C04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272F-256A-4528-8633-6481501A4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28CE-C514-4772-86CE-7C4AA663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CE75-2D36-4A7F-AD79-7B073BFD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4FB2-E7DD-49D7-B1D4-1EA69E11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8223-619A-4DAF-87D7-78F2BAD4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FC48-78EB-4AF8-AF48-77ED535D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1475-AA90-42DB-B369-408AFA7C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D2B3-4226-4979-BDCB-20BADD4C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B29A-6BED-4B02-A61D-BAA89EBC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1A3D-6B5A-4FAA-BBD9-51BEF0DB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F7AC-DC5F-45B2-ACF3-40001A15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0D09-ADA4-45E3-BC8C-FB4B660E9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1A5D-B5DD-4092-A8A8-DA8F49E0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2544C-70D1-470C-B6E6-E0843B58C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674E4-0160-4754-A32A-B5694800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FCB9D-B031-42C8-AA2E-750CE5E8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F5F41-54C0-4D54-BAEA-7A3FCA81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9CC49-765B-4313-991F-A287D7C0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9402-4962-4795-8367-677FC1EE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FB34D-E423-4144-8FE8-D449384E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C2629-BE68-470B-8952-E470B28C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C5963-55C7-41BA-B515-34D20B8B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9BFAB-8AA1-4B53-91BC-C4AB7B70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FF727-B752-49E9-8E8B-3D8C2DC4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07C83-AC55-4B53-9DE3-D7E0E4255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88365-1A3A-4544-85BF-66F3A0999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82A7F-CA1F-4B2A-BEB8-1BE40CD0F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3103A-916C-4265-B540-38DD3CB1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A860F-B5F5-4A16-ADA8-D8C03803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683B-B5F4-4E7B-9F6A-27883CB1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4D914-34E9-4E01-AD1A-0FF0B574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A2773-37FF-498D-8B69-84BAA041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AEBEE-3C4D-408F-84F9-8310BF3E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C33E1-9942-484E-9270-7058B426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3D546-B00A-4A24-A54F-79175712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C6C32-73E4-4340-9B0B-144C4155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BCE95-2920-46D2-8494-E5FCC429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8426C-4D79-4856-AA75-5A8BBBADD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A91CF-0A99-499D-A07F-FDE1A81B1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E4DE-347C-40E7-9DB1-9678638E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55B3-0D63-4493-9A8F-5E99A084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4B48-D2B0-454A-B5A6-E74D8767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A672-C584-4719-AEC8-0A3759F9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AE4C-361B-4E3D-BA00-FAABCFA6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93C4-AD73-4FA4-B0C8-CAEE08E4DAE2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3296-6D20-49BA-80D7-B708D7342716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BA96-0CFE-4A97-BB3F-7387E12AA804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0E22-BFC5-45A2-A333-E38EEC631EB1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50560" y="4723920"/>
            <a:ext cx="5257800" cy="12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280"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Учитель начальных классов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Вайчик Светлана Николаевна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ГБОУ лицей №470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Калининского района г. Санкт-Петербурга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901800" y="158760"/>
            <a:ext cx="7772400" cy="2408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C:\Users\Arvay\AppData\Local\Microsoft\Windows\Temporary Internet Files\Content.IE5\VJJI3RY1\MC900382566[1].jpg"/>
          <p:cNvPicPr/>
          <p:nvPr/>
        </p:nvPicPr>
        <p:blipFill>
          <a:blip r:embed="rId2"/>
          <a:stretch/>
        </p:blipFill>
        <p:spPr>
          <a:xfrm>
            <a:off x="4121280" y="2997360"/>
            <a:ext cx="4627440" cy="33447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1262160" y="133200"/>
            <a:ext cx="6510240" cy="13114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284720" y="1197000"/>
            <a:ext cx="446400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Через нос проходит в грудь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И обратный держит путь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Он невидимый, и всё же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Без него мы жить не можем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6" name="Picture 3" descr="C:\Users\Arvay\AppData\Local\Microsoft\Windows\Temporary Internet Files\Content.IE5\ZSX5XP99\MP900442335[1].jpg"/>
          <p:cNvPicPr/>
          <p:nvPr/>
        </p:nvPicPr>
        <p:blipFill>
          <a:blip r:embed="rId2"/>
          <a:stretch/>
        </p:blipFill>
        <p:spPr>
          <a:xfrm>
            <a:off x="250920" y="2825640"/>
            <a:ext cx="3960720" cy="34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3" descr=""/>
          <p:cNvPicPr/>
          <p:nvPr/>
        </p:nvPicPr>
        <p:blipFill>
          <a:blip r:embed="rId1"/>
          <a:stretch/>
        </p:blipFill>
        <p:spPr>
          <a:xfrm>
            <a:off x="5651640" y="189000"/>
            <a:ext cx="3905280" cy="358128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4" descr=""/>
          <p:cNvPicPr/>
          <p:nvPr/>
        </p:nvPicPr>
        <p:blipFill>
          <a:blip r:embed="rId2"/>
          <a:stretch/>
        </p:blipFill>
        <p:spPr>
          <a:xfrm>
            <a:off x="555480" y="4336920"/>
            <a:ext cx="2963880" cy="2135160"/>
          </a:xfrm>
          <a:prstGeom prst="rect">
            <a:avLst/>
          </a:prstGeom>
          <a:ln w="0">
            <a:noFill/>
          </a:ln>
        </p:spPr>
      </p:pic>
      <p:pic>
        <p:nvPicPr>
          <p:cNvPr id="229" name="TextBox 6" descr=""/>
          <p:cNvPicPr/>
          <p:nvPr/>
        </p:nvPicPr>
        <p:blipFill>
          <a:blip r:embed="rId3"/>
          <a:stretch/>
        </p:blipFill>
        <p:spPr>
          <a:xfrm>
            <a:off x="554040" y="1530360"/>
            <a:ext cx="3395520" cy="2828880"/>
          </a:xfrm>
          <a:prstGeom prst="rect">
            <a:avLst/>
          </a:prstGeom>
          <a:ln w="0">
            <a:noFill/>
          </a:ln>
        </p:spPr>
      </p:pic>
      <p:pic>
        <p:nvPicPr>
          <p:cNvPr id="230" name="Заголовок 1" descr=""/>
          <p:cNvPicPr/>
          <p:nvPr/>
        </p:nvPicPr>
        <p:blipFill>
          <a:blip r:embed="rId4"/>
          <a:stretch/>
        </p:blipFill>
        <p:spPr>
          <a:xfrm>
            <a:off x="109440" y="133200"/>
            <a:ext cx="6510600" cy="1311480"/>
          </a:xfrm>
          <a:prstGeom prst="rect">
            <a:avLst/>
          </a:prstGeom>
          <a:ln w="0">
            <a:noFill/>
          </a:ln>
        </p:spPr>
      </p:pic>
      <p:sp>
        <p:nvSpPr>
          <p:cNvPr id="231" name="TextBox 2"/>
          <p:cNvSpPr/>
          <p:nvPr/>
        </p:nvSpPr>
        <p:spPr>
          <a:xfrm>
            <a:off x="3780000" y="3770280"/>
            <a:ext cx="31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Летом он бывает тёплым,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еет холодом зимой,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огда красит иней стёкл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И лежит на них каймой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TextBox 5"/>
          <p:cNvSpPr/>
          <p:nvPr/>
        </p:nvSpPr>
        <p:spPr>
          <a:xfrm>
            <a:off x="5363640" y="5157720"/>
            <a:ext cx="29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ы его не замечаем,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ы о нём не говорим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осто мы его вдыхаем-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едь он нам необходим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2"/>
          <p:cNvSpPr/>
          <p:nvPr/>
        </p:nvSpPr>
        <p:spPr>
          <a:xfrm>
            <a:off x="1763640" y="635040"/>
            <a:ext cx="59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Состав и свойства воздух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Диаграмма 4" descr=""/>
          <p:cNvPicPr/>
          <p:nvPr/>
        </p:nvPicPr>
        <p:blipFill>
          <a:blip r:embed="rId1"/>
          <a:stretch/>
        </p:blipFill>
        <p:spPr>
          <a:xfrm>
            <a:off x="128520" y="1506600"/>
            <a:ext cx="6197760" cy="41655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C:\Users\Arvay\AppData\Local\Microsoft\Windows\Temporary Internet Files\Content.IE5\6732KGI2\MP900446565[1].jpg"/>
          <p:cNvPicPr/>
          <p:nvPr/>
        </p:nvPicPr>
        <p:blipFill>
          <a:blip r:embed="rId2"/>
          <a:stretch/>
        </p:blipFill>
        <p:spPr>
          <a:xfrm>
            <a:off x="5867280" y="2133720"/>
            <a:ext cx="228924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1322280" y="-85680"/>
            <a:ext cx="6486480" cy="2017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539640" y="2060280"/>
            <a:ext cx="77407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1480" indent="-45720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оздух прозрачен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01480" indent="-45720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оздух бесцветен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01480" indent="-45720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оздух не имеет запаха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01480" indent="-4572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и нагревании воздух расширяется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а при охлаждении сжимается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01480" indent="-45720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оздух плохо проводит тепло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TextBox 3"/>
          <p:cNvSpPr/>
          <p:nvPr/>
        </p:nvSpPr>
        <p:spPr>
          <a:xfrm>
            <a:off x="576000" y="5013360"/>
            <a:ext cx="82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ервыми стали изучать состав воздуха и его свойства Джозеф Пристл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И Антуан Лавуазье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2268360" y="554040"/>
            <a:ext cx="51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rebuchet MS"/>
              </a:rPr>
              <a:t>Воздух должен</a:t>
            </a:r>
            <a:r>
              <a:rPr b="0" lang="ru-RU" sz="2800" spc="-1" strike="noStrike">
                <a:solidFill>
                  <a:srgbClr val="4e67c8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rebuchet MS"/>
              </a:rPr>
              <a:t>быть чистым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TextBox 2"/>
          <p:cNvSpPr/>
          <p:nvPr/>
        </p:nvSpPr>
        <p:spPr>
          <a:xfrm>
            <a:off x="179280" y="1341360"/>
            <a:ext cx="882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600 литров кислорода  необходимо человеку для дыхания только на один день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TextBox 4"/>
          <p:cNvSpPr/>
          <p:nvPr/>
        </p:nvSpPr>
        <p:spPr>
          <a:xfrm>
            <a:off x="2050920" y="2048040"/>
            <a:ext cx="51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ac8b"/>
                </a:solidFill>
                <a:latin typeface="Trebuchet MS"/>
              </a:rPr>
              <a:t>Какой чудесный воздух в лесу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TextBox 5"/>
          <p:cNvSpPr/>
          <p:nvPr/>
        </p:nvSpPr>
        <p:spPr>
          <a:xfrm>
            <a:off x="1449360" y="2563920"/>
            <a:ext cx="67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е зря растения называют « зелёными лёгкими планеты»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3" name="Picture 2" descr="C:\Users\Arvay\AppData\Local\Microsoft\Windows\Temporary Internet Files\Content.IE5\6732KGI2\MP900427595[1].jpg"/>
          <p:cNvPicPr/>
          <p:nvPr/>
        </p:nvPicPr>
        <p:blipFill>
          <a:blip r:embed="rId1"/>
          <a:stretch/>
        </p:blipFill>
        <p:spPr>
          <a:xfrm>
            <a:off x="6199200" y="3021120"/>
            <a:ext cx="2602080" cy="36702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C:\Users\Arvay\AppData\Local\Microsoft\Windows\Temporary Internet Files\Content.IE5\VJJI3RY1\MP900427841[1].jpg"/>
          <p:cNvPicPr/>
          <p:nvPr/>
        </p:nvPicPr>
        <p:blipFill>
          <a:blip r:embed="rId2"/>
          <a:stretch/>
        </p:blipFill>
        <p:spPr>
          <a:xfrm>
            <a:off x="212760" y="2981160"/>
            <a:ext cx="247320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2"/>
          <p:cNvSpPr/>
          <p:nvPr/>
        </p:nvSpPr>
        <p:spPr>
          <a:xfrm flipV="1" rot="10800000">
            <a:off x="1116000" y="620280"/>
            <a:ext cx="712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 заводов и фабрик, от работающих автомобилей в воздух попадают вредные вещества. Они опасны для всего живого, поэтому необходимо заботиться о чистоте воздух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Picture 2" descr="C:\Users\Arvay\AppData\Local\Microsoft\Windows\Temporary Internet Files\Content.IE5\EOTK7UVB\MP900390146[1].jpg"/>
          <p:cNvPicPr/>
          <p:nvPr/>
        </p:nvPicPr>
        <p:blipFill>
          <a:blip r:embed="rId1"/>
          <a:stretch/>
        </p:blipFill>
        <p:spPr>
          <a:xfrm>
            <a:off x="6227640" y="2781360"/>
            <a:ext cx="2610000" cy="36576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C:\Users\Arvay\AppData\Local\Microsoft\Windows\Temporary Internet Files\Content.IE5\ZSX5XP99\MP900255598[1].jpg"/>
          <p:cNvPicPr/>
          <p:nvPr/>
        </p:nvPicPr>
        <p:blipFill>
          <a:blip r:embed="rId2"/>
          <a:stretch/>
        </p:blipFill>
        <p:spPr>
          <a:xfrm>
            <a:off x="755640" y="2924280"/>
            <a:ext cx="408636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3" descr=""/>
          <p:cNvPicPr/>
          <p:nvPr/>
        </p:nvPicPr>
        <p:blipFill>
          <a:blip r:embed="rId1"/>
          <a:stretch/>
        </p:blipFill>
        <p:spPr>
          <a:xfrm>
            <a:off x="250920" y="682560"/>
            <a:ext cx="835344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12:51:33Z</dcterms:created>
  <dc:creator>Arvay</dc:creator>
  <dc:description/>
  <dc:language>en-US</dc:language>
  <cp:lastModifiedBy>Arvay</cp:lastModifiedBy>
  <dcterms:modified xsi:type="dcterms:W3CDTF">2013-03-18T15:52:59Z</dcterms:modified>
  <cp:revision>20</cp:revision>
  <dc:subject/>
  <dc:title>Презентация к уроку «Прозрачный невидимка  ( воздух)»</dc:title>
</cp:coreProperties>
</file>