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827-C132-4C31-9132-2C3528AD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8CF-2232-405F-817E-6468810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8CCA5-4CDE-4920-96BC-B7B048C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66274-F481-4D62-9B4F-ED22089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FD678-27E7-4778-BE87-D717B1A4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1BE9-270F-4C46-8931-7253935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906CD-5862-4734-A388-1C67D47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D6973-11EE-4B79-97BC-A4F7D89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04BE5-3B55-4939-8E7C-1AECDB7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CC233-3949-44B6-8FEA-B54F5151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E5F7-C83D-492B-9F6A-D9AD4A16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74C68-2B4D-4A8D-B229-0C20DF87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EA1-6D2C-4FEB-927F-E2D72270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5151E-D0ED-45AE-8509-6D20C3C7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34EF3-3E67-4130-94C6-3294D762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B2FBF-C9C9-4E3B-9DB7-5B572FE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2149D-0B41-48D3-9F79-69DF820B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8560A-7D5C-41EB-A3E4-72815631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7127E-CF3E-42A5-A3F5-33CD193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582AC-9EAC-4B8A-A244-AAA5195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41359-323C-497B-B688-9ADECBBB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20DAF-EB51-4F89-936A-4811200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27E3D-8095-4A95-BACA-325C418D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31C-7D26-4F01-BD0B-DA78F515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34F61-90DB-40DE-BA9E-38917A48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1F07-27FF-4911-BF26-96DEED58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A6D-B4FD-4243-86DC-4991178C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8DA8-4A3D-4005-A71F-2C792F13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355A-8D98-4601-AFA9-E7D9A57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05B9-9810-4C83-8ACF-5F460F1E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9CA-8123-4C1D-AC9E-3A624B6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8AF3-C943-4E83-ACEA-7215098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02C-02E7-40B3-8832-C34DC69D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8D9A-DE42-44D5-A780-C09D028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B782-6991-475B-90F5-D5CE2F2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8EB4-3D8D-49D7-BB9A-72C603E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31D-E095-4898-8B0D-926D3D7D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5CE6-A07B-4A0B-9028-3BD3FB89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EE07-B092-42CB-8DD3-2394E83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83C4-9531-4AAB-A19C-A8BF32F8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B6F0-40BF-4BA8-AC4A-9A75E416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A11D-86B7-4F4A-A548-CF97FDBE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E666-F4AA-47D9-BB89-FA070A8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926-319F-465A-A55A-1176B89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4643-08DD-45F8-A2D0-68510FFA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EE87-2648-4C24-8B5D-199D3054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B649-2F2C-4DD6-BCFF-656F2947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CDCE-AFFD-4E2B-8629-F202CDEC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8393-2278-4DF4-BAB5-04648034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3EBA-1D39-4EF8-9E17-51850E98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2040-A266-4950-B577-4D699208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52AD-8CFC-450A-8731-26352C1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EB57-8CBF-45FD-AE63-175BF404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362A-66B3-4018-8A1D-40DA9CC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746-37E7-426B-AB6D-657E73D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1CCF-16CB-405E-B805-522440D8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CDA6-B694-4EF3-B246-C950F50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F3BC-3DC2-4F9F-B2FF-8E828640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7E3B-1E43-4469-84BB-EF7F072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73BD-6513-4F7D-835A-AE3B4ED3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63F8-71D6-4F93-B493-D67F2B8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2FBA-0551-41F9-AD8D-2B618362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63BFD-1E04-4A1C-B38D-33FB5CA2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BC44-0E94-4B43-B484-3AE85865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DF0EA-FA10-4367-8313-F9FC7775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F6E-1327-4CF3-A8D3-6758595F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E6A1-0FE3-4294-B136-8B7FD2B7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84A3-ACC1-4C3D-99F9-E893DB3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BD03-58E8-4045-B296-1D0459A9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1EFC-54BF-43AC-B434-3DF39B8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7AA7-A928-4B9B-9D51-A85B934A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B911-6FAD-4C2E-AC09-26634EF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174B-1FDD-4F2D-A76C-1DE4442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125B-52F3-4994-924E-384CBEB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2221-A17C-49C0-A281-ACC46D40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108F-EE1F-46D6-ABE9-6A3C196C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A29-81BE-4D96-AF8D-FE8AF403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24C9-FCDA-4E55-BDC3-C2915AAF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FECD-C0A1-4949-8666-CFC9A126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C12AA-0A11-4DD1-96EF-E82047D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D7D1C-F8B1-42D3-BB5F-3E74CEF1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55745-F07F-4CB2-A4F0-438EC58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B586-FBDA-4AAB-99C1-1684104E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BD44-C3A8-4594-880F-47AA7452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F135-2531-4F2A-96D8-FA22A49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603F9-9D17-4EB7-BD0E-3184B54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14582-317D-4077-8AF2-BB6E0AA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E32-FA17-43C5-BE1A-A164A85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A928-6611-42B4-86E8-E3A4A3A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56F7-64CD-4706-84B2-070E533E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48AEA-39FB-4904-803A-E18A5E6E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9CDE-9E7B-433F-B735-3815CC58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D4C2-1BCC-4C62-BA81-A226B3C2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2111C-33C2-4FCB-B218-ACB1A223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97030-4B80-4588-B0F7-1D71E8B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464C-7A3B-4F7C-A253-34E00CE3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6175-19A7-4D89-A5FE-20C1A2CB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997A-EA37-4AF8-A82C-D28C161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379-97AA-4EE9-B9C2-736858C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7947-B0F7-4D21-A9FB-BCD8734B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30B0-B903-4FC0-9F25-8D087FB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3B08-7A22-4AA8-81D1-6665C742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00CC-3BA7-4A1A-AB95-F212F1CD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9B3C-F13E-41EB-AA5F-F3511558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7331-AEDA-4E0A-AD07-D252FED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9D3E9-8FB4-45BC-8727-5AF62AA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D225-7938-46D2-9A39-24D6DC0E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CE27B-3A1D-400F-A20C-6AA15663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E9A2-DD86-4753-AA7E-6296C96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DC7-0412-4882-92BF-77D090D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75B60-EABB-4F96-AC19-C47D2F23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7D4D5-9458-4FC6-ABF0-CF05430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ED23-6443-456F-852F-F71943A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171E-50DC-4AE3-A1ED-FF09D26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FF623-5E5D-4F42-8EAE-FA4B38D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89E5D-F0EA-4A71-9108-784415F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F3185-7730-4443-A50F-962050E7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8DB46-92FB-47E5-AD56-CB2865A6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6CF1D-DAD6-44E3-A9D4-5D0135D2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28B4E-00E1-4208-A5B7-498C8F7B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9EBF-4A5C-4022-BB0E-2E5250F063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45B-E306-495B-A448-662B9DC0E3BF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FD3D-C43B-4CF2-9FA5-1B571FFE9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1BFF-C90A-46EB-840C-E161D6BF65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AA96-E70D-4621-81F6-A5E17231E8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448-BD13-4654-B07F-A71863B90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02F7-2B87-4D1A-9293-13BFDA5807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3CD2-DBED-45BD-946D-95D00A7C1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399-8CF9-4485-BB24-2347FDAD5B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046E-994A-4C06-9EDB-5C88C89FD8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971640" y="357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Выветривание горных пород</a:t>
            </a:r>
            <a:endParaRPr b="0" lang="en-US" sz="5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7080" y="220500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Тема урока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5392800"/>
            <a:ext cx="34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Автор: Никифорова Е.Н.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учитель биологии и географии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1 категории,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БОУ школа-интернат №1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. Саров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30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1608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324000" y="476280"/>
          <a:ext cx="8280360" cy="5032440"/>
        </p:xfrm>
        <a:graphic>
          <a:graphicData uri="http://schemas.openxmlformats.org/drawingml/2006/table">
            <a:tbl>
              <a:tblPr/>
              <a:tblGrid>
                <a:gridCol w="2663640"/>
                <a:gridCol w="1728720"/>
                <a:gridCol w="1852560"/>
                <a:gridCol w="203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2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ода и растворимые вещества и г.п. – известняк, гипс, соли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водой растворимых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Образование новых соединений и изменение существующих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3711600" y="2782800"/>
            <a:ext cx="5432400" cy="4075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34243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395280" y="476280"/>
          <a:ext cx="8280360" cy="511812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лияние живых организмов на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и изменение г.п. и минералов под влиянием растений и животных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Измельчение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.   ???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41" name="Схема 3" descr=""/>
          <p:cNvPicPr/>
          <p:nvPr/>
        </p:nvPicPr>
        <p:blipFill>
          <a:blip r:embed="rId2"/>
          <a:stretch/>
        </p:blipFill>
        <p:spPr>
          <a:xfrm>
            <a:off x="-468360" y="1390680"/>
            <a:ext cx="9618840" cy="51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2906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3375000" y="3367080"/>
            <a:ext cx="5769000" cy="34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6172200" cy="3463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539640" y="476280"/>
          <a:ext cx="8280360" cy="406728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1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. Антроп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под действием хозяйственной деятельности человек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Сильно меняют г.п. и рельеф Земли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Закрепле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d4337"/>
                </a:solidFill>
                <a:uFillTx/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такое выветривание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Какие существуют виды выветривания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является главными причинами физического выветривания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сскажите о биогенном выветривании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такое техногенное выветривание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d4944"/>
                </a:solidFill>
                <a:uFillTx/>
                <a:latin typeface="Arial"/>
              </a:rPr>
              <a:t>Выветривание</a:t>
            </a: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– все процессы, приводящие к разрушению горных пород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Домашнее зад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Пересказ 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  <a:ea typeface="Arial"/>
              </a:rPr>
              <a:t> 16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16" name="Схема 3" descr=""/>
          <p:cNvPicPr/>
          <p:nvPr/>
        </p:nvPicPr>
        <p:blipFill>
          <a:blip r:embed="rId2"/>
          <a:stretch/>
        </p:blipFill>
        <p:spPr>
          <a:xfrm>
            <a:off x="-181080" y="1413000"/>
            <a:ext cx="9156960" cy="51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Виды выветривания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50920" y="1557360"/>
          <a:ext cx="8424720" cy="3355920"/>
        </p:xfrm>
        <a:graphic>
          <a:graphicData uri="http://schemas.openxmlformats.org/drawingml/2006/table">
            <a:tbl>
              <a:tblPr/>
              <a:tblGrid>
                <a:gridCol w="2592360"/>
                <a:gridCol w="1692360"/>
                <a:gridCol w="2070000"/>
                <a:gridCol w="207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24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C:\Documents and Settings\Admin\Рабочий стол\Внешние силы. Выветривание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95640"/>
          </a:xfrm>
          <a:prstGeom prst="rect">
            <a:avLst/>
          </a:prstGeom>
          <a:ln w="9360">
            <a:solidFill>
              <a:srgbClr val="1d4337"/>
            </a:solidFill>
            <a:miter/>
          </a:ln>
        </p:spPr>
      </p:pic>
      <p:pic>
        <p:nvPicPr>
          <p:cNvPr id="420" name="Прямоугольник 2" descr=""/>
          <p:cNvPicPr/>
          <p:nvPr/>
        </p:nvPicPr>
        <p:blipFill>
          <a:blip r:embed="rId3"/>
          <a:stretch/>
        </p:blipFill>
        <p:spPr>
          <a:xfrm>
            <a:off x="1103400" y="5614920"/>
            <a:ext cx="6772320" cy="18162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4663800" cy="3498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49880" cy="349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067280" y="350028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249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3303720"/>
            <a:ext cx="5651640" cy="3554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24000" y="476280"/>
          <a:ext cx="8280360" cy="6192720"/>
        </p:xfrm>
        <a:graphic>
          <a:graphicData uri="http://schemas.openxmlformats.org/drawingml/2006/table">
            <a:tbl>
              <a:tblPr/>
              <a:tblGrid>
                <a:gridCol w="2663640"/>
                <a:gridCol w="1728720"/>
                <a:gridCol w="1852560"/>
                <a:gridCol w="203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Колебания температуры, ветер и вод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оцесс механического раздробления горных пород (г.п.)без изменения химического состав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Образуются обломочные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7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0" y="3247920"/>
            <a:ext cx="4788000" cy="361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9:40:42Z</dcterms:created>
  <dc:creator>starostina</dc:creator>
  <dc:description/>
  <cp:keywords/>
  <dc:language>en-US</dc:language>
  <cp:lastModifiedBy>User</cp:lastModifiedBy>
  <dcterms:modified xsi:type="dcterms:W3CDTF">2013-01-30T15:22:40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