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9404-495A-4208-9208-02ACB6BA9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E74F-9E43-4118-9A0B-7CBA11DE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B4854-9798-44EB-BE15-F1F57B94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9D34D-D2C9-4A29-9660-6B010B6D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171CD-14AA-47BB-82C1-D7C0E43D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E274B-A9B2-493B-809C-3DE462BE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7160B-24BA-449D-BD65-AF330420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A31AE-F40E-4530-B15E-68D5B8A0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3D8D8-A70B-4E67-87DD-1F55FB88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066CA-D7B9-4492-9102-AC3E38AC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1D056-CAE6-485B-AD1E-C33B8BE7A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74E8C-C93C-474D-A7E3-A0AC84E5A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E589-EB2F-41F6-9483-9DE429714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BECA9-BCB8-4550-A027-118062D0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FCAFD2-BA69-40DA-939C-B2EC4D8F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D7786-1D1F-489E-83E1-C107DEE9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A3600-C6EC-4204-A382-DDE9365E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E83CC-5CE9-42D2-895A-33EBAC50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63B212-948C-4F2D-AAEF-C3C926C1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71C830-3B4B-444C-8FBB-28025C84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F6FC0-EB82-4AE6-952F-8D4916DB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944FD3-6F57-4AC1-BF04-702875FA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3B1E0-5823-4E10-A8B7-D86D1452A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9C55-9BFD-4287-9DAE-073DA03E2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DDDA0-3A45-4F80-8D80-4B0E2653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E63D-5876-4E36-B568-8DCEF719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4C9A-E17A-4D52-948D-310AA004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579E-7C2D-4C8F-8522-C0936F5D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9F9B-6267-4A6F-842E-DFCD2716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F1E5-51F5-4153-A12D-E913288F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5BA0-C6A7-4F08-9FB2-C61818C1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1368-488B-4B44-A76E-C5547B80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9F69-768B-4852-B35A-1D0365D6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72EA-B0A4-4934-8A0D-DA26DED2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A36C-EDA4-4F9A-9F32-72842B70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6A15-AB2A-4979-8A3C-BEC91613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33AE-12B0-4DDD-BF49-F3C6B782D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EA49-F718-4F26-8A39-257B489D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76FA4-0E65-4E04-85AD-6D6E6B595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ABA59-620A-4F78-A451-EAF34E2D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565B0-0589-43E2-811A-A1360090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4F55E-4765-44FA-8470-773750A4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00091-6E80-4AA8-A701-2F804098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6049-9DF9-4DAC-B187-3A488B25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3C41A-CC41-4712-BB01-53128884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450B3-2CCC-4D63-ACC1-4148C2B4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89CF6-3A11-41CC-9392-5A414B83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37CFC-994D-42C2-B1FB-3C005F7C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57F04-8E45-40A4-A954-B833E338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0F835-0789-4D3E-B5BE-4C87CBAA5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DCA80-E1A0-4BC6-9A81-BACFEB597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E2C2E-95B6-4258-9159-7C15C5E5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373A9-8478-410A-B979-5CAF40A2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336B9-552D-43FC-ADD7-15A3943E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5A85-DAAF-4DB3-A622-40FE6347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83B6E-F1B3-4A2A-8351-CD0BEDDC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8F0B3-A0EF-42D0-9D80-606C9BE6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0DED3-61D8-47F4-A985-5CAB5476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A904E-2C4D-4EAF-8A3F-C18E25E7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28200-E6C0-4630-A080-6301D580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28E8D-ED44-4C72-8E01-0652DD9B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63B52-2D36-46C0-84E3-435FA575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9FFF5-7394-443C-87F9-2B674FAF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8C2D2-4CA6-4B0F-A325-692C513AB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E4FFD-3D7B-441F-8711-B835DE408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39A3-C1E6-4F0D-85F5-1762348A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011B5-80EF-4A9B-9C15-9E0CFF3F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3F9FA-6A0D-46D0-8D12-3BFB8704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45673-A255-4092-A6D4-E7ED836F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AC237-8DED-4DAB-85D2-60724FC0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2694B-E5EA-4365-928F-C8CC980A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3E780-E1CC-4AEC-AE44-C11B7EA9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C5355-A5C3-4CF8-8B5D-02C26353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877EB-C9F1-4590-846F-7CE418A5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055B9-91D1-48D5-9DF3-5C90A5E7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21ABE-16AB-4EBE-BC6B-BD6B73560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60EC-3A19-4031-868B-A13C17FE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57D3E-C50C-4967-AD2B-4855256EA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9E38D-409F-4235-AAC9-0B3A7E89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54816-9AA4-42F3-AD30-2D415DB2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0018A-0A61-47D7-869D-004B7AF8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938A5-9B02-4B18-983B-57560E5A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932A0-1347-4D3C-9B67-62C8D575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261BF-A688-43BB-BE4B-E2169F7E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BE19E-3984-4560-BD68-24DD8865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CB5EB-89FC-44B4-8855-4158B2D8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1A17C-F28C-4AD3-A17C-4FD6F298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3D7F-7E3C-4549-9277-EA050A0A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75715-2991-4713-93AB-8F9BDD22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9D9A7-A300-4CBE-B699-AC30DCE26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17C2E-8F5C-4DA3-A69C-9E621976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8E99C-41D0-4F02-8CEB-9E67A4F2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2BA28-AC68-47BD-B9F3-7AACCF22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2F99E-5C72-4F12-9D3D-6F40FABE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26F5B-6006-445C-B8D0-CD2BAED4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5CDAA-6C51-49B2-9E3E-FB1C5D00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97C0F-1F10-451F-AB84-3A0D6425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65FE1-409C-4A1D-862F-B9DE9241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9081-0558-4017-9B44-D19F0241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E1084-A160-45B1-A4A3-BA41B5A5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80016-1219-4703-BB5D-9490CE3F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2653E-F283-47AC-8100-32D0CD5C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36104-1D09-458D-B9C7-14B06669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80FCD-7EAA-4656-A3D0-4FFA0B52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FD311-89D4-4274-89FE-40D86B690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F44D2-39D4-437F-B6EA-2C4A5572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5055E-6B5B-4DA8-BC7B-5A4E7168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DBC24-F4E6-492B-99FC-B377B7A7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DAC83-B3BC-4590-8521-877B09A1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1125-10E9-4E1F-A329-73326C77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229E6-E2B2-4F82-9CF6-7D0738AD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D19EF-6BEF-42F3-AB1A-7CE6DAFD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8EBA0-25AB-44A7-A7D2-9D6FE310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E3DFA-DA5B-49C0-A33C-A6F9F60D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6615C-B768-40DE-936C-AD927241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A4944-C7C3-46B3-929E-DDDAE06B4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CFB93-A5B8-4D76-873D-FBB33A1A5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06673-7C64-4A6C-9A02-4313890C6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B5968-0591-485B-A2EE-FFEBFFBD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D03F5-7BCC-40ED-9D04-199F52EE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F7C9-2BB5-42B4-A04D-DDE18EEB10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7F4D-02C4-4D81-9D34-BCDEB8BF309B}" type="slidenum"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1652-C91C-4F4A-8B2E-8C59C76EBE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2886-A1AB-416B-ADA7-4417426D62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8B95-2D7B-4FA8-9B9F-17148354EA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6092-D84B-4D23-AB55-827389C704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514B-9986-486C-AF3C-7BB3CF6643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01B0-B166-48AF-AA77-99725F75C2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FB18-093C-49B9-B3F4-8607E50DD8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8A12-9C7A-40B4-B261-4BD03C8BDE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971640" y="357336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99"/>
                </a:solidFill>
                <a:latin typeface="Arial"/>
              </a:rPr>
              <a:t>Выветривание горных пород</a:t>
            </a:r>
            <a:endParaRPr b="0" lang="en-US" sz="5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37080" y="2205000"/>
            <a:ext cx="19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944"/>
                </a:solidFill>
                <a:latin typeface="Arial"/>
              </a:rPr>
              <a:t>Тема урока: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67280" y="5392800"/>
            <a:ext cx="3457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Автор: Никифорова Е.Н. 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учитель биологии и географии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1 категории, 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МБОУ школа-интернат №1 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              </a:t>
            </a: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г. Саров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430" name="Rectangle 3" descr=""/>
          <p:cNvPicPr/>
          <p:nvPr/>
        </p:nvPicPr>
        <p:blipFill>
          <a:blip r:embed="rId2"/>
          <a:stretch/>
        </p:blipFill>
        <p:spPr>
          <a:xfrm>
            <a:off x="0" y="0"/>
            <a:ext cx="4788000" cy="316080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4211640" y="3157560"/>
            <a:ext cx="4932360" cy="37004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2" name=""/>
          <p:cNvGraphicFramePr/>
          <p:nvPr/>
        </p:nvGraphicFramePr>
        <p:xfrm>
          <a:off x="324000" y="476280"/>
          <a:ext cx="8280360" cy="5032440"/>
        </p:xfrm>
        <a:graphic>
          <a:graphicData uri="http://schemas.openxmlformats.org/drawingml/2006/table">
            <a:tbl>
              <a:tblPr/>
              <a:tblGrid>
                <a:gridCol w="2663640"/>
                <a:gridCol w="1728720"/>
                <a:gridCol w="1852560"/>
                <a:gridCol w="2035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Виды выветривания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Причины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Действие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Результат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32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2. Химическое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Вода и растворимые вещества и г.п. – известняк, гипс, соли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Разрушение водой растворимых г.п.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Образование новых соединений и изменение существующих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83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3. Биогенное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3711600" y="2782800"/>
            <a:ext cx="5432400" cy="40752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4"/>
          <a:stretch/>
        </p:blipFill>
        <p:spPr>
          <a:xfrm>
            <a:off x="0" y="4076640"/>
            <a:ext cx="3708360" cy="2781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64000" cy="342432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4788000" y="3591000"/>
            <a:ext cx="4356000" cy="3267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9" name=""/>
          <p:cNvGraphicFramePr/>
          <p:nvPr/>
        </p:nvGraphicFramePr>
        <p:xfrm>
          <a:off x="395280" y="476280"/>
          <a:ext cx="8280360" cy="5118120"/>
        </p:xfrm>
        <a:graphic>
          <a:graphicData uri="http://schemas.openxmlformats.org/drawingml/2006/table">
            <a:tbl>
              <a:tblPr/>
              <a:tblGrid>
                <a:gridCol w="2664000"/>
                <a:gridCol w="1728720"/>
                <a:gridCol w="1852560"/>
                <a:gridCol w="2035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Виды выветривания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Причины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Действие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Результат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3. Биогенное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Влияние живых организмов на г.п.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Разрушение и изменение г.п. и минералов под влиянием растений и животных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Измельчение г.п.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78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4.   ???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Выветривание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441" name="Схема 3" descr=""/>
          <p:cNvPicPr/>
          <p:nvPr/>
        </p:nvPicPr>
        <p:blipFill>
          <a:blip r:embed="rId2"/>
          <a:stretch/>
        </p:blipFill>
        <p:spPr>
          <a:xfrm>
            <a:off x="-468360" y="1390680"/>
            <a:ext cx="9618840" cy="5186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290664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3375000" y="3367080"/>
            <a:ext cx="5769000" cy="3490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-252360" y="0"/>
            <a:ext cx="6172200" cy="346392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3"/>
          <a:stretch/>
        </p:blipFill>
        <p:spPr>
          <a:xfrm>
            <a:off x="3995640" y="3500280"/>
            <a:ext cx="5148360" cy="3357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"/>
          <p:cNvGraphicFramePr/>
          <p:nvPr/>
        </p:nvGraphicFramePr>
        <p:xfrm>
          <a:off x="539640" y="476280"/>
          <a:ext cx="8280360" cy="4067280"/>
        </p:xfrm>
        <a:graphic>
          <a:graphicData uri="http://schemas.openxmlformats.org/drawingml/2006/table">
            <a:tbl>
              <a:tblPr/>
              <a:tblGrid>
                <a:gridCol w="2664000"/>
                <a:gridCol w="1728720"/>
                <a:gridCol w="1852560"/>
                <a:gridCol w="2035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Виды выветривания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Причины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Действие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Результат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312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4. Антропогенное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Деятельность человека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Разрушение под действием хозяйственной деятельности человека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Сильно меняют г.п. и рельеф Земли.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d4944"/>
                </a:solidFill>
                <a:latin typeface="Arial"/>
              </a:rPr>
              <a:t>Закрепление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280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1d4337"/>
                </a:solidFill>
                <a:uFillTx/>
                <a:latin typeface="Arial"/>
              </a:rPr>
              <a:t>Ответьте на вопросы: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603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7a8e3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Что такое выветривание?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7a8e3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Какие существуют виды выветривания?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7a8e3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Что является главными причинами физического выветривания?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7a8e3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Расскажите о биогенном выветривании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7a8e3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Что такое техногенное выветривание?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37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d4944"/>
                </a:solidFill>
                <a:uFillTx/>
                <a:latin typeface="Arial"/>
              </a:rPr>
              <a:t>Выветривание</a:t>
            </a:r>
            <a:r>
              <a:rPr b="1" lang="ru-RU" sz="4000" spc="-1" strike="noStrike">
                <a:solidFill>
                  <a:srgbClr val="1d4944"/>
                </a:solidFill>
                <a:latin typeface="Arial"/>
              </a:rPr>
              <a:t> – все процессы, приводящие к разрушению горных пород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d4944"/>
                </a:solidFill>
                <a:latin typeface="Arial"/>
              </a:rPr>
              <a:t>Домашнее задание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280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d4337"/>
                </a:solidFill>
                <a:latin typeface="Arial"/>
              </a:rPr>
              <a:t>Пересказ </a:t>
            </a:r>
            <a:r>
              <a:rPr b="0" lang="en-US" sz="3200" spc="-1" strike="noStrike">
                <a:solidFill>
                  <a:srgbClr val="1d4337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1d4337"/>
                </a:solidFill>
                <a:latin typeface="Arial"/>
                <a:ea typeface="Arial"/>
              </a:rPr>
              <a:t> 16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Выветривание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416" name="Схема 3" descr=""/>
          <p:cNvPicPr/>
          <p:nvPr/>
        </p:nvPicPr>
        <p:blipFill>
          <a:blip r:embed="rId2"/>
          <a:stretch/>
        </p:blipFill>
        <p:spPr>
          <a:xfrm>
            <a:off x="-181080" y="1413000"/>
            <a:ext cx="9156960" cy="5186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d4944"/>
                </a:solidFill>
                <a:latin typeface="Arial"/>
              </a:rPr>
              <a:t>Виды выветривания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250920" y="1557360"/>
          <a:ext cx="8424720" cy="3355920"/>
        </p:xfrm>
        <a:graphic>
          <a:graphicData uri="http://schemas.openxmlformats.org/drawingml/2006/table">
            <a:tbl>
              <a:tblPr/>
              <a:tblGrid>
                <a:gridCol w="2592360"/>
                <a:gridCol w="1692360"/>
                <a:gridCol w="2070000"/>
                <a:gridCol w="2070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Виды выветривания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Причины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Действие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Результат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24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1. Физическое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C:\Documents and Settings\Admin\Рабочий стол\Внешние силы. Выветривание.jpg"/>
          <p:cNvPicPr/>
          <p:nvPr/>
        </p:nvPicPr>
        <p:blipFill>
          <a:blip r:embed="rId2"/>
          <a:stretch/>
        </p:blipFill>
        <p:spPr>
          <a:xfrm>
            <a:off x="0" y="0"/>
            <a:ext cx="4643280" cy="3095640"/>
          </a:xfrm>
          <a:prstGeom prst="rect">
            <a:avLst/>
          </a:prstGeom>
          <a:ln w="9360">
            <a:solidFill>
              <a:srgbClr val="1d4337"/>
            </a:solidFill>
            <a:miter/>
          </a:ln>
        </p:spPr>
      </p:pic>
      <p:pic>
        <p:nvPicPr>
          <p:cNvPr id="420" name="Прямоугольник 2" descr=""/>
          <p:cNvPicPr/>
          <p:nvPr/>
        </p:nvPicPr>
        <p:blipFill>
          <a:blip r:embed="rId3"/>
          <a:stretch/>
        </p:blipFill>
        <p:spPr>
          <a:xfrm>
            <a:off x="1103400" y="5614920"/>
            <a:ext cx="6772320" cy="181620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4"/>
          <a:stretch/>
        </p:blipFill>
        <p:spPr>
          <a:xfrm>
            <a:off x="4140360" y="2349360"/>
            <a:ext cx="4663800" cy="34988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49880" cy="34974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4067280" y="3500280"/>
            <a:ext cx="5076720" cy="3357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76720" cy="324972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3492360" y="3303720"/>
            <a:ext cx="5651640" cy="35542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324000" y="476280"/>
          <a:ext cx="8280360" cy="6192720"/>
        </p:xfrm>
        <a:graphic>
          <a:graphicData uri="http://schemas.openxmlformats.org/drawingml/2006/table">
            <a:tbl>
              <a:tblPr/>
              <a:tblGrid>
                <a:gridCol w="2663640"/>
                <a:gridCol w="1728720"/>
                <a:gridCol w="1852560"/>
                <a:gridCol w="2035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Виды выветривания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Причины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Действие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Результат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1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1. Физическое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Колебания температуры, ветер и вода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Процесс механического раздробления горных пород (г.п.)без изменения химического состава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Образуются обломочные г.п.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105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2. Химическое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14784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0" y="3247920"/>
            <a:ext cx="4788000" cy="3610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09:40:42Z</dcterms:created>
  <dc:creator>starostina</dc:creator>
  <dc:description/>
  <cp:keywords/>
  <dc:language>en-US</dc:language>
  <cp:lastModifiedBy>User</cp:lastModifiedBy>
  <dcterms:modified xsi:type="dcterms:W3CDTF">2013-01-30T15:22:40Z</dcterms:modified>
  <cp:revision>5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51049</vt:lpwstr>
  </property>
</Properties>
</file>