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150-E323-41A5-BC42-08BFC3B6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A85-AF89-478E-BBE1-D939516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843-A873-485F-B078-5EB55489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D51-3A09-4BD0-877F-DFBDE45E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250-F9BA-4BB1-91C6-060A877D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BC9-87CA-427B-B309-48D7F576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9E5-8E54-4F37-A121-98E7143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4D6-717A-4BF3-BDD5-9302B990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EF2-372E-462D-8DED-7D590372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713-3F4F-4764-9045-EE205B4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946-4961-4CD5-9CBE-08DCCFE7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9D4-B6E4-44ED-8BFC-D68182D6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77DA-1607-4AC5-A793-DB8BFDA79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26317lvschooll7.edusite.ru/p6aa1.html" TargetMode="External"/><Relationship Id="rId2" Type="http://schemas.openxmlformats.org/officeDocument/2006/relationships/hyperlink" Target="http://www.26317lvschooll7.edusite.ru/p6aa1.html" TargetMode="External"/><Relationship Id="rId3" Type="http://schemas.openxmlformats.org/officeDocument/2006/relationships/hyperlink" Target="http://kpoxa.ucoz.com/forum/43-776-1" TargetMode="External"/><Relationship Id="rId4" Type="http://schemas.openxmlformats.org/officeDocument/2006/relationships/hyperlink" Target="http://www.lenagold.ru/fon/clipart/g/grib2.html" TargetMode="External"/><Relationship Id="rId5" Type="http://schemas.openxmlformats.org/officeDocument/2006/relationships/hyperlink" Target="http://www.lenagold.ru/fon/clipart/k/kar3.html" TargetMode="External"/><Relationship Id="rId6" Type="http://schemas.openxmlformats.org/officeDocument/2006/relationships/hyperlink" Target="http://www.lenagold.ru/fon/clipart/k/kar3.html" TargetMode="External"/><Relationship Id="rId7" Type="http://schemas.openxmlformats.org/officeDocument/2006/relationships/hyperlink" Target="http://derzski.ru/?p=206" TargetMode="External"/><Relationship Id="rId8" Type="http://schemas.openxmlformats.org/officeDocument/2006/relationships/hyperlink" Target="http://derzski.ru/?p=206" TargetMode="External"/><Relationship Id="rId9" Type="http://schemas.openxmlformats.org/officeDocument/2006/relationships/hyperlink" Target="http://derzski.ru/?p=206" TargetMode="External"/><Relationship Id="rId10" Type="http://schemas.openxmlformats.org/officeDocument/2006/relationships/hyperlink" Target="http://gorodmam.ru/user/blog/post/432405/page/0" TargetMode="External"/><Relationship Id="rId11" Type="http://schemas.openxmlformats.org/officeDocument/2006/relationships/hyperlink" Target="http://apple4.blog.tut.by/2010/05/03/kotyataanimaciya/" TargetMode="External"/><Relationship Id="rId12" Type="http://schemas.openxmlformats.org/officeDocument/2006/relationships/hyperlink" Target="http://images.yandex.ru/yandsearch?ed=1&amp;rpt=simage&amp;text=3%20&#1094;&#1099;&#1087;&#1083;&#1105;&#1085;&#1082;&#1072;&amp;img_url=s56.radikal.ru%2Fi154%2F0904%2F0b%2F797649ce0634.jpg&amp;spsite=fake-004-7856796.ru&amp;p=29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Занимательная 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6480" y="3786120"/>
            <a:ext cx="3467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38894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рисую кошкин дом: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окошка, дверь с крыльц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верху ещё окно, чтобы не было темно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считай окошки в домике у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908000" y="1700280"/>
            <a:ext cx="2449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63528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124000" y="2349360"/>
            <a:ext cx="50508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843280" y="2349360"/>
            <a:ext cx="504720" cy="50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flipH="1" rot="13393200">
            <a:off x="2194560" y="836640"/>
            <a:ext cx="1887480" cy="1837800"/>
          </a:xfrm>
          <a:prstGeom prst="rtTriangl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843280" y="3141720"/>
            <a:ext cx="504720" cy="9144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095640" cy="277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опия Копия Image3"/>
          <p:cNvPicPr/>
          <p:nvPr/>
        </p:nvPicPr>
        <p:blipFill>
          <a:blip r:embed="rId2"/>
          <a:stretch/>
        </p:blipFill>
        <p:spPr>
          <a:xfrm>
            <a:off x="539640" y="4121280"/>
            <a:ext cx="20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716360" y="1700280"/>
            <a:ext cx="3506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5724000" y="1700280"/>
            <a:ext cx="83844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724360" y="429264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7092720" y="2276640"/>
            <a:ext cx="1143000" cy="4190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 rot="7451400">
            <a:off x="5666760" y="46152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6443640" y="162864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84360" y="1700280"/>
            <a:ext cx="43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Гляди, четыре – это сту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0.0111 L -0.08542 0.38252 E">
                                      <p:cBhvr>
                                        <p:cTn id="125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0.38252 L 0.13125 0.38252 E">
                                      <p:cBhvr>
                                        <p:cTn id="1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8958 0.07169 L 0.06458 0.68224 E">
                                      <p:cBhvr>
                                        <p:cTn id="131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6100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цыплёнка стоят, на скорлупку глядя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ри яичка  в гнезде у наседки лежа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 поскорей: сколько будет цыплят у наседки мо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0000" y="3789360"/>
            <a:ext cx="3178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емь гусей пустились в пу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решили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их под облак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считайте, дети, 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924360" y="1159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162108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и"/>
          <p:cNvPicPr/>
          <p:nvPr/>
        </p:nvPicPr>
        <p:blipFill>
          <a:blip r:embed="rId4"/>
          <a:stretch/>
        </p:blipFill>
        <p:spPr>
          <a:xfrm>
            <a:off x="1763640" y="3500280"/>
            <a:ext cx="3092400" cy="309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332000" y="1700280"/>
            <a:ext cx="33573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 flipH="1">
            <a:off x="2916360" y="1700280"/>
            <a:ext cx="30456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4"/>
          <p:cNvSpPr/>
          <p:nvPr/>
        </p:nvSpPr>
        <p:spPr>
          <a:xfrm rot="6838800">
            <a:off x="3537000" y="1007280"/>
            <a:ext cx="988920" cy="1368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 5"/>
          <p:cNvSpPr/>
          <p:nvPr/>
        </p:nvSpPr>
        <p:spPr>
          <a:xfrm rot="615600">
            <a:off x="2339640" y="3068640"/>
            <a:ext cx="2338200" cy="33400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3132000" y="162864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 rot="7451400">
            <a:off x="2282760" y="389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8120" y="11592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932360" y="1628640"/>
            <a:ext cx="421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– фокусник – пятёр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 за ней следите зор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Кувыркнётся – раз и два!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бернётся цифрой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23312E-007 L -0.03334 0.22202 E">
                                      <p:cBhvr>
                                        <p:cTn id="15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4 0.22202 C -0.02483 0.21624 -0.01615 0.21069 -0.00799 0.20699 C 0.00017 0.20329 0.00642 0.20028 0.01597 0.19959 C 0.02552 0.19889 0.04045 0.2012 0.04982 0.20329 C 0.0592 0.20537 0.06493 0.2086 0.07239 0.21277 C 0.07986 0.21693 0.08715 0.21994 0.09496 0.2278 C 0.10277 0.23566 0.11128 0.24723 0.11892 0.25971 C 0.12656 0.2722 0.13524 0.28307 0.14132 0.30273 C 0.14739 0.32239 0.15277 0.35384 0.15555 0.37789 C 0.15833 0.40194 0.16076 0.42114 0.15833 0.44727 C 0.1559 0.47341 0.15 0.50763 0.14132 0.53539 C 0.13264 0.56314 0.12152 0.59181 0.10625 0.61425 C 0.09097 0.63668 0.06632 0.65911 0.04982 0.67045 C 0.03333 0.68178 0.02187 0.68085 0.00764 0.68178 C -0.0066 0.6827 -0.02275 0.68247 -0.03611 0.67623 C -0.04948 0.66998 -0.06268 0.65611 -0.07275 0.64431 C -0.08282 0.63252 -0.08941 0.6191 -0.09671 0.60477 C -0.104 0.59043 -0.11302 0.56568 -0.11632 0.55782 E">
                                      <p:cBhvr>
                                        <p:cTn id="15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1.10083E-006 C 0.00226 0.00647 0.00469 0.01318 0.01268 0.02058 C 0.02066 0.02798 0.03299 0.03978 0.04792 0.04486 C 0.06285 0.04995 0.08681 0.05435 0.10278 0.05065 C 0.11875 0.04695 0.13299 0.03307 0.14375 0.02243 C 0.15452 0.01179 0.16372 -0.00717 0.16771 -0.01318 E">
                                      <p:cBhvr>
                                        <p:cTn id="162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6360" y="11556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Я нашёл в дупле у белки пять лесных орешков мелких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т ещё один лежит, мхом заботливо укры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у и белка! Вот хозяйка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се орешки посчит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4076280"/>
            <a:ext cx="353844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ружно муравьи живут и без дела не    снуют. Два несут травинку, 2 несут былинку, два несут иголки.                      Сколько муравьев под ел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3976560" cy="31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rcRect l="3789" t="5052" r="5500" b="14286"/>
          <a:stretch/>
        </p:blipFill>
        <p:spPr>
          <a:xfrm>
            <a:off x="5076720" y="3645000"/>
            <a:ext cx="381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692360" y="1143000"/>
            <a:ext cx="371772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3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4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5724360" y="119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шесть – дверной зам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верху крюк, внизу круж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7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 небе радуга-дуга замыкает берег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асцветая всё ясней, чудо-краски светят в ней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сть ответит тот, кто знает или сможет сосчитать, сколько красок в ней играет, озаряя моря глад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4248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835280" y="1143000"/>
            <a:ext cx="35748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6"/>
          <p:cNvSpPr/>
          <p:nvPr/>
        </p:nvSpPr>
        <p:spPr>
          <a:xfrm>
            <a:off x="3065760" y="18900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5580000" y="112536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семёрка – коч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неё одна н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184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18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одним большим столом сели рядом с гномом гном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Белоснежка с ними вместе стол накрыла честь по чест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неё во всём порядок!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колько ложек над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4248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340000" y="1066680"/>
            <a:ext cx="30700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3"/>
          <p:cNvSpPr/>
          <p:nvPr/>
        </p:nvSpPr>
        <p:spPr>
          <a:xfrm flipH="1" flipV="1" rot="1133400">
            <a:off x="3757680" y="1068120"/>
            <a:ext cx="1600200" cy="21351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4038480" y="304776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5"/>
          <p:cNvSpPr/>
          <p:nvPr/>
        </p:nvSpPr>
        <p:spPr>
          <a:xfrm flipH="1" rot="1208400">
            <a:off x="2774160" y="3099960"/>
            <a:ext cx="2133720" cy="26640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388620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 rot="7451400">
            <a:off x="3101400" y="1742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3498840" y="26028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5724360" y="105264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У восьмёрки два кольца без начала и ко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93" dur="5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3192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 дороге мальчик и девочка  шли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Оба по два рубля наш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а ними ещё трое иду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они денег найду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843360"/>
            <a:ext cx="411480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езло опять Егор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реки сидит не з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карасика в ведёр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И четыре песк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о смотрите – у ведё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явился хитрый ко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рыб домой Ег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уху нам принесё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3319560" cy="30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78800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11280" y="188640"/>
            <a:ext cx="309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то подарил нам сосновый бор?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емь маслят и один мухомор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всего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19280" y="3500280"/>
            <a:ext cx="346716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идят рыбаки, стерегут попл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Корней поймал трёх оку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Рыбак Евсей – четырёх кара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А рыбак Михаил двух сомов изло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колько рыб рыбаки поймали из р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3601800" cy="253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7236000" y="620640"/>
            <a:ext cx="1618920" cy="15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763640" y="3048120"/>
            <a:ext cx="325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28800" y="1143000"/>
            <a:ext cx="3581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 flipV="1" rot="6330600">
            <a:off x="2797560" y="1665360"/>
            <a:ext cx="3010320" cy="20559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4038120" y="327672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rc 5"/>
          <p:cNvSpPr/>
          <p:nvPr/>
        </p:nvSpPr>
        <p:spPr>
          <a:xfrm rot="6861000">
            <a:off x="2546280" y="4464000"/>
            <a:ext cx="1460520" cy="13716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5257800" y="2209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 rot="7451400">
            <a:off x="4473000" y="101268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138480" y="28116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5580000" y="1052640"/>
            <a:ext cx="32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ка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е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Перевёрнутая ш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 -0.00971 C 0.00573 -0.03561 0.00312 -0.06128 -0.00695 -0.08279 C -0.01702 -0.1043 -0.03473 -0.12928 -0.05209 -0.13922 C -0.06945 -0.14916 -0.09202 -0.15032 -0.11129 -0.14292 C -0.13056 -0.13552 -0.14948 -0.12002 -0.16754 -0.09412 C -0.18559 -0.06822 -0.2099 -0.01711 -0.21962 0.01272 C -0.22934 0.04256 -0.22448 0.06453 -0.22535 0.08418 C -0.22622 0.10338 -0.22674 0.11471 -0.22535 0.13044 C -0.22396 0.14686 -0.22101 0.16397 -0.21684 0.18155 C -0.21268 0.19912 -0.2099 0.22017 -0.2 0.23613 C -0.19011 0.25208 -0.17431 0.27082 -0.15764 0.27729 C -0.14098 0.28377 -0.11667 0.28192 -0.1 0.27544 C -0.08334 0.26897 -0.07032 0.25463 -0.05764 0.23798 C -0.04497 0.22133 -0.03351 0.19912 -0.02396 0.176 C -0.01441 0.15264 -0.00539 0.12558 3.33333E-006 0.09875 C 0.00538 0.07216 0.00659 0.03076 0.0085 0.01457 C 0.01041 -0.00162 0.01146 -0.00624 0.01128 0.00162 C 0.01111 0.00948 0.01163 0.03631 0.00711 0.06152 C 0.0026 0.08673 -0.00625 0.12651 -0.01545 0.15356 C -0.02466 0.18039 -0.03264 0.18918 -0.04792 0.22294 C -0.0632 0.25648 -0.08959 0.31776 -0.10695 0.3543 C -0.12431 0.39038 -0.14011 0.4216 -0.15209 0.44219 C -0.16407 0.463 -0.16563 0.46624 -0.17882 0.47965 C -0.19202 0.4933 -0.21667 0.51689 -0.23091 0.52313 C -0.24514 0.52868 -0.25539 0.52105 -0.26476 0.51527 C -0.27414 0.50972 -0.28143 0.50232 -0.28733 0.4889 C -0.29323 0.47595 -0.29792 0.44658 -0.3 0.43455 C -0.30209 0.42299 -0.3 0.42068 -0.3 0.41813 E">
                                      <p:cBhvr>
                                        <p:cTn id="221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блон презентации Александровой З.В., учителя  физики и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20080" y="4046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26317lvschooll7.edusite.ru/p6aa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812160" y="1295280"/>
            <a:ext cx="44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poxa.ucoz.com/forum/43-776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ёж с ябл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826920" y="1700280"/>
            <a:ext cx="70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nagold.ru/fon/clipart/g/grib2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ё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22240" y="1484280"/>
            <a:ext cx="49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lenagold.ru/fon/clipart/k/kar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каранда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828000" y="19162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erzski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?p=20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813240" y="2157480"/>
            <a:ext cx="49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rodmam.ru/user/blog/post/432405/page/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етух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06400" y="2421000"/>
            <a:ext cx="512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pple4.blog.tut.by/2010/05/03/kotyataanimaciya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о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37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ages.yandex.ru/yandsearch?ed=1&amp;rpt=simage&amp;text=3%20%D1%86%D1%8B%D0%BF%D0%BB%D1%91%D0%BD%D0%BA%D0%B0&amp;img_url=s56.radikal.ru%2Fi154%2F0904%2F0b%2F797649ce0634.jpg&amp;spsite=fake-004-7856796.ru&amp;p=2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цып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6920" y="3284640"/>
            <a:ext cx="56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ugur-really.livejournal.com/ - гнездо с яй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826920" y="350028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azumniki.ru/showthread.php?p=15375 - гу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810720" y="3767040"/>
            <a:ext cx="44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childrensbook.narod.ru/photoalbum.html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10720" y="3933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kvadra.su/2010/02/04/saga-o-muravy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803160" y="4221000"/>
            <a:ext cx="54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t.free-lance.ru/projects/upload/f_4af066f812fb2.jpg - рад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826920" y="4487760"/>
            <a:ext cx="51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evochkiclab.my1.ru/ - Белоснежка и семь гно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826920" y="4775040"/>
            <a:ext cx="40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reenmama.ua/nid/270092/ -масл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826920" y="5013360"/>
            <a:ext cx="480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rc-mir.com/topic1924604_350.html - мухом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808200" y="5229360"/>
            <a:ext cx="55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mg.sunhome.ru/UsersGallery/Cards/183/3114313.jpg - рыб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826920" y="5516640"/>
            <a:ext cx="792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ы № 3,5,7,9,11,13,15,17,19,21 частично мной использованы из презентации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Шевцовой С.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сайта -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viki.rdf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826920" y="692280"/>
            <a:ext cx="59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algaishkolatrhree.okis.ru/roditilyam.html - мальчик и дев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900000" y="5950080"/>
            <a:ext cx="726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to.tut.by/search_result.php?query=%E6%E8%E2%EE%F2%ED%FB%E9&amp;page=1 – кот на рыба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826920" y="6381720"/>
            <a:ext cx="832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forum.fotowedding.ru/viewtopic.php?p=170659&amp;sid=101dbf2b6e66589a60f9f4a9ce010a1f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й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5680" y="1103400"/>
            <a:ext cx="58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materinstvo.ru/index.php?showtopic=83152&amp;st=300 - бе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057400" y="1143000"/>
            <a:ext cx="33526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 rot="901200">
            <a:off x="2796840" y="1133280"/>
            <a:ext cx="2460600" cy="4721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7451400">
            <a:off x="4083120" y="82080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651640" y="1125360"/>
            <a:ext cx="29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Цифра вроде буквы 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Это ноль иль нич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1484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229 C 0.04514 -0.00556 0.04097 -0.02614 0.03316 -0.05205 C 0.02535 -0.07796 0.01389 -0.1159 0.00069 -0.13278 C -0.0125 -0.14967 -0.02622 -0.15406 -0.04566 -0.15337 C -0.0651 -0.15268 -0.0934 -0.14897 -0.11615 -0.12908 C -0.13889 -0.10919 -0.16146 -0.08559 -0.18229 -0.03331 C -0.20313 0.01896 -0.23177 0.1189 -0.24149 0.18436 C -0.25122 0.24982 -0.24601 0.30788 -0.2401 0.35877 C -0.2342 0.40967 -0.22083 0.46241 -0.20625 0.49017 C -0.19167 0.51769 -0.17222 0.52671 -0.15278 0.52556 C -0.13333 0.52463 -0.11424 0.51214 -0.08941 0.48276 C -0.06458 0.45339 -0.02431 0.39394 -0.00347 0.34952 C 0.01736 0.30511 0.02778 0.25468 0.03594 0.21628 C 0.0441 0.17788 0.04444 0.15059 0.04583 0.11866 C 0.04722 0.08674 0.04931 0.05135 0.04722 0.0229 Z">
                                      <p:cBhvr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2483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домика утром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Два зайца сидели и дружно весёлую песенку пели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дин убежал, а второй вслед глядит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у домика зайцев сиди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245268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252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1143000"/>
            <a:ext cx="388620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1800" y="1142640"/>
            <a:ext cx="243828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2895120" y="1143000"/>
            <a:ext cx="2514600" cy="4724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2819520" y="571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5334120" y="10666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 rot="7451400">
            <a:off x="2187000" y="20030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5796000" y="1125360"/>
            <a:ext cx="305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от один , иль един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Очень тонкая, как сп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3426120" y="136440"/>
            <a:ext cx="40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53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5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76360" y="4581360"/>
            <a:ext cx="3816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Гриш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арандаш один у Ми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же карандашей 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боих малыш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381400" cy="260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11280" y="-36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ри яблока из сада 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Ёжик притащ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амое румяное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елке подарил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 радостью подарок получила белка.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осчитайте яблоки</a:t>
            </a:r>
            <a:br>
              <a:rPr sz="1800"/>
            </a:b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У ежа в тарелк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09840" cy="375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2209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403280" y="1197000"/>
            <a:ext cx="4033800" cy="4869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3"/>
          <p:cNvSpPr/>
          <p:nvPr/>
        </p:nvSpPr>
        <p:spPr>
          <a:xfrm rot="901200">
            <a:off x="3203280" y="1267920"/>
            <a:ext cx="2324160" cy="1433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Oval 10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835280" y="333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867280" y="112536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Два похожа на гус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 длинной ше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Шеей то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81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71280" y="3500280"/>
            <a:ext cx="360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летень взлетел пет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овстречал ещё там дв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олько стало петух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кого ответ гот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355640" y="333000"/>
            <a:ext cx="418644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 полянку у дубка ёж увидел два грибка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А подальше, у осин,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Он нашёл ещё один.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Кто ответить нам готов, Сколько ёж нашёл гриб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2664000" cy="24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1669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268360" y="1773360"/>
            <a:ext cx="306576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3"/>
          <p:cNvSpPr/>
          <p:nvPr/>
        </p:nvSpPr>
        <p:spPr>
          <a:xfrm flipH="1" rot="876600">
            <a:off x="3202560" y="1773000"/>
            <a:ext cx="2055600" cy="20923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rc 4"/>
          <p:cNvSpPr/>
          <p:nvPr/>
        </p:nvSpPr>
        <p:spPr>
          <a:xfrm>
            <a:off x="2843280" y="3860640"/>
            <a:ext cx="2438280" cy="259092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203640" y="22050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 rot="7451400">
            <a:off x="2355840" y="965160"/>
            <a:ext cx="38736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Oval 10"/>
          <p:cNvSpPr/>
          <p:nvPr/>
        </p:nvSpPr>
        <p:spPr>
          <a:xfrm>
            <a:off x="3924360" y="378936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44000" y="2602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чимся писать циф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5867280" y="1773360"/>
            <a:ext cx="29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А вот это – посмот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Выступает цифра т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Тройка – третий из значков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</a:rPr>
              <a:t>Состоит из двух крюч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0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4:55:37Z</dcterms:created>
  <dc:creator>User</dc:creator>
  <dc:description/>
  <dc:language>en-US</dc:language>
  <cp:lastModifiedBy>home</cp:lastModifiedBy>
  <dcterms:modified xsi:type="dcterms:W3CDTF">2012-11-25T06:46:09Z</dcterms:modified>
  <cp:revision>9</cp:revision>
  <dc:subject/>
  <dc:title>Занимательная математика для детей (устный счёт)</dc:title>
</cp:coreProperties>
</file>