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6EC-89F5-420B-9316-406A1E3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F08-8A11-4323-B61C-7E41E62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B23-0597-423B-9BA8-AC067CC4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33E-120E-4BBA-ADAD-89E9AFFE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CF65-E7A9-4A18-8E0D-D628199A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BC1-4A7B-4A28-BD3E-8CC63DB9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7C3-0A56-44AB-81B5-71A68A48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3EF3-5425-4E18-8C35-AEC3F583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7016-BD5D-4081-97DE-71B94ABF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CD0B-1323-4A37-8F29-E358A392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7216-47A1-448E-A887-70A95E1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8F5-FC7B-4676-836D-1C0A7972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EDF-68AE-435B-B001-2F528EA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8144-9CF5-4CB3-B3DE-BDFDDC2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79E5-D5A5-4261-ACC7-3C28B76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1EF0-71BF-4193-A900-49D7AB0C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D15-CA5F-4385-8A6F-565DE9D9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70DD-D0F7-4A58-8A8D-A97AB513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AFB8-2225-4200-8A6C-DA038A6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F4D4-C42F-4E00-AC2A-776659B4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46A6-69FE-495F-B78C-DF51D9EE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229C-C07F-4205-A485-AFF5DEF0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79F-627A-4E99-AECB-6F09520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752E-F3E4-4EA1-93A5-76D0E21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A4AA-2D25-4892-AE27-13A20AF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7B37-873E-4910-9776-135C91F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2235-D18E-4A33-9673-16D3AD9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10ED-10D4-438E-9127-8FE2579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E39E-6B4E-4DB0-8CD1-492DC17A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0363-3B4D-46F7-9349-5AAF3547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F23F-9F49-4441-9E48-5F43AAE5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CE5E-105A-4B9D-87ED-BC4FFDF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6601B-7C8D-4A0C-B5EC-31276F5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5A0-EAC3-4D94-91EA-1904059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2DC6-A08A-4A5A-8B8A-545A6CF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9F53-92C6-4B86-86E4-055FF62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D216-D818-4BCD-B84A-05314A22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4BF12-BAA6-49FF-90E9-82958B53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4671-F8AE-427D-9A59-4E80C5D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7FE2-0EF6-42E6-B384-69C7ADD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AD38-67BD-4AA0-A753-FBD0A9A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47AE-3C7B-44DB-9648-DCF86EB2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5A87-BEA9-496B-8C3B-9E77CC54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39E-5957-443B-913F-9C9EAF68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002-CC47-40A4-A398-BD67F259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FDC-C649-459C-9680-C3A89FF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B4D-2E6E-49D5-A957-409093C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B16-D0A7-410E-AB34-27A0B5C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65E-8300-465F-87A8-4EB819825FC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D166-8E26-408D-BEC3-AB4CB55BE6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5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6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9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A810-B599-4F9D-946E-929F5A1654F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0C1F-8014-439D-90E8-347E2ACF64F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Courier New"/>
              </a:rPr>
              <a:t>Свободное падение те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Monotype Corsiva"/>
              </a:rPr>
              <a:t>9 класс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времени падал бы груз с высоты Останкинской телебашни (540 м)? Какова бы была его скорость в момент паде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оговое обобщ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движение называют свободным падение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свободное падение равноускоренным движение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ми формулами описывается свободное падение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инаково ли ускорение свободного падения в различных точках земного шар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13,  упр.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ОПРЕДЕЛ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вободным падением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тел называют падение тел на Землю под действием силы тяжести в отсутствие сопротивления воздуха (в пустоте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корение, с которым падают на Землю тела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скорением свободного пад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ектор ускорения свободного падения обозначается символом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он направлен по вертикали вниз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6589800" y="43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99"/>
                </a:solidFill>
                <a:latin typeface="Tahoma"/>
                <a:ea typeface="Arial"/>
              </a:rPr>
              <a:t>Ускорение свободного падения на различных широтах: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азличных точках земного шара в зависимости от географической широты и высоты над уровнем моря числов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азывается неодинаковым, изменяясь примерно от 9,83 м/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полюсах до 9,78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экваторе. На широте Москв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= 9,81523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бычно, если в расчетах не требуется высокая точность, то принимают числов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 поверхности Земли равным 9,8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ли даже 10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логия между формулами равноускоренного движения и свободным падение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16192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2268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3059280" y="2133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558000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80400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16192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26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3059280" y="2637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>
            <a:off x="558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622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702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Движение тела вертикально</a:t>
            </a:r>
            <a:br>
              <a:rPr sz="4400"/>
            </a:b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вниз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1004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36720" y="201564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одим к проекциям на ос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начальная скорость те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, то υ =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22"/>
          <p:cNvSpPr/>
          <p:nvPr/>
        </p:nvSpPr>
        <p:spPr>
          <a:xfrm>
            <a:off x="1258920" y="278136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3"/>
          <p:cNvSpPr/>
          <p:nvPr/>
        </p:nvSpPr>
        <p:spPr>
          <a:xfrm>
            <a:off x="1835280" y="3189240"/>
            <a:ext cx="455400" cy="455760"/>
          </a:xfrm>
          <a:prstGeom prst="flowChartConnector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2050920" y="3645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2700360" y="3500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219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270036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8"/>
          <p:cNvSpPr/>
          <p:nvPr/>
        </p:nvSpPr>
        <p:spPr>
          <a:xfrm>
            <a:off x="5003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5364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0"/>
          <p:cNvSpPr/>
          <p:nvPr/>
        </p:nvSpPr>
        <p:spPr>
          <a:xfrm>
            <a:off x="586728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1"/>
          <p:cNvSpPr/>
          <p:nvPr/>
        </p:nvSpPr>
        <p:spPr>
          <a:xfrm>
            <a:off x="500364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>
            <a:off x="5435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4"/>
          <p:cNvSpPr/>
          <p:nvPr/>
        </p:nvSpPr>
        <p:spPr>
          <a:xfrm>
            <a:off x="601200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Движение тела вертикально</a:t>
            </a:r>
            <a:br>
              <a:rPr sz="4400"/>
            </a:b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вверх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ходим к проекциям на о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υ = - υ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начальная скорость те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0, то υ = 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7164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1476360" y="263700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668600" y="3500280"/>
            <a:ext cx="455400" cy="455760"/>
          </a:xfrm>
          <a:prstGeom prst="flowChartConnector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1908000" y="2924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2771640" y="2781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05092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291636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550872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601200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"/>
          <p:cNvSpPr/>
          <p:nvPr/>
        </p:nvSpPr>
        <p:spPr>
          <a:xfrm>
            <a:off x="6588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558000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608472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6804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свободном падении первое тело находилось в полете в два раза больше времени, чем второе. Сравнить конечные скорости те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их перемещ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ло брошено вертикально вверх с начальной скоростью 30 м/с. Через какой промежуток времени оно будет на высоте 25 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0:50:01Z</dcterms:created>
  <dc:creator>home</dc:creator>
  <dc:description/>
  <dc:language>en-US</dc:language>
  <cp:lastModifiedBy>Owner</cp:lastModifiedBy>
  <dcterms:modified xsi:type="dcterms:W3CDTF">2012-08-17T13:37:00Z</dcterms:modified>
  <cp:revision>8</cp:revision>
  <dc:subject/>
  <dc:title>Слайд 1</dc:title>
</cp:coreProperties>
</file>