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gif" ContentType="image/gif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2BE-7A34-4C7F-AFFE-57A2080E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E4D-5413-4ABB-A6C1-A7ED82F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0A9-6A00-4FAC-9C5B-C9B9C88A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EBF-B6BE-43E1-8B24-84EA0DE8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365-B7AA-467A-8DAF-F0265ED2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C44-5A27-4EF8-B57D-AE250AE6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F1B-DA14-4A3B-B220-71C310D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E7E-EF45-4158-ADD3-04046437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7A1-19E2-4639-8451-FF4C8D2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87D-8CA5-439C-954D-6411036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74C-D60D-4330-BECE-265BA93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188-EEA1-47D8-9DB2-1E80178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61F-8F81-44FE-8A8F-DA584E792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15.IP" TargetMode="Externa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1.IP" TargetMode="External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4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6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510516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Движ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047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по окруж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3381480"/>
          <a:ext cx="458172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381480"/>
                    <a:ext cx="45817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вижение по окружности – это движение с ускор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3526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направлено по радиусу к центру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0" y="2205000"/>
          <a:ext cx="4572000" cy="26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205000"/>
                    <a:ext cx="457200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4952880"/>
            <a:ext cx="41148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при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43200" y="5181480"/>
          <a:ext cx="16765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5181480"/>
                    <a:ext cx="1676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ангенциальное уск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11640" y="2209680"/>
          <a:ext cx="468144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2209680"/>
                    <a:ext cx="4681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114800" y="5105520"/>
            <a:ext cx="48006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 тела при неравномерном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неравномерном движении те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3048120"/>
          <a:ext cx="19051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48120"/>
                    <a:ext cx="1905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0384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нгенциальное ускорение те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029200"/>
          <a:ext cx="25146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5029200"/>
                    <a:ext cx="2514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оордин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плоскости движение можно описать с помощью ко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886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57600"/>
            <a:ext cx="41911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величины будут периодически изменяться во времени по гармоническому закону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иодо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067280" y="2057400"/>
          <a:ext cx="48006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057400"/>
                    <a:ext cx="480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48320" y="5257800"/>
            <a:ext cx="426708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зложение вектора скорости по координатным ос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0" y="5410080"/>
          <a:ext cx="220968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10080"/>
                    <a:ext cx="22096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словие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438280"/>
            <a:ext cx="4648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вижения тела по окружности необходимо, чтобы на это тело действовала сила, направленная к центру окружности и равна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</a:t>
            </a:r>
            <a:r>
              <a:rPr b="0" lang="en-US" sz="28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2514600" cy="251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590920"/>
            <a:ext cx="45720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4114800"/>
            <a:ext cx="3808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ращение шара в вертикальной плос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114800"/>
            <a:ext cx="2438640" cy="2438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вызывается равнодействующей сил упругости и тяже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42900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иж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 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006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ерх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6019920"/>
            <a:ext cx="53316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238880" y="525744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60020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Мо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828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остояние испыты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дитель автомобиля 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и по выпуклому мост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22860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тчик выводящий самолет из пикирования в нижней части траектор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8080" y="3657600"/>
            <a:ext cx="259092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209680" y="327672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447920" y="4191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657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9528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648320"/>
            <a:ext cx="3124080" cy="1295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91120"/>
            <a:ext cx="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8784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-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&lt;mg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частичной     невесом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410080" y="3733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2666880"/>
            <a:ext cx="2781360" cy="2311560"/>
          </a:xfrm>
          <a:custGeom>
            <a:avLst/>
            <a:gdLst/>
            <a:ahLst/>
            <a:rect l="l" t="t" r="r" b="b"/>
            <a:pathLst>
              <a:path w="1752" h="1456">
                <a:moveTo>
                  <a:pt x="0" y="328"/>
                </a:moveTo>
                <a:cubicBezTo>
                  <a:pt x="272" y="892"/>
                  <a:pt x="544" y="1456"/>
                  <a:pt x="816" y="1432"/>
                </a:cubicBezTo>
                <a:cubicBezTo>
                  <a:pt x="1088" y="1408"/>
                  <a:pt x="1512" y="368"/>
                  <a:pt x="1632" y="184"/>
                </a:cubicBezTo>
                <a:cubicBezTo>
                  <a:pt x="1752" y="0"/>
                  <a:pt x="1544" y="312"/>
                  <a:pt x="1536" y="328"/>
                </a:cubicBezTo>
                <a:cubicBezTo>
                  <a:pt x="1528" y="344"/>
                  <a:pt x="1568" y="288"/>
                  <a:pt x="1584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449568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77120" y="36576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4956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4419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5880" y="35053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505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93568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+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, P&gt;m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перегруз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25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425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825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на поворотах дороги вызывает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1616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водитель автомобиля разворачивает рулем передние коле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971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портсмен наклоняет корпус в сторону центра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5181480"/>
            <a:ext cx="2667240" cy="685800"/>
          </a:xfrm>
          <a:custGeom>
            <a:avLst/>
            <a:gdLst/>
            <a:ahLst/>
            <a:rect l="l" t="t" r="r" b="b"/>
            <a:pathLst>
              <a:path w="1680" h="672">
                <a:moveTo>
                  <a:pt x="0" y="672"/>
                </a:moveTo>
                <a:cubicBezTo>
                  <a:pt x="148" y="464"/>
                  <a:pt x="296" y="256"/>
                  <a:pt x="576" y="144"/>
                </a:cubicBezTo>
                <a:cubicBezTo>
                  <a:pt x="856" y="32"/>
                  <a:pt x="1268" y="16"/>
                  <a:pt x="1680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562720"/>
            <a:ext cx="2438640" cy="723960"/>
          </a:xfrm>
          <a:custGeom>
            <a:avLst/>
            <a:gdLst/>
            <a:ahLst/>
            <a:rect l="l" t="t" r="r" b="b"/>
            <a:pathLst>
              <a:path w="1536" h="456">
                <a:moveTo>
                  <a:pt x="0" y="456"/>
                </a:moveTo>
                <a:cubicBezTo>
                  <a:pt x="232" y="300"/>
                  <a:pt x="464" y="144"/>
                  <a:pt x="720" y="72"/>
                </a:cubicBezTo>
                <a:cubicBezTo>
                  <a:pt x="976" y="0"/>
                  <a:pt x="1400" y="32"/>
                  <a:pt x="1536" y="2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800600"/>
            <a:ext cx="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715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6095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86400" y="5181480"/>
            <a:ext cx="2666880" cy="1155960"/>
          </a:xfrm>
          <a:custGeom>
            <a:avLst/>
            <a:gdLst/>
            <a:ahLst/>
            <a:rect l="l" t="t" r="r" b="b"/>
            <a:pathLst>
              <a:path w="1680" h="728">
                <a:moveTo>
                  <a:pt x="0" y="104"/>
                </a:moveTo>
                <a:cubicBezTo>
                  <a:pt x="340" y="52"/>
                  <a:pt x="680" y="0"/>
                  <a:pt x="960" y="104"/>
                </a:cubicBezTo>
                <a:cubicBezTo>
                  <a:pt x="1240" y="208"/>
                  <a:pt x="1560" y="624"/>
                  <a:pt x="1680" y="728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520" y="54100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095520" y="57913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5715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usic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638680"/>
            <a:ext cx="2514600" cy="862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=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=m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=v²/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25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425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125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25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9810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повороте равнодействующая всех сил должна быть направлена к центру повор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481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на скоростных трассах делают наклон доро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9718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 самолета на хвостовом оперении есть руль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229392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28800" y="51814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142640" y="4190760"/>
            <a:ext cx="68580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66320" y="518148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142640" y="5181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33520" y="57913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867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10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80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2984760" cy="198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10080" y="480060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648320" y="3962520"/>
            <a:ext cx="76176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647960" y="48765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7960" y="4724280"/>
            <a:ext cx="6858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638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943600"/>
            <a:ext cx="1905120" cy="520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25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325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25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25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 в гравитацион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5791320"/>
            <a:ext cx="259056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8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 гравитационного притяжения сообщает и небесным телам центростремительное ускор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3200400"/>
          <a:ext cx="502920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50292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638680" y="2895480"/>
            <a:ext cx="32004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аект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-кругов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,3 –эллиптические;   4-параболическ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-гиперболическая; 6- траектория Лу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5943600"/>
            <a:ext cx="1828800" cy="4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Мод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5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85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35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484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вую космическую скорость для планет Солнечной системы, если известен их радиус и ускорение свободного па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2565360"/>
          <a:ext cx="7486560" cy="41400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871640"/>
                <a:gridCol w="187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97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9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0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5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925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ить основные характеристики движ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глов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смотреть всевозможные случаи применения движения по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ращение те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на поворот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план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заряженных част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493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3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9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9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8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9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815364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ервый закон Кепле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бита каждой планеты есть эллипс, в одном из фокус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которого находится Солнце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114800" y="3657600"/>
          <a:ext cx="4572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920" y="3962520"/>
            <a:ext cx="3504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,F</a:t>
            </a:r>
            <a:r>
              <a:rPr b="1" lang="en-US" sz="2000" spc="-1" strike="noStrike">
                <a:solidFill>
                  <a:srgbClr val="000000"/>
                </a:solidFill>
                <a:latin typeface="PanRoman"/>
                <a:ea typeface="PanRoman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фоку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– большая полуо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-перигел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-афе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905120"/>
            <a:ext cx="807732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Второй закон Кеплер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диус-вектор планеты в равные промежутки времени описывает равные площ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098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Третий закон Кепле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09480" y="4800600"/>
          <a:ext cx="30481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800600"/>
                    <a:ext cx="304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91120" y="3657600"/>
          <a:ext cx="40384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38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1725480"/>
            <a:ext cx="5257800" cy="289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11680" y="1341360"/>
            <a:ext cx="334980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840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7524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иод обращения планет земной группы,если известно их среднее расстояние от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2743200"/>
          <a:ext cx="7772400" cy="3276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9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09480" y="6172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828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каком расстоянии от Солнца находятся планеты-гиганты, если известен их период обраще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2590920"/>
          <a:ext cx="7772400" cy="3352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4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02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,78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98108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7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25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725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225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в магнит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90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действием силы Лоренца заряженная частица в магнитном поле движется по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48320" y="3124080"/>
          <a:ext cx="3886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124080"/>
                    <a:ext cx="3886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133720" y="3962520"/>
          <a:ext cx="2133360" cy="12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9625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0880" y="327672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 обращения частицы в магнитном по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257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ектор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В 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 взаимно перпендикулярн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vBsin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ружности радиусо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=mv/qB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5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5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5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15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65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Радиационные пояса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00400" y="1905120"/>
          <a:ext cx="55627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0512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28600" y="1981080"/>
            <a:ext cx="266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ток заряженных частиц, влетая в магнитное поле Земли, под действием силы Лоренца начинает двигаться от одного полюса к другому и обрат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715000"/>
            <a:ext cx="8381880" cy="703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диационные пояса – области, в которых находятся частицы задержанные магнитным пол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8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715000" y="2057400"/>
          <a:ext cx="3048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057400"/>
                    <a:ext cx="304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533520" y="2438280"/>
            <a:ext cx="487656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ланетарная модель атома Резерфорд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электроны движутся вокруг ядра атома по эллип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75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875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785440" cy="395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нейн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лов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ота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89000"/>
            <a:ext cx="8064360" cy="100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ahoma"/>
              </a:rPr>
              <a:t>Характеристики движ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8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675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75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45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75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25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Переме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4952880"/>
          <a:ext cx="16002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5288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0640" y="158112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нейно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226692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глово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85680" y="3276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малых угл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воро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3733920"/>
          <a:ext cx="121932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733920"/>
                    <a:ext cx="1219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2438280"/>
          <a:ext cx="57492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438280"/>
                    <a:ext cx="574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133720" y="1523880"/>
          <a:ext cx="685800" cy="76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5238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95640" y="2139840"/>
          <a:ext cx="4608720" cy="293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2139840"/>
                    <a:ext cx="460872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5181480"/>
            <a:ext cx="493236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ое и угловое перемещ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 движении тела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4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189000"/>
            <a:ext cx="7772400" cy="863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5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FOfficeDoc4"/>
          <p:cNvGraphicFramePr/>
          <p:nvPr/>
        </p:nvGraphicFramePr>
        <p:xfrm>
          <a:off x="1042920" y="808200"/>
          <a:ext cx="7561440" cy="60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FOfficeDoc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08200"/>
                    <a:ext cx="7561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0"/>
            <a:ext cx="7993080" cy="79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FOfficeDoc1"/>
          <p:cNvGraphicFramePr/>
          <p:nvPr/>
        </p:nvGraphicFramePr>
        <p:xfrm>
          <a:off x="1187280" y="866880"/>
          <a:ext cx="7488360" cy="599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866880"/>
                    <a:ext cx="74883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FOfficeDoc1"/>
          <p:cNvGraphicFramePr/>
          <p:nvPr/>
        </p:nvGraphicFramePr>
        <p:xfrm>
          <a:off x="826920" y="863640"/>
          <a:ext cx="7991640" cy="59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863640"/>
                    <a:ext cx="799164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95680"/>
            <a:ext cx="5639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2209680"/>
            <a:ext cx="390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SOCP"/>
              </a:rPr>
              <a:t>Линейная скорость</a:t>
            </a:r>
            <a:endParaRPr b="1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SOCP"/>
              <a:ea typeface="ISOCP"/>
            </a:endParaRPr>
          </a:p>
        </p:txBody>
      </p:sp>
      <p:sp>
        <p:nvSpPr>
          <p:cNvPr id="78" name=""/>
          <p:cNvSpPr txBox="1"/>
          <p:nvPr/>
        </p:nvSpPr>
        <p:spPr>
          <a:xfrm rot="21570600">
            <a:off x="5028840" y="2057400"/>
            <a:ext cx="366228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SOCP3"/>
              </a:rPr>
              <a:t>Угловая скорост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SOCP3"/>
              <a:ea typeface="ISOCP3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124080"/>
            <a:ext cx="20574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=s/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276720"/>
            <a:ext cx="29718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/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952880"/>
            <a:ext cx="5334120" cy="15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Модель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Скорость  тела при движении   по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809880"/>
            <a:ext cx="129528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=</a:t>
            </a:r>
            <a:r>
              <a:rPr b="0" lang="en-US" sz="32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12:45Z</dcterms:created>
  <dc:creator>Слушатель</dc:creator>
  <dc:description/>
  <dc:language>en-US</dc:language>
  <cp:lastModifiedBy>1</cp:lastModifiedBy>
  <dcterms:modified xsi:type="dcterms:W3CDTF">2009-03-09T07:40:42Z</dcterms:modified>
  <cp:revision>22</cp:revision>
  <dc:subject/>
  <dc:title>динамика</dc:title>
</cp:coreProperties>
</file>