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gif" ContentType="image/gif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28.gif" ContentType="image/gif"/>
  <Override PartName="/ppt/media/image13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0.wmf" ContentType="image/x-wm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2A4-224A-4902-AE47-9A8D9FFB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C45-2A78-41C6-A82C-BFEF9C1D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35C-80AD-46B3-B7B9-EC268977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041-6020-4FA8-A40E-FA3C83A5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E31-D65E-4D00-8EF6-6214F17F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336-76C8-422D-BA5E-1E928AB3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4E8-1A28-4D90-90C9-204E374B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0BF-BBD6-4D20-B813-331A2E0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CD6-8145-4334-A489-E81B8515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CBD-1D56-4D51-AD5D-FEA64C15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508-E18A-4C0E-B0C7-AF8CCF6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898-A837-456D-9DB1-984731A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1F93-7B62-41CC-ACEC-9CC7D9C50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15.IP" TargetMode="External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1.IP" TargetMode="External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3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4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5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6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510516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Tahoma"/>
              </a:rPr>
              <a:t>Движ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904760"/>
            <a:ext cx="640080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Tahoma"/>
              </a:rPr>
              <a:t>по окруж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38280" y="3381480"/>
          <a:ext cx="4581720" cy="22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3381480"/>
                    <a:ext cx="458172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Ускор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2880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вижение по окружности – это движение с ускор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3526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тела направлено по радиусу к центру окру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0" y="2205000"/>
          <a:ext cx="4572000" cy="26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205000"/>
                    <a:ext cx="457200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72000" y="4952880"/>
            <a:ext cx="4114800" cy="100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тела при движении по окру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43200" y="5181480"/>
          <a:ext cx="16765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5181480"/>
                    <a:ext cx="1676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ангенциальное уск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11640" y="2209680"/>
          <a:ext cx="468144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2209680"/>
                    <a:ext cx="4681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114800" y="5105520"/>
            <a:ext cx="4800600" cy="100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скорение тела при неравномерном движении по окру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05740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неравномерном движении тел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3048120"/>
          <a:ext cx="19051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3048120"/>
                    <a:ext cx="1905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403848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нгенциальное ускорение те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5029200"/>
          <a:ext cx="2514600" cy="13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5029200"/>
                    <a:ext cx="2514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оордин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90512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 плоскости движение можно описать с помощью координа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886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657600"/>
            <a:ext cx="419112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величины будут периодически изменяться во времени по гармоническому закону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иодом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067280" y="2057400"/>
          <a:ext cx="480060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2057400"/>
                    <a:ext cx="480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648320" y="5257800"/>
            <a:ext cx="4267080" cy="703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зложение вектора скорости по координатным ос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0" y="5410080"/>
          <a:ext cx="2209680" cy="12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410080"/>
                    <a:ext cx="22096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Условие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438280"/>
            <a:ext cx="46483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движения тела по окружности необходимо, чтобы на это тело действовала сила, направленная к центру окружности и равна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=m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²/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=m</a:t>
            </a:r>
            <a:r>
              <a:rPr b="0" lang="en-US" sz="28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²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895480"/>
            <a:ext cx="2514600" cy="2514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590920"/>
            <a:ext cx="45720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4114800"/>
            <a:ext cx="38088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800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81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ращение шара в вертикальной плоск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114800"/>
            <a:ext cx="2438640" cy="2438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8108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вызывается равнодействующей сил упругости и тяже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42900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ижней точке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= 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п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m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авлена ввер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8006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верхней точке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=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п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авлена вни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6019920"/>
            <a:ext cx="533160" cy="533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238880" y="525744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4572000"/>
            <a:ext cx="1600200" cy="510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Мод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828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ое состояние испытыв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362320"/>
            <a:ext cx="3962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одитель автомобиля п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и по выпуклому мост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22860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етчик выводящий самолет из пикирования в нижней части траектор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38080" y="3657600"/>
            <a:ext cx="259092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209680" y="3276720"/>
            <a:ext cx="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447920" y="4191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200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657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49528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5334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4648320"/>
            <a:ext cx="3124080" cy="1295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91120"/>
            <a:ext cx="0" cy="990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487840"/>
            <a:ext cx="4038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=N=m(g-v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²/r)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&lt;mg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стояние частичной     невесом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410080" y="3733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05520" y="2666880"/>
            <a:ext cx="2781360" cy="2311560"/>
          </a:xfrm>
          <a:custGeom>
            <a:avLst/>
            <a:gdLst/>
            <a:ahLst/>
            <a:rect l="l" t="t" r="r" b="b"/>
            <a:pathLst>
              <a:path w="1752" h="1456">
                <a:moveTo>
                  <a:pt x="0" y="328"/>
                </a:moveTo>
                <a:cubicBezTo>
                  <a:pt x="272" y="892"/>
                  <a:pt x="544" y="1456"/>
                  <a:pt x="816" y="1432"/>
                </a:cubicBezTo>
                <a:cubicBezTo>
                  <a:pt x="1088" y="1408"/>
                  <a:pt x="1512" y="368"/>
                  <a:pt x="1632" y="184"/>
                </a:cubicBezTo>
                <a:cubicBezTo>
                  <a:pt x="1752" y="0"/>
                  <a:pt x="1544" y="312"/>
                  <a:pt x="1536" y="328"/>
                </a:cubicBezTo>
                <a:cubicBezTo>
                  <a:pt x="1528" y="344"/>
                  <a:pt x="1568" y="288"/>
                  <a:pt x="1584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449568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77120" y="3657600"/>
            <a:ext cx="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429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449568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4419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5880" y="3505320"/>
            <a:ext cx="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505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935680"/>
            <a:ext cx="3657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=N=m(g+v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²/r), P&gt;m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стояние перегруз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25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425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825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тела на поворо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на поворотах дороги вызывает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11616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этого водитель автомобиля разворачивает рулем передние коле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2971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портсмен наклоняет корпус в сторону центра повор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9480" y="5181480"/>
            <a:ext cx="2667240" cy="685800"/>
          </a:xfrm>
          <a:custGeom>
            <a:avLst/>
            <a:gdLst/>
            <a:ahLst/>
            <a:rect l="l" t="t" r="r" b="b"/>
            <a:pathLst>
              <a:path w="1680" h="672">
                <a:moveTo>
                  <a:pt x="0" y="672"/>
                </a:moveTo>
                <a:cubicBezTo>
                  <a:pt x="148" y="464"/>
                  <a:pt x="296" y="256"/>
                  <a:pt x="576" y="144"/>
                </a:cubicBezTo>
                <a:cubicBezTo>
                  <a:pt x="856" y="32"/>
                  <a:pt x="1268" y="16"/>
                  <a:pt x="1680" y="0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562720"/>
            <a:ext cx="2438640" cy="723960"/>
          </a:xfrm>
          <a:custGeom>
            <a:avLst/>
            <a:gdLst/>
            <a:ahLst/>
            <a:rect l="l" t="t" r="r" b="b"/>
            <a:pathLst>
              <a:path w="1536" h="456">
                <a:moveTo>
                  <a:pt x="0" y="456"/>
                </a:moveTo>
                <a:cubicBezTo>
                  <a:pt x="232" y="300"/>
                  <a:pt x="464" y="144"/>
                  <a:pt x="720" y="72"/>
                </a:cubicBezTo>
                <a:cubicBezTo>
                  <a:pt x="976" y="0"/>
                  <a:pt x="1400" y="32"/>
                  <a:pt x="1536" y="24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800600"/>
            <a:ext cx="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5867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5715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6095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86400" y="5181480"/>
            <a:ext cx="2666880" cy="1155960"/>
          </a:xfrm>
          <a:custGeom>
            <a:avLst/>
            <a:gdLst/>
            <a:ahLst/>
            <a:rect l="l" t="t" r="r" b="b"/>
            <a:pathLst>
              <a:path w="1680" h="728">
                <a:moveTo>
                  <a:pt x="0" y="104"/>
                </a:moveTo>
                <a:cubicBezTo>
                  <a:pt x="340" y="52"/>
                  <a:pt x="680" y="0"/>
                  <a:pt x="960" y="104"/>
                </a:cubicBezTo>
                <a:cubicBezTo>
                  <a:pt x="1240" y="208"/>
                  <a:pt x="1560" y="624"/>
                  <a:pt x="1680" y="728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95520" y="54100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095520" y="57913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5715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usic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638680"/>
            <a:ext cx="2514600" cy="862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=</a:t>
            </a:r>
            <a:r>
              <a:rPr b="1" lang="en-US" sz="20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=mv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²/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=v²/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725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425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125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525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тела на поворо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9810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повороте равнодействующая всех сил должна быть направлена к центру повор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0481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этого на скоростных трассах делают наклон доро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9718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 самолета на хвостовом оперении есть руль повор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2293920" cy="1143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28800" y="51814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1142640" y="4190760"/>
            <a:ext cx="685800" cy="990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066320" y="518148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142640" y="51814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33520" y="57913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5867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5943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410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800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2984760" cy="1981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410080" y="480060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648320" y="3962520"/>
            <a:ext cx="761760" cy="761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647960" y="48765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647960" y="4724280"/>
            <a:ext cx="6858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886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638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4648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5943600"/>
            <a:ext cx="1905120" cy="520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=m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²/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25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325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25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725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тел в гравитационном по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5791320"/>
            <a:ext cx="259056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828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ла гравитационного притяжения сообщает и небесным телам центростремительное ускоре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3200400"/>
          <a:ext cx="502920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50292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638680" y="2895480"/>
            <a:ext cx="32004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аект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-кругова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,3 –эллиптические;   4-параболическа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-гиперболическая; 6- траектория Лу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5943600"/>
            <a:ext cx="1828800" cy="44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Моде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55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5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85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935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4842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йти первую космическую скорость для планет Солнечной системы, если известен их радиус и ускорение свободного па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55640" y="2565360"/>
          <a:ext cx="7486560" cy="4140000"/>
        </p:xfrm>
        <a:graphic>
          <a:graphicData uri="http://schemas.openxmlformats.org/drawingml/2006/table">
            <a:tbl>
              <a:tblPr/>
              <a:tblGrid>
                <a:gridCol w="1871640"/>
                <a:gridCol w="1871640"/>
                <a:gridCol w="1871640"/>
                <a:gridCol w="187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кур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4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5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97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пи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8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9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ур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3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0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4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ту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6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3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ут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4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25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925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ить основные характеристики движ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гловая скор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инейная скор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скор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и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смотреть всевозможные случаи применения движения по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ращение те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 на поворот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 план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 заряженных части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549360"/>
            <a:ext cx="640080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Tahoma"/>
              </a:rPr>
              <a:t>Цел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4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3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3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9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9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8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9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план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057400"/>
            <a:ext cx="8153640" cy="1373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ервый закон Кеплер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рбита каждой планеты есть эллипс, в одном из фокусов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которого находится Солнце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114800" y="3657600"/>
          <a:ext cx="457200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65760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920" y="3962520"/>
            <a:ext cx="3504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,F</a:t>
            </a:r>
            <a:r>
              <a:rPr b="1" lang="en-US" sz="2000" spc="-1" strike="noStrike">
                <a:solidFill>
                  <a:srgbClr val="000000"/>
                </a:solidFill>
                <a:latin typeface="PanRoman"/>
                <a:ea typeface="PanRoman"/>
              </a:rPr>
              <a:t>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фокус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 – большая полуос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-перигел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-афел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план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905120"/>
            <a:ext cx="8077320" cy="1373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Второй закон Кеплер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диус-вектор планеты в равные промежутки времени описывает равные площа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80988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Третий закон Кепле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09480" y="4800600"/>
          <a:ext cx="304812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800600"/>
                    <a:ext cx="304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191120" y="3657600"/>
          <a:ext cx="403848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3657600"/>
                    <a:ext cx="40384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50920" y="1725480"/>
            <a:ext cx="5257800" cy="2890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611680" y="1341360"/>
            <a:ext cx="334980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8400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9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7524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йти период обращения планет земной группы,если известно их среднее расстояние от Солн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5800" y="2743200"/>
          <a:ext cx="7772400" cy="32767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кур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9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2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2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ут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52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609480" y="6172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год, 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а.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8288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 каком расстоянии от Солнца находятся планеты-гиганты, если известен их период обраще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2590920"/>
          <a:ext cx="7772400" cy="3352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пи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86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ур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46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02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ту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,78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1981080" y="6095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год, 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а.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75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25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725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225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в магнитном по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190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 действием силы Лоренца заряженная частица в магнитном поле движется по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48320" y="3124080"/>
          <a:ext cx="38862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3124080"/>
                    <a:ext cx="38862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133720" y="3962520"/>
          <a:ext cx="2133360" cy="121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962520"/>
                    <a:ext cx="2133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380880" y="327672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иод обращения частицы в магнитном по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2578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екторы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В 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 взаимно перпендикулярны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vBsin</a:t>
            </a:r>
            <a:r>
              <a:rPr b="1" lang="en-US" sz="20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окружности радиусо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=mv/qB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75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65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55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5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415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665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Радиационные пояса Зем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00400" y="1905120"/>
          <a:ext cx="55627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1905120"/>
                    <a:ext cx="5562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28600" y="1981080"/>
            <a:ext cx="2666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ток заряженных частиц, влетая в магнитное поле Земли, под действием силы Лоренца начинает двигаться от одного полюса к другому и обрат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715000"/>
            <a:ext cx="8381880" cy="7038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диационные пояса – области, в которых находятся частицы задержанные магнитным пол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75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65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8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35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715000" y="2057400"/>
          <a:ext cx="30481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057400"/>
                    <a:ext cx="304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533520" y="2438280"/>
            <a:ext cx="487656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ланетарная модель атома Резерфорд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электроны движутся вокруг ядра атома по эллипс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75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875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2060640"/>
            <a:ext cx="8785440" cy="395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нейная скорость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гловая скорость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а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иод обращения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ота обращения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а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89000"/>
            <a:ext cx="8064360" cy="100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ahoma"/>
              </a:rPr>
              <a:t>Характеристики движ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8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75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675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75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145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75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8025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75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Переме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4952880"/>
          <a:ext cx="16002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95288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80640" y="158112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нейно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520" y="226692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глово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85680" y="3276720"/>
            <a:ext cx="31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малых угл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воро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81080" y="3733920"/>
          <a:ext cx="1219320" cy="76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733920"/>
                    <a:ext cx="12193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752480" y="2438280"/>
          <a:ext cx="574920" cy="6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2438280"/>
                    <a:ext cx="574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133720" y="1523880"/>
          <a:ext cx="685800" cy="76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152388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95640" y="2139840"/>
          <a:ext cx="4608720" cy="2930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2139840"/>
                    <a:ext cx="460872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5181480"/>
            <a:ext cx="4932360" cy="100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инейное и угловое перемещ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и движении тела по окру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9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4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914400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189000"/>
            <a:ext cx="7772400" cy="8636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65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FOfficeDoc4"/>
          <p:cNvGraphicFramePr/>
          <p:nvPr/>
        </p:nvGraphicFramePr>
        <p:xfrm>
          <a:off x="1042920" y="808200"/>
          <a:ext cx="7561440" cy="604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FOfficeDoc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08200"/>
                    <a:ext cx="75614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4360" y="115920"/>
            <a:ext cx="7772400" cy="5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0"/>
            <a:ext cx="7993080" cy="792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FOfficeDoc1"/>
          <p:cNvGraphicFramePr/>
          <p:nvPr/>
        </p:nvGraphicFramePr>
        <p:xfrm>
          <a:off x="1187280" y="866880"/>
          <a:ext cx="7488360" cy="599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866880"/>
                    <a:ext cx="748836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FOfficeDoc1"/>
          <p:cNvGraphicFramePr/>
          <p:nvPr/>
        </p:nvGraphicFramePr>
        <p:xfrm>
          <a:off x="826920" y="863640"/>
          <a:ext cx="7991640" cy="599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863640"/>
                    <a:ext cx="799164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84360" y="115920"/>
            <a:ext cx="7772400" cy="5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495680"/>
            <a:ext cx="563904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2209680"/>
            <a:ext cx="3905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SOCP"/>
              </a:rPr>
              <a:t>Линейная скорость</a:t>
            </a:r>
            <a:endParaRPr b="1" i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SOCP"/>
              <a:ea typeface="ISOCP"/>
            </a:endParaRPr>
          </a:p>
        </p:txBody>
      </p:sp>
      <p:sp>
        <p:nvSpPr>
          <p:cNvPr id="78" name=""/>
          <p:cNvSpPr txBox="1"/>
          <p:nvPr/>
        </p:nvSpPr>
        <p:spPr>
          <a:xfrm rot="21570600">
            <a:off x="5028840" y="2057400"/>
            <a:ext cx="366228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SOCP3"/>
              </a:rPr>
              <a:t>Угловая скорость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SOCP3"/>
              <a:ea typeface="ISOCP3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124080"/>
            <a:ext cx="205740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=s/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276720"/>
            <a:ext cx="297180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/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952880"/>
            <a:ext cx="5334120" cy="15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Модель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Скорость  тела при движении   по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окру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809880"/>
            <a:ext cx="129528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=</a:t>
            </a:r>
            <a:r>
              <a:rPr b="0" lang="en-US" sz="32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4:12:45Z</dcterms:created>
  <dc:creator>Слушатель</dc:creator>
  <dc:description/>
  <dc:language>en-US</dc:language>
  <cp:lastModifiedBy>1</cp:lastModifiedBy>
  <dcterms:modified xsi:type="dcterms:W3CDTF">2009-03-09T07:40:42Z</dcterms:modified>
  <cp:revision>22</cp:revision>
  <dc:subject/>
  <dc:title>динамика</dc:title>
</cp:coreProperties>
</file>