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85A-8573-4F51-A0F8-05562B80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438-EEF3-4E29-B67F-1300C80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B09-00E3-42AF-9A8C-2C73B2AD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214-EB8D-4A74-A499-F646C95F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BBAA-44BE-491C-AA53-04948E63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ADBD-2A10-4202-89C8-F24800BB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68EA-EA62-4EFB-8D2F-029D5B67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C86-4CE2-43D5-AB18-24E8224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A537-57C1-48D6-AF24-FFA19661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F012-5281-46F2-A237-0DA3232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FE7-7216-4910-8B0B-3580707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B6B-2FE4-43A5-B0CF-A285982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7CC8-74BC-4F86-9426-28793A6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405D-F747-4117-9E58-1D2754E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76C5-BEC3-4C2B-A04B-DFD2E47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F22A-9AC7-4B12-B469-EA8A9819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31F3-4DD3-4B4F-9597-F582CF44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F984-B9E0-4D76-ABE8-03006C4E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0984-D557-422D-BB7C-C672A81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CC92-C3FD-4535-90B9-E544E66A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8C7F-B32A-4EA2-A0B6-AC475A6A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8762-500A-4BE5-A581-7B6E545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A8A-E8CA-4B5D-BBF7-AE13F2A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FFE0-D803-4F4C-8975-CF3E5DD6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2C03-6A16-4E1F-B9A6-277245F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EF6A-3D9C-4D1D-8524-C1A9AEE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DCF0-D1F5-4DBA-9C27-7BD272C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DFB9-429C-4124-81B7-C5C9A884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6FAE-EA12-4D84-B439-3B3126ED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F4F1B-26C1-46CE-A663-1C4DAA42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8832-8D8E-45FE-B36D-A4D88A7C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8B11-D253-4199-A36E-DDD96ED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83F1-C043-47CF-8D70-902A293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8F3-4792-4A5B-9FF8-FB3A12E5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6426-F0C3-4006-9D76-D4C4727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D3E3-FCCD-4075-AF75-D84AE04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020E-508A-455B-AEBA-C58D8A68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FEE8-B67B-46A9-8A64-CD6DD0BB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378E-0D31-4331-8550-0C59CDF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00DC-ABCA-493F-8CAE-942F0A8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EADA-CB72-4993-BA37-7707008E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D101-6071-4C2D-A757-80383F85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86FD-30D0-4DAC-98A9-99913E10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9EB-2D51-4BCB-8A51-E49ADCD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97B-F98D-4DCE-9140-47F6B01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474-C4A0-48AD-8E00-2C4A59B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75D-2DFC-49C6-96B5-11A4701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2B7-ECFE-4DC8-B708-CD22949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A71-7D7F-48A1-93A0-4F744C3CF74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4D3-9958-4D7E-83D4-4C7025A87C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5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6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9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159-7410-4046-956C-3CACF2A6C84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ACEA-7058-4912-B67A-D8D088B52B2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Courier New"/>
              </a:rPr>
              <a:t>Свободное падение те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Monotype Corsiva"/>
              </a:rPr>
              <a:t>9 класс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времени падал бы груз с высоты Останкинской телебашни (540 м)? Какова бы была его скорость в момент паде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оговое обобщ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движение называют свободным падение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свободное падение равноускоренным движение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ми формулами описывается свободное падение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инаково ли ускорение свободного падения в различных точках земного шар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13,  упр.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ОПРЕДЕЛ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вободным падением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тел называют падение тел на Землю под действием силы тяжести в отсутствие сопротивления воздуха (в пустоте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корение, с которым падают на Землю тела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скорением свободного пад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ектор ускорения свободного падения обозначается символом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он направлен по вертикали вниз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6589800" y="43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99"/>
                </a:solidFill>
                <a:latin typeface="Tahoma"/>
                <a:ea typeface="Arial"/>
              </a:rPr>
              <a:t>Ускорение свободного падения на различных широтах: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азличных точках земного шара в зависимости от географической широты и высоты над уровнем моря числов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азывается неодинаковым, изменяясь примерно от 9,83 м/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полюсах до 9,78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экваторе. На широте Москв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= 9,81523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бычно, если в расчетах не требуется высокая точность, то принимают числов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 поверхности Земли равным 9,8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ли даже 10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логия между формулами равноускоренного движения и свободным падение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16192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2268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3059280" y="2133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558000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80400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16192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26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3059280" y="2637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>
            <a:off x="558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622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702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Движение тела вертикально</a:t>
            </a:r>
            <a:br>
              <a:rPr sz="4400"/>
            </a:b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вниз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1004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36720" y="201564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одим к проекциям на ос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начальная скорость те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, то υ =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22"/>
          <p:cNvSpPr/>
          <p:nvPr/>
        </p:nvSpPr>
        <p:spPr>
          <a:xfrm>
            <a:off x="1258920" y="278136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3"/>
          <p:cNvSpPr/>
          <p:nvPr/>
        </p:nvSpPr>
        <p:spPr>
          <a:xfrm>
            <a:off x="1835280" y="3189240"/>
            <a:ext cx="455400" cy="455760"/>
          </a:xfrm>
          <a:prstGeom prst="flowChartConnector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2050920" y="3645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2700360" y="3500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219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270036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8"/>
          <p:cNvSpPr/>
          <p:nvPr/>
        </p:nvSpPr>
        <p:spPr>
          <a:xfrm>
            <a:off x="5003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5364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0"/>
          <p:cNvSpPr/>
          <p:nvPr/>
        </p:nvSpPr>
        <p:spPr>
          <a:xfrm>
            <a:off x="586728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1"/>
          <p:cNvSpPr/>
          <p:nvPr/>
        </p:nvSpPr>
        <p:spPr>
          <a:xfrm>
            <a:off x="500364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>
            <a:off x="5435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4"/>
          <p:cNvSpPr/>
          <p:nvPr/>
        </p:nvSpPr>
        <p:spPr>
          <a:xfrm>
            <a:off x="601200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Движение тела вертикально</a:t>
            </a:r>
            <a:br>
              <a:rPr sz="4400"/>
            </a:b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вверх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ходим к проекциям на о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υ = - υ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начальная скорость те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0, то υ = 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7164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1476360" y="263700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668600" y="3500280"/>
            <a:ext cx="455400" cy="455760"/>
          </a:xfrm>
          <a:prstGeom prst="flowChartConnector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1908000" y="2924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2771640" y="2781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05092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291636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550872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601200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"/>
          <p:cNvSpPr/>
          <p:nvPr/>
        </p:nvSpPr>
        <p:spPr>
          <a:xfrm>
            <a:off x="6588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558000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608472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6804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свободном падении первое тело находилось в полете в два раза больше времени, чем второе. Сравнить конечные скорости те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их перемещ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ло брошено вертикально вверх с начальной скоростью 30 м/с. Через какой промежуток времени оно будет на высоте 25 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0:50:01Z</dcterms:created>
  <dc:creator>home</dc:creator>
  <dc:description/>
  <dc:language>en-US</dc:language>
  <cp:lastModifiedBy>Owner</cp:lastModifiedBy>
  <dcterms:modified xsi:type="dcterms:W3CDTF">2012-08-17T13:37:00Z</dcterms:modified>
  <cp:revision>8</cp:revision>
  <dc:subject/>
  <dc:title>Слайд 1</dc:title>
</cp:coreProperties>
</file>