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66EA-781D-4E3B-978D-51E51C94F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272F-57C8-4CE1-8FF4-81A2E0F44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AADB-0AE4-450F-A5DF-6261CC9C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03CC-8754-4E92-885D-3F4200B8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625-7AF3-4B69-95C6-347FD5E9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59F8-5AEF-40F2-997A-ADAD79B1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AAD8-C650-41EB-B60F-1829239C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2D54-EE94-4034-9219-6980BF044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D74-D963-4979-905C-1664E6CF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 направлен не только и не столько на разработку конкретных цифровых ресурсов и учебных материалов, но на создание устойчивого потенциала в области производства высококачественных материалов, о чем сказано в целях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м для этого, на наш взгляд,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процедур педагогического диз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ытание материалов (апроб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CB15-BA33-4D93-8737-79687003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6921-F183-4AA7-84F1-70858ACF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D91-E3F4-4327-89DC-DFE323F9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4779-52FC-4443-87D1-D6524F50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8E37-7F7C-4A4D-B1D0-67A384B0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BE5B-CC50-4404-8465-EA34E8A2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1400-78F0-4C5A-B8E7-01824143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AA62-82DC-4A24-BF11-429E9BFA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8F8A-FAEC-46DA-A642-7E1EB70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E3CB-6469-4746-9656-4BD5C1ED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4509-AC45-48BC-BBE5-D9FED01F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1CD5-B8D7-493C-BCDF-0657AD08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17400" y="301320"/>
            <a:ext cx="73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35F7-3A69-4EFE-85B2-685073ED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B70-FDBF-4507-8BB0-BF801066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F988-BBC9-4DA7-81B7-F7E21CF6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040D-5E2D-4B10-9604-F37BC15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21F8-57ED-4A2D-A8F5-720D58BB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8C02-B83D-4A39-82BB-D198198B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326A-CC53-4C1A-8682-1303B81F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9C67-FCB1-4E61-8CFB-B9088136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6CE2-BD22-48FF-8299-C9D425E6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F0CB-AB1E-4FB4-8C47-086272C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D3F3-18F1-4F64-BD4A-1638B8A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7400" y="301320"/>
            <a:ext cx="73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1099-C3D3-46A9-9E17-D56F51F9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8F97-85FF-4B90-9C7E-4BBFB1E0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0231-FED6-48A8-93F6-DA8886D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9BEC-38E4-438E-BBF6-662C5C24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5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29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A29-7ECA-4939-BAAB-A842F93B1D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6"/>
          <p:cNvSpPr/>
          <p:nvPr/>
        </p:nvSpPr>
        <p:spPr>
          <a:xfrm>
            <a:off x="60480" y="287280"/>
            <a:ext cx="8802360" cy="6048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2f533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43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46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2f5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2324160"/>
            <a:ext cx="582480" cy="633240"/>
          </a:xfrm>
          <a:prstGeom prst="rect">
            <a:avLst/>
          </a:prstGeom>
          <a:solidFill>
            <a:srgbClr val="2f5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573120" y="1066680"/>
            <a:ext cx="2293920" cy="3157560"/>
            <a:chOff x="573120" y="1066680"/>
            <a:chExt cx="2293920" cy="3157560"/>
          </a:xfrm>
        </p:grpSpPr>
        <p:sp>
          <p:nvSpPr>
            <p:cNvPr id="93" name="Rectangle 6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2f5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3" descr="Логотип НФПК"/>
          <p:cNvPicPr/>
          <p:nvPr/>
        </p:nvPicPr>
        <p:blipFill>
          <a:blip r:embed="rId2"/>
          <a:stretch/>
        </p:blipFill>
        <p:spPr>
          <a:xfrm>
            <a:off x="289080" y="268200"/>
            <a:ext cx="1546200" cy="106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CD7B-FE4D-4CD2-8A8E-7EF70D67B9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8120" y="1444320"/>
            <a:ext cx="80280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коны Ньютона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"/>
          <p:cNvPicPr/>
          <p:nvPr/>
        </p:nvPicPr>
        <p:blipFill>
          <a:blip r:embed="rId1"/>
          <a:stretch/>
        </p:blipFill>
        <p:spPr>
          <a:xfrm>
            <a:off x="480960" y="-19080"/>
            <a:ext cx="86630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"/>
          <p:cNvPicPr/>
          <p:nvPr/>
        </p:nvPicPr>
        <p:blipFill>
          <a:blip r:embed="rId1"/>
          <a:stretch/>
        </p:blipFill>
        <p:spPr>
          <a:xfrm>
            <a:off x="547560" y="6480"/>
            <a:ext cx="85964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3"/>
          <p:cNvPicPr/>
          <p:nvPr/>
        </p:nvPicPr>
        <p:blipFill>
          <a:blip r:embed="rId1"/>
          <a:stretch/>
        </p:blipFill>
        <p:spPr>
          <a:xfrm>
            <a:off x="487440" y="-27000"/>
            <a:ext cx="8656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4"/>
          <p:cNvPicPr/>
          <p:nvPr/>
        </p:nvPicPr>
        <p:blipFill>
          <a:blip r:embed="rId1"/>
          <a:stretch/>
        </p:blipFill>
        <p:spPr>
          <a:xfrm>
            <a:off x="527040" y="34920"/>
            <a:ext cx="86169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о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663876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Ускорение тела прямо пропорционально равнодействующей сил, приложенных к телу, и обратно пропорционально его м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Второй закон Ньютона"/>
          <p:cNvPicPr/>
          <p:nvPr/>
        </p:nvPicPr>
        <p:blipFill>
          <a:blip r:embed="rId1"/>
          <a:stretch/>
        </p:blipFill>
        <p:spPr>
          <a:xfrm>
            <a:off x="6743880" y="391176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87" name="Стрелка вправо 3"/>
          <p:cNvSpPr/>
          <p:nvPr/>
        </p:nvSpPr>
        <p:spPr>
          <a:xfrm>
            <a:off x="914400" y="5359320"/>
            <a:ext cx="1384200" cy="889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собенности 2 закона Ньют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66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справедлив для люб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причиной и определяет ускорение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ускорения сонаправлен с вектором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ело действуют несколько сил, берется результиру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зультирующая сила равна нулю, то ускорение равно нулю, т.е. получаем 1 закон Нью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Иллюстрация третьего закона Ньютона учениками на роликовых коньках"/>
          <p:cNvPicPr/>
          <p:nvPr/>
        </p:nvPicPr>
        <p:blipFill>
          <a:blip r:embed="rId1"/>
          <a:stretch/>
        </p:blipFill>
        <p:spPr>
          <a:xfrm>
            <a:off x="1130400" y="914400"/>
            <a:ext cx="73659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Иллюстрация третьего закона Ньютона с помощью магнитов на тележках"/>
          <p:cNvPicPr/>
          <p:nvPr/>
        </p:nvPicPr>
        <p:blipFill>
          <a:blip r:embed="rId1"/>
          <a:stretch/>
        </p:blipFill>
        <p:spPr>
          <a:xfrm>
            <a:off x="1193760" y="922320"/>
            <a:ext cx="72136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Иллюстрация третьего закон Ньютона с помощью двух динамометров"/>
          <p:cNvPicPr/>
          <p:nvPr/>
        </p:nvPicPr>
        <p:blipFill>
          <a:blip r:embed="rId1"/>
          <a:stretch/>
        </p:blipFill>
        <p:spPr>
          <a:xfrm>
            <a:off x="1038240" y="965160"/>
            <a:ext cx="75344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0" y="4000680"/>
            <a:ext cx="560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ую презентацию можно использовать при наличии следующих програм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 Point 200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media Flash Player v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191120" y="5016600"/>
            <a:ext cx="467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урок-презентация используется для учащихся 9 класса (с исключением некоторых слайдов) и 10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03040" y="876240"/>
            <a:ext cx="52326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1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2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3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понятия силы и вес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особенности 2 и 3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ь суть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ть границы примен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7364520" y="1077840"/>
            <a:ext cx="1077840" cy="12207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157" name="Picture 5" descr="Второй закон Ньютона"/>
          <p:cNvPicPr/>
          <p:nvPr/>
        </p:nvPicPr>
        <p:blipFill>
          <a:blip r:embed="rId2"/>
          <a:stretch/>
        </p:blipFill>
        <p:spPr>
          <a:xfrm>
            <a:off x="6134040" y="1638360"/>
            <a:ext cx="1117800" cy="141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8" name="Picture 4" descr="третий закон Ньютона"/>
          <p:cNvPicPr/>
          <p:nvPr/>
        </p:nvPicPr>
        <p:blipFill>
          <a:blip r:embed="rId3"/>
          <a:stretch/>
        </p:blipFill>
        <p:spPr>
          <a:xfrm>
            <a:off x="7304040" y="2833560"/>
            <a:ext cx="1471680" cy="124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лы, возникающие при взаимодействии двух тел, приложены к разным те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трелка вправо 1"/>
          <p:cNvSpPr/>
          <p:nvPr/>
        </p:nvSpPr>
        <p:spPr>
          <a:xfrm>
            <a:off x="812880" y="5867280"/>
            <a:ext cx="1434960" cy="7239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лы, с которыми тела взаимодействуют друг с другом, равны по модулю и направлены вдоль одной прямой в противополож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5"/>
          <p:cNvPicPr/>
          <p:nvPr/>
        </p:nvPicPr>
        <p:blipFill>
          <a:blip r:embed="rId1"/>
          <a:stretch/>
        </p:blipFill>
        <p:spPr>
          <a:xfrm>
            <a:off x="504720" y="17640"/>
            <a:ext cx="86392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6"/>
          <p:cNvPicPr/>
          <p:nvPr/>
        </p:nvPicPr>
        <p:blipFill>
          <a:blip r:embed="rId1"/>
          <a:stretch/>
        </p:blipFill>
        <p:spPr>
          <a:xfrm>
            <a:off x="504720" y="-17640"/>
            <a:ext cx="86392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7"/>
          <p:cNvPicPr/>
          <p:nvPr/>
        </p:nvPicPr>
        <p:blipFill>
          <a:blip r:embed="rId1"/>
          <a:stretch/>
        </p:blipFill>
        <p:spPr>
          <a:xfrm>
            <a:off x="577800" y="9360"/>
            <a:ext cx="85662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8"/>
          <p:cNvPicPr/>
          <p:nvPr/>
        </p:nvPicPr>
        <p:blipFill>
          <a:blip r:embed="rId1"/>
          <a:stretch/>
        </p:blipFill>
        <p:spPr>
          <a:xfrm>
            <a:off x="485640" y="-4680"/>
            <a:ext cx="8658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"/>
          <p:cNvPicPr/>
          <p:nvPr/>
        </p:nvPicPr>
        <p:blipFill>
          <a:blip r:embed="rId1"/>
          <a:stretch/>
        </p:blipFill>
        <p:spPr>
          <a:xfrm>
            <a:off x="512640" y="0"/>
            <a:ext cx="863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собенности 3 закона Ньют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появляются только па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применяется при взаимодействии 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 силы – одн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не уравновешиваются, т.к. приложены к разным те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верен для люб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Vika\Рабочий стол\Рисунок1.pn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Если на тело не действуют силы или их действие скомпенсировано, то данное тело находится в состоянии покоя или равномерного прямолиней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законы Ньютона К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урок-презентация развивает следующие ключевые компетен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о-смысл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культур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труд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1884240"/>
            <a:ext cx="634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Первый закон Ньютона называют законом ине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стемы отсчета, относительно которых тела движутся с постоянной скоростью при компенсации внешних воздействий на них, называются инерциа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284880" y="3656160"/>
            <a:ext cx="2683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уществуют такие системы отсчета, относительно которых поступательно движущееся тело сохраняет свою скорость постоянной, если на него не действуют другие тела (или действия других тел компенсируетс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трелка вправо 1"/>
          <p:cNvSpPr/>
          <p:nvPr/>
        </p:nvSpPr>
        <p:spPr>
          <a:xfrm>
            <a:off x="584280" y="5867280"/>
            <a:ext cx="1155600" cy="762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о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Если два тела взаимодействуют друг с другом, то ускорения этих тел обратно пропорциональны их мас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-9-1"/>
          <p:cNvPicPr/>
          <p:nvPr/>
        </p:nvPicPr>
        <p:blipFill>
          <a:blip r:embed="rId1"/>
          <a:stretch/>
        </p:blipFill>
        <p:spPr>
          <a:xfrm>
            <a:off x="2990880" y="3606840"/>
            <a:ext cx="593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74" name="Стрелка вправо 3"/>
          <p:cNvSpPr/>
          <p:nvPr/>
        </p:nvSpPr>
        <p:spPr>
          <a:xfrm>
            <a:off x="571680" y="5816520"/>
            <a:ext cx="1218960" cy="5842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77" name="Стрелка вправо 3"/>
          <p:cNvSpPr/>
          <p:nvPr/>
        </p:nvSpPr>
        <p:spPr>
          <a:xfrm>
            <a:off x="977760" y="5549760"/>
            <a:ext cx="1155960" cy="7369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2:51:15Z</dcterms:created>
  <dc:creator>khmelds</dc:creator>
  <dc:description/>
  <cp:keywords/>
  <dc:language>en-US</dc:language>
  <cp:lastModifiedBy>Admin</cp:lastModifiedBy>
  <dcterms:modified xsi:type="dcterms:W3CDTF">2013-11-06T04:31:14Z</dcterms:modified>
  <cp:revision>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49</vt:lpwstr>
  </property>
</Properties>
</file>