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EAB8-4FB9-4A1D-848D-60C58A12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C4F1-9B21-41B3-A73F-94D1F075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E71A-E7AC-4FD6-A1CB-6D3CEDC9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018-65E4-433F-934C-C12EF4BC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D7A5-DB72-45B6-8245-1B511C55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6A5F-DF19-4D88-9B55-C305A83B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C388-3488-498B-8EB1-1628C87F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7678-F391-40D5-BFC2-3FBE388A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D6D2-39C6-413A-8BAA-E0DCB370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D67E-4EE3-4EB6-9568-B9B31FC1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4317-3831-4A52-9C03-38F121BF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859-FC57-4DF6-96B3-2E67A2A8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93BF-9854-4E1D-B21E-12ECF943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4B04-A4C2-4BF8-9A5B-C7CFF8F0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BB5D-4834-4F30-A6C3-ED2A38FA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FBFE-F55D-4D05-8A2B-AE53EC0E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0CEB-E36A-42DF-92D8-BD0A66D4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B933-DC50-4B72-AF23-023C5F13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843-B1C0-4C69-A6FA-A509F0D3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C612-5C07-4135-9B3E-B18B1981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71D0-E219-4844-9599-A2AA98F5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1F7F-88DF-4ECC-ABF1-DED9505B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45B-75F0-4A0F-A069-C027EB94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CB14-D70C-412D-ABD6-6E3921A9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3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4FE9-491B-4E51-907C-71A72698245B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5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391F-89AB-4DCB-A4C3-B3741A8A7EA5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"/>
          <p:cNvSpPr/>
          <p:nvPr/>
        </p:nvSpPr>
        <p:spPr>
          <a:xfrm>
            <a:off x="1332000" y="2133720"/>
            <a:ext cx="7273800" cy="3456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69b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Тема компетентностного подхода в образован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вляется принципиально важной, поскольк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концентрирует в себе идеи зарождающей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новой образовательной парадигмы, приходящ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на смену «знаниево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.В.Хуторс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1042920" y="333360"/>
            <a:ext cx="777240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82400"/>
                </a:solidFill>
                <a:latin typeface="Times New Roman"/>
              </a:rPr>
              <a:t>Предметные компетенции широкого спектра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меет навыки общения на  казахском языке как государственном, на русском  языке как языке межнационального общения, на иностранном языке; умеет быть мотивированным к общению как на родном языке; понимает значимость литературного наследия   и использует в нужном контекст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ладеет математической грамотностью в широком спектре, в том числе умеет творчески и продуктивно  использовать возможности информационной  и коммуникационной технологи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нимает научную картину мира через осмысление роли и места человека в природ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ет историческое прошлое своего народа,   выражает личное отношение к системе общечеловеческих, социокультурных ценностей при выполнении социальных ролей в семье, сообществе и сотрудничестве с другими людьм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нимает и ценит культуру казахского народа, народов Казахстана и культурное многообразие мир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меет быть мотивированным к самоопределению и профессиональному росту с целью повышения своей конкурентоспособност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едет здоровый образ жизни  для поддержания физического здоровья, умственной работоспособности и укрепления общей жизнедеятель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Понимание результата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ременное понимание образовательных результатов выходит за рамки обычного перечня знаний, умений и навыков, соотносимых с обучением учебного предмета. Образовательные результаты являются конечным продуктом  процесса обучения учащихся в школе и  свидетельствуют о качественных изменениях в личности обучающегося и проявляются в его поведении, взаимодействии с социальной сред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им их уровней представления результатов образования является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ункциональная грамотность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определяемая как способность личности на основе знаний, умений и навыков нормально функционировать в системе социальных отношений,  максимально быстро адаптироваться в конкретной культурной сред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6202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ДЕРЖАНИЕ ПОНЯТИЯ 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«КЛЮЧЕВЫЕ КОМПЕТЕНТНОСТИ»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812880"/>
          </a:xfrm>
          <a:prstGeom prst="rect">
            <a:avLst/>
          </a:prstGeom>
          <a:gradFill rotWithShape="0">
            <a:gsLst>
              <a:gs pos="0">
                <a:srgbClr val="d69b80">
                  <a:alpha val="70196"/>
                </a:srgbClr>
              </a:gs>
              <a:gs pos="100000">
                <a:srgbClr val="ffffff">
                  <a:alpha val="72156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ючевые компетент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универсальные компетентности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именяемые в различных жизненных ситуац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116000" y="2708280"/>
            <a:ext cx="7704000" cy="3313080"/>
          </a:xfrm>
          <a:prstGeom prst="rect">
            <a:avLst/>
          </a:prstGeom>
          <a:gradFill rotWithShape="0">
            <a:gsLst>
              <a:gs pos="0">
                <a:srgbClr val="d69b80">
                  <a:alpha val="70196"/>
                </a:srgbClr>
              </a:gs>
              <a:gs pos="100000">
                <a:srgbClr val="ffffff">
                  <a:alpha val="7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арактерные признаки ключевых компетентносте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функциональ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предметность и междисциплинар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мер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нность на значительном интеллектуальном, эмоционально-ценностном и творческом  развитии челове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уемость в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оцессе обучения в школ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а также под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оздействием семьи, социального окружения, политической системы, религии, культу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116000" y="260280"/>
            <a:ext cx="7772400" cy="31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31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44" name="Diagram 3"/>
          <p:cNvGrpSpPr/>
          <p:nvPr/>
        </p:nvGrpSpPr>
        <p:grpSpPr>
          <a:xfrm>
            <a:off x="1773720" y="1070640"/>
            <a:ext cx="6460920" cy="2106360"/>
            <a:chOff x="1773720" y="1070640"/>
            <a:chExt cx="6460920" cy="2106360"/>
          </a:xfrm>
        </p:grpSpPr>
        <p:sp>
          <p:nvSpPr>
            <p:cNvPr id="145" name="_s1028"/>
            <p:cNvSpPr/>
            <p:nvPr/>
          </p:nvSpPr>
          <p:spPr>
            <a:xfrm flipV="1">
              <a:off x="3927240" y="1069920"/>
              <a:ext cx="2153520" cy="701640"/>
            </a:xfrm>
            <a:custGeom>
              <a:avLst/>
              <a:gdLst>
                <a:gd name="textAreaLeft" fmla="*/ 772560 w 2153520"/>
                <a:gd name="textAreaRight" fmla="*/ 1380960 w 2153520"/>
                <a:gd name="textAreaTop" fmla="*/ 251640 h 701640"/>
                <a:gd name="textAreaBottom" fmla="*/ 450000 h 7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ebf5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4c2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"/>
                </a:rPr>
                <a:t>ПРЕДМЕТНЫЕ КОМПЕТЕ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_s1029"/>
            <p:cNvSpPr/>
            <p:nvPr/>
          </p:nvSpPr>
          <p:spPr>
            <a:xfrm flipV="1">
              <a:off x="2850480" y="1772640"/>
              <a:ext cx="4307400" cy="702000"/>
            </a:xfrm>
            <a:custGeom>
              <a:avLst/>
              <a:gdLst>
                <a:gd name="textAreaLeft" fmla="*/ 947160 w 4307400"/>
                <a:gd name="textAreaRight" fmla="*/ 3360240 w 4307400"/>
                <a:gd name="textAreaTop" fmla="*/ 154440 h 702000"/>
                <a:gd name="textAreaBottom" fmla="*/ 547560 h 7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ba58d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603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"/>
                </a:rPr>
                <a:t>ОБЩЕПРЕДМЕТНЫЕ КОМПЕТЕ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_s1030"/>
            <p:cNvSpPr/>
            <p:nvPr/>
          </p:nvSpPr>
          <p:spPr>
            <a:xfrm flipV="1">
              <a:off x="1773720" y="2473920"/>
              <a:ext cx="6460920" cy="702360"/>
            </a:xfrm>
            <a:custGeom>
              <a:avLst/>
              <a:gdLst>
                <a:gd name="textAreaLeft" fmla="*/ 1121400 w 6460920"/>
                <a:gd name="textAreaRight" fmla="*/ 5339520 w 6460920"/>
                <a:gd name="textAreaTop" fmla="*/ 121680 h 702360"/>
                <a:gd name="textAreaBottom" fmla="*/ 580680 h 70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0a172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4c2818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00"/>
                  </a:solidFill>
                  <a:latin typeface="Arial"/>
                </a:rPr>
                <a:t>К</a:t>
              </a:r>
              <a:r>
                <a:rPr b="1" lang="en-US" sz="1400" spc="-1" strike="noStrike">
                  <a:solidFill>
                    <a:srgbClr val="800000"/>
                  </a:solidFill>
                  <a:latin typeface="Arial"/>
                </a:rPr>
                <a:t>ЛЮЧЕВЫЕ КОМПЕТЕН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AutoShape 8"/>
          <p:cNvSpPr/>
          <p:nvPr/>
        </p:nvSpPr>
        <p:spPr>
          <a:xfrm>
            <a:off x="2340000" y="292428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3203640" y="292428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4067280" y="292428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5796000" y="292428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4932360" y="292428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6588000" y="292428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7308720" y="292428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1692360" y="3500280"/>
            <a:ext cx="6696000" cy="2559960"/>
          </a:xfrm>
          <a:prstGeom prst="rect">
            <a:avLst/>
          </a:prstGeom>
          <a:gradFill rotWithShape="0">
            <a:gsLst>
              <a:gs pos="0">
                <a:srgbClr val="d0a17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c2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управленческа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мпетен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информационна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мпетен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коммуникативна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мпетен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социально-трудовые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ичностные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гражданска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мпетен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технологически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1692360" y="692280"/>
            <a:ext cx="67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РАЗОВАТЕЛЬНЫЕ КОМПЕТЕНЦИИ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Arial Black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628640"/>
            <a:ext cx="6265800" cy="380304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УПРАВЛЕНЧЕСКИЕ КОМПЕТЕНЦИИ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етенции в сфере мировоззрения, связанные с ценностными ориентирами ученика, его способностью видеть и понимать окружающий мир, ориентироваться в нем, осознавать свою роль и предназначение, уметь выбирать целевые и смысловые установки для своих действий и поступков, принимать решения. Данные компетенции обеспечивают механизм самоопределения ученика в ситуациях учебной и иной деятельности. От них зависит индивидуальная образовательная траектория ученика и программа его жизнедеятельности в цел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835280" y="1844640"/>
            <a:ext cx="6553080" cy="365904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РАЖДАНСКИЕ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ПЕТЕНЦИИ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уг вопросов, по отношению к которым ученик должен быть хорошо осведомлен, обладать познаниями и опытом деятельности, это – особенности национальной и общечеловеческой культуры, духовно-нравственные основы жизни человека и человечества, отдельных народов, культурологические основы семейных, социальных, общественных явлений и традиций, роль науки и религии в жизни человека, их влияние на мир, компетенции в бытовой и культурно - досуговой сфер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пример, владение эффективными способами организации свободного времени.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юда же относится опыт освоения учеником научной картины мира, расширяющийся до культурологического и всечеловеческого понимания ми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1258920" y="292428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1258920" y="270828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692360" y="1557360"/>
            <a:ext cx="6840360" cy="46324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ЕХНОЛОГИЧЕСКИЕ 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ПЕТЕНЦИИ 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 Сюда входят знания и умения организации целеполагания, планирования, анализа, самооценки учебно-познавательной деятельности. По отношению к изучаемым объектам ученик овладевает креативными навыками продуктивной деятельности: добыванием знаний непосредственно из реальности, владением приемами действий в нестандартных ситуациях, эвристическими методами решения проблем. В рамках данн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1187280" y="292428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1187280" y="270828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692360" y="836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195640" y="1773360"/>
            <a:ext cx="6265800" cy="43516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ИНФОРМАЦИОННЫЕ КОМПЕТЕНЦИИ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ния самостоятельно искать, анализировать и отбирать необходимую информацию, организовывать, преобразовывать, сохранять и передавать ее формируются при помощи реальных объектов (телевизор, магнитофон, телефон, факс, компьютер, принтер, модем, копир) и информационных технологий (аудио- видеозапись, электронная почта, СМИ, Интернет). Данные компетенции обеспечивают навыки деятельности ученика по отношению к информации, содержащейся в учебных предметах и образовательных областях, а также в окружающем мир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195640" y="1628640"/>
            <a:ext cx="6265800" cy="365904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МУНИКАТИВНЫЕ КОМПЕТЕНЦИИ 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нание необходимых языков, способов взаимодействия с окружающими и удаленными людьми и событиями, навыки работы в группе, владение различными социальными ролями в коллективе. Ученик должен уметь представить себя, написать письмо, анкету, заявление, задать вопрос, вести дискуссию и др. Для освоения данных компетенций в учебном процессе фиксируется необходимое и достаточное количество реальных объектов коммуникации и способов работы с ними для ученика каждой ступени обучения в рамках каждого изучаемого предмета или образовательной области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195640" y="1628640"/>
            <a:ext cx="6265800" cy="44200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СОЦИАЛЬНЫЕ 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значают владение знаниями и опытом в сфере гражданско-общественной деятельности (выполнение роли гражданина, наблюдателя, избирателя, представителя), в социально-трудовой сфере (права потребителя, покупателя, клиента, производителя), в сфере семейных отношений и обязанностей, в вопросах экономики и права, в области профессионального самоопределения. Сюда входят, например, умения анализировать ситуацию на рынке труда, действовать в соответствии с личной и общественной выгодой, владеть этикой трудовых и гражданских взаимоотношений. Ученик овладевает минимально необходимыми для жизни в современном обществе навыками социальной активности и функциональной грамотности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559640" cy="1143000"/>
          </a:xfrm>
          <a:prstGeom prst="rect">
            <a:avLst/>
          </a:prstGeom>
          <a:gradFill rotWithShape="0">
            <a:gsLst>
              <a:gs pos="0">
                <a:srgbClr val="dfd6c3">
                  <a:alpha val="41176"/>
                </a:srgbClr>
              </a:gs>
              <a:gs pos="100000">
                <a:srgbClr val="f4f1eb">
                  <a:alpha val="41176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990000"/>
                </a:solidFill>
                <a:latin typeface="Arial Black"/>
              </a:rPr>
              <a:t>Сущность компетентностного подхода в образовании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42920" y="1628640"/>
            <a:ext cx="7705800" cy="703800"/>
          </a:xfrm>
          <a:prstGeom prst="rect">
            <a:avLst/>
          </a:prstGeom>
          <a:gradFill rotWithShape="0">
            <a:gsLst>
              <a:gs pos="0">
                <a:srgbClr val="d69b80">
                  <a:alpha val="72156"/>
                </a:srgbClr>
              </a:gs>
              <a:gs pos="100000">
                <a:srgbClr val="f9f0ec">
                  <a:alpha val="67058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Компетенци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многозначное слово, от лат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petere –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добиваюсь, соответствую, подхожу) 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116000" y="2708280"/>
            <a:ext cx="7416720" cy="916920"/>
          </a:xfrm>
          <a:prstGeom prst="rect">
            <a:avLst/>
          </a:prstGeom>
          <a:solidFill>
            <a:srgbClr val="ffffff">
              <a:alpha val="36000"/>
            </a:srgbClr>
          </a:soli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 Black"/>
              </a:rPr>
              <a:t>это не только знания, умения и навыки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, но и ценностные ориентиры, поведенческие реакции и привычки, операционно-технологический опы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116000" y="3933720"/>
            <a:ext cx="7416720" cy="703800"/>
          </a:xfrm>
          <a:prstGeom prst="rect">
            <a:avLst/>
          </a:prstGeom>
          <a:gradFill rotWithShape="0">
            <a:gsLst>
              <a:gs pos="0">
                <a:srgbClr val="d69b80">
                  <a:alpha val="7215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Компетентность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от лат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etens (competentis)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длежащий, способный)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187280" y="5084640"/>
            <a:ext cx="7417080" cy="642600"/>
          </a:xfrm>
          <a:prstGeom prst="rect">
            <a:avLst/>
          </a:prstGeom>
          <a:solidFill>
            <a:srgbClr val="ffffff">
              <a:alpha val="36000"/>
            </a:srgbClr>
          </a:soli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бладание знаниями и опытом, позволяющим судить о чем-либо; </a:t>
            </a:r>
            <a:r>
              <a:rPr b="0" lang="ru-RU" sz="1800" spc="-1" strike="noStrike">
                <a:solidFill>
                  <a:srgbClr val="993300"/>
                </a:solidFill>
                <a:latin typeface="Arial Black"/>
              </a:rPr>
              <a:t>веское, авторитетное мн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42920" y="260280"/>
            <a:ext cx="777240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908000" y="98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КЛЮЧЕВЫЕ ОБРАЗОВАТЕЛЬНЫЕ КОМПЕТЕН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835280" y="1700280"/>
            <a:ext cx="6480000" cy="390240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ПЕТЕНЦИИ ЛИЧНОСТНЫ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авлены на освоение способов физического, духовного и интеллектуального саморазвития, эмоциональной саморегуляции и самоподдержки. Реальным объектом в сфере данных компетенций выступает сам ученик. Он овладевает способами деятельности в собственных интересах и возможностях, что выражается в его непрерывном самопознании, развитии необходимых современному человеку личностных качеств, формировании психологической грамотности, культуры мышления и поведения. К данным компетенциям относятся знание правил личной гигиены, забота о собственном здоровье, половая грамотность, внутренняя экологическая культура. Сюда же входит комплекс качеств, связанных с основами безопасной жизнедеятельности лич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1332000" y="292428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1332000" y="270828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187280" y="98100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00"/>
                </a:solidFill>
                <a:uFillTx/>
                <a:latin typeface="Arial Black"/>
              </a:rPr>
              <a:t>ЛОГИКА РЕАЛИЗАЦИИ КОМПЕТЕНТНОСТНОГО ПОДХ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692360" y="3284640"/>
            <a:ext cx="6480000" cy="1202760"/>
          </a:xfrm>
          <a:prstGeom prst="rect">
            <a:avLst/>
          </a:prstGeom>
          <a:gradFill rotWithShape="0">
            <a:gsLst>
              <a:gs pos="0">
                <a:srgbClr val="d0a17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НАЯ СИТУ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ЕС УЧАЩЕГОСЯ К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763640" y="5661000"/>
            <a:ext cx="6408720" cy="3682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КОМПЕТЕНТНОСТ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763640" y="1844640"/>
            <a:ext cx="6480360" cy="3682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ВЫК ИССЛЕДОВАТЕЛЬСКОЙ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4932360" y="508464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WordArt 9"/>
          <p:cNvSpPr txBox="1"/>
          <p:nvPr/>
        </p:nvSpPr>
        <p:spPr>
          <a:xfrm>
            <a:off x="3851280" y="2924280"/>
            <a:ext cx="2160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ДЕЯТЕЛЬНОСТЬ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0" name="WordArt 10"/>
          <p:cNvSpPr txBox="1"/>
          <p:nvPr/>
        </p:nvSpPr>
        <p:spPr>
          <a:xfrm>
            <a:off x="3995640" y="4653000"/>
            <a:ext cx="187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УЧАЩЕГОСЯ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1" name="AutoShape 11"/>
          <p:cNvSpPr/>
          <p:nvPr/>
        </p:nvSpPr>
        <p:spPr>
          <a:xfrm>
            <a:off x="4932360" y="242100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2"/>
          <p:cNvSpPr/>
          <p:nvPr/>
        </p:nvSpPr>
        <p:spPr>
          <a:xfrm>
            <a:off x="4932360" y="371628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116000" y="1413000"/>
          <a:ext cx="3505320" cy="427176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990360"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АМООПРЕДЕЛЕНИЕ К ДЕЯТЕ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146240"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АКТУАЛИЗАЦИЯ ЗНАНИЙ И ФИКСАЦИЯ ЗАТРУДНЕНИЙ В ДЕЯТЕ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936720"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ОСТАНОВКА УЧЕБНОЙ ЗАДАЧ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198440"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ОСТРОЕНИЕ ПРОЕКТА ВЫХОДА ИЗ ПРОБЛЕМНОЙ СИТУАЦИИ, ЗАТРУДН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4" name="Text Box 14"/>
          <p:cNvSpPr/>
          <p:nvPr/>
        </p:nvSpPr>
        <p:spPr>
          <a:xfrm>
            <a:off x="1187280" y="476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СТРУКТУРА УЧЕБНОГО ЗАНЯТИЯ НА КОМПЕТЕНТНОСТН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003640" y="1413000"/>
          <a:ext cx="3619800" cy="4392360"/>
        </p:xfrm>
        <a:graphic>
          <a:graphicData uri="http://schemas.openxmlformats.org/drawingml/2006/table">
            <a:tbl>
              <a:tblPr/>
              <a:tblGrid>
                <a:gridCol w="3619800"/>
              </a:tblGrid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ПЕРВИЧНОЕ ЗАКРЕПЛЕНИЕ УЧЕБНОГО 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САМОСТОЯТЕ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ВКЛЮЧЕНИЕ НОВЫХ ЗНАНИЙ В СИСТЕМУ И ПОВТ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РЕФЛЕКСИЯ ДЕЯТЕЛЬНОСТИ (ИТОГ УРО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0a172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7" name="Line 28"/>
          <p:cNvSpPr/>
          <p:nvPr/>
        </p:nvSpPr>
        <p:spPr>
          <a:xfrm>
            <a:off x="4572000" y="5516640"/>
            <a:ext cx="2160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9"/>
          <p:cNvSpPr/>
          <p:nvPr/>
        </p:nvSpPr>
        <p:spPr>
          <a:xfrm flipV="1">
            <a:off x="4788000" y="2276280"/>
            <a:ext cx="0" cy="331308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30"/>
          <p:cNvSpPr/>
          <p:nvPr/>
        </p:nvSpPr>
        <p:spPr>
          <a:xfrm>
            <a:off x="4788000" y="2349360"/>
            <a:ext cx="50472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1"/>
          <p:cNvSpPr/>
          <p:nvPr/>
        </p:nvSpPr>
        <p:spPr>
          <a:xfrm>
            <a:off x="1258920" y="234936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2"/>
          <p:cNvSpPr/>
          <p:nvPr/>
        </p:nvSpPr>
        <p:spPr>
          <a:xfrm>
            <a:off x="1258920" y="350028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33"/>
          <p:cNvSpPr/>
          <p:nvPr/>
        </p:nvSpPr>
        <p:spPr>
          <a:xfrm>
            <a:off x="1332000" y="450864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34"/>
          <p:cNvSpPr/>
          <p:nvPr/>
        </p:nvSpPr>
        <p:spPr>
          <a:xfrm>
            <a:off x="5292720" y="342900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35"/>
          <p:cNvSpPr/>
          <p:nvPr/>
        </p:nvSpPr>
        <p:spPr>
          <a:xfrm>
            <a:off x="5292720" y="234936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36"/>
          <p:cNvSpPr/>
          <p:nvPr/>
        </p:nvSpPr>
        <p:spPr>
          <a:xfrm>
            <a:off x="5292720" y="4508640"/>
            <a:ext cx="0" cy="36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8560" y="1125000"/>
            <a:ext cx="74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ЩНОСТНЫЕ ЧЕРТЫ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ПРОЦЕССА ОБУЧЕНИЯ, ПОСТРОЕННОГО В СООТВЕТСТВИИ С ОСНОВНЫМИ ИДЕЯМИ КОМПЕТЕНТНОСТНОГО ПОДХОДА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87280" y="2565000"/>
            <a:ext cx="7561440" cy="2376360"/>
          </a:xfrm>
          <a:prstGeom prst="rect">
            <a:avLst/>
          </a:prstGeom>
          <a:gradFill rotWithShape="0">
            <a:gsLst>
              <a:gs pos="0">
                <a:srgbClr val="d69b80">
                  <a:alpha val="72156"/>
                </a:srgbClr>
              </a:gs>
              <a:gs pos="100000">
                <a:srgbClr val="ffffff">
                  <a:alpha val="73333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открытых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еопределенным заранее результатом) и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закрытых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заранее запланированным ответом)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учебных зада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актико-ориентированных ситуац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как для постановки проблемы, так и для ее реш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избыточной информац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ля выработки навыков деятельности в условиях неопределен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066680" y="38088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ЩНОСТНЫЕ ЧЕРТЫ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ПРОЦЕССА ОБУЧЕНИЯ, ПОСТРОЕННОГО В СООТВЕТСТВИИ С ОСНОВНЫМИ ИДЕЯМИ КОМПЕТЕНТНОСТНОГО ПОДХОДА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187280" y="1988640"/>
            <a:ext cx="7561440" cy="4319640"/>
          </a:xfrm>
          <a:prstGeom prst="rect">
            <a:avLst/>
          </a:prstGeom>
          <a:gradFill rotWithShape="0">
            <a:gsLst>
              <a:gs pos="0">
                <a:srgbClr val="d69b80">
                  <a:alpha val="72156"/>
                </a:srgbClr>
              </a:gs>
              <a:gs pos="100000">
                <a:srgbClr val="ffffff">
                  <a:alpha val="73333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еобладание самостоятельн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знавательной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деятельност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ающихс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индивидуальной, групповой и коллективн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знавательной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деятельно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различных сочетания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возможность созда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ающимися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собственног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ельного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одукт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свой способ решения (пусть не всегда оптимальный – каждый имеет право на ошибку!), свое видение проблемы, т.п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енаправленное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развити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знавательной, социальной, психологической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рефлекси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ающихся (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как я работал? какие методы использовал? какие были ошибочными? как я теперь бы решил проблему?;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оциально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как мы работали в группе? как были распределены роли? как мы с ними справились? какие допустили ошибки?;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как я себя чувствовал? понравилась ли мне работа (в группе, с заданием) или нет? почему? с кем (как) бы я хотел работать? почему?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066680" y="38088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92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ЩНОСТНЫЕ ЧЕРТЫ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ПРОЦЕССА ОБУЧЕНИЯ, ПОСТРОЕННОГО В СООТВЕТСТВИИ С ОСНОВНЫМИ ИДЕЯМИ КОМПЕТЕНТНОСТНОГО ПОДХОДА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186920" y="2349000"/>
            <a:ext cx="7488360" cy="3024360"/>
          </a:xfrm>
          <a:prstGeom prst="rect">
            <a:avLst/>
          </a:prstGeom>
          <a:gradFill rotWithShape="0">
            <a:gsLst>
              <a:gs pos="0">
                <a:srgbClr val="d69b80">
                  <a:alpha val="72156"/>
                </a:srgbClr>
              </a:gs>
              <a:gs pos="100000">
                <a:srgbClr val="ffffff">
                  <a:alpha val="73333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исследовательских и поисковых технологий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зволяющих организовать аутентичную (подлинную, верную) оценку деятельности обучающихс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технологий и методов, обеспечивающи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аморазвитие, самоактуализацию обучающегося, позволяющих ему самому искать и осознавать подходящие для него способы решения дидактических и жизненных ситуаций (метод проектов, ситуационный анализ, технологии портфолио, КСО, др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езентации, защиты познавательных результатов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стижений обучающих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1066680" y="38088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042920" y="1197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411280" y="2133720"/>
            <a:ext cx="5761080" cy="33732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ГНИТИВНЫЕ (ПОЗНАВАТЕЛЬНЫЕ)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411280" y="3860640"/>
            <a:ext cx="5761080" cy="337320"/>
          </a:xfrm>
          <a:prstGeom prst="rect">
            <a:avLst/>
          </a:prstGeom>
          <a:gradFill rotWithShape="0">
            <a:gsLst>
              <a:gs pos="0">
                <a:srgbClr val="d0a172">
                  <a:alpha val="69019"/>
                </a:srgbClr>
              </a:gs>
              <a:gs pos="100000">
                <a:srgbClr val="ffffff">
                  <a:alpha val="6901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ЕАТИВНЫЕ (ТВОРЧЕСКИЕ)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411280" y="2924280"/>
            <a:ext cx="5761080" cy="5806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6901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ОННО-ДЕЯТЕЛЬНОСТНЫЕ (МЕТОДОЛОГИЧЕСКИЕ)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411280" y="4653000"/>
            <a:ext cx="5761080" cy="33732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МУНИКАТИВНЫЕ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411280" y="5373720"/>
            <a:ext cx="5761080" cy="33732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РОВОЗЗРЕНЧЕСКИЕ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1692360" y="22050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10"/>
          <p:cNvSpPr/>
          <p:nvPr/>
        </p:nvSpPr>
        <p:spPr>
          <a:xfrm>
            <a:off x="1692360" y="31417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11"/>
          <p:cNvSpPr/>
          <p:nvPr/>
        </p:nvSpPr>
        <p:spPr>
          <a:xfrm>
            <a:off x="1692360" y="39337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12"/>
          <p:cNvSpPr/>
          <p:nvPr/>
        </p:nvSpPr>
        <p:spPr>
          <a:xfrm>
            <a:off x="1692360" y="46530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13"/>
          <p:cNvSpPr/>
          <p:nvPr/>
        </p:nvSpPr>
        <p:spPr>
          <a:xfrm>
            <a:off x="1692360" y="53737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1692360" y="2060640"/>
            <a:ext cx="0" cy="367344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116000" y="1197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95640" y="2349360"/>
            <a:ext cx="5976720" cy="194400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ОГНИТИВНЫЕ (ПОЗНАВАТЕЛЬНЫЕ) КАЧЕСТВА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ние чувствовать окружающий мир, задавать вопросы, отыскивать причины явлений, обозначать свое понимание или непонимание вопроса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16000" y="1197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2195640" y="2349360"/>
            <a:ext cx="5976720" cy="246204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РЕАТИВНЫЕ (ТВОРЧЕСКИЕ) КАЧЕСТВА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охновленность, фантазия, гибкость ума, чуткость к противоречиям; раскованность мыслей, чувств, движений; прогностичность; критичность; наличие своего мнения и др.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116000" y="1197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195640" y="2349360"/>
            <a:ext cx="5976720" cy="207540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РГАНИЗАЦИОННО-ДЕЯТЕЛЬНОСТНЫЕ (МЕТОДОЛОГИЧЕСКИЕ) КАЧЕСТВА 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осознания целей учебной деятельности и умение их пояснить; умение поставить цель и организовать её достижение; способность к нормотворчеству; рефлексивное мышление, самоанализ и самооценка и др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75332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788000" y="1557360"/>
            <a:ext cx="3962160" cy="408888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петентность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ладение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бладание человеком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соответствующей компетенцие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включающей его личностное отношение к ней и предмету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знание в действ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умение человека использовать его на практике,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нимать оптимальные решения в условиях неопределен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реализовывать 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187280" y="1557360"/>
            <a:ext cx="3313440" cy="407736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мпетенция –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совокупность взаимосвязанных качеств лич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знаний, умений, навыков, способов деятельности),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задаваемых по отношению к определенному кругу предметов и процесс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необходимых для качественной продуктивной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116000" y="1197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2195640" y="2349360"/>
            <a:ext cx="5976720" cy="286776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ОММУНИКАТИВНЫЕ КАЧЕСТВА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словленные необходимостью взаимодействовать с другими людьми, с объектами окружающего мира и его информационными потоками; умение отыскивать, преобразовывать и передавать информацию; выполнять различные социальные роли в группе и коллективе, использовать современные телекоммуникационные технологии (электронная почта, Интернет) и д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116000" y="1197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ОБЩЕУЧЕБНЫЕ УМЕНИЯ, НАВЫКИ И СПОСОБЫ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2195640" y="2349360"/>
            <a:ext cx="5976720" cy="3416400"/>
          </a:xfrm>
          <a:prstGeom prst="rect">
            <a:avLst/>
          </a:prstGeom>
          <a:gradFill rotWithShape="0">
            <a:gsLst>
              <a:gs pos="0">
                <a:srgbClr val="d0a172">
                  <a:alpha val="70196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МИРОВОЗЗРЕНЧЕСКИЕ КАЧЕСТВА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чества, определяющие эмоционально-ценностные установки ученика, его способность к самопознанию и самодвижению, умение определять свое место и роль в окружающем мире, в семье, в коллективе, в природе, государстве, национальные и общечеловеческие устремления, патриотические и толерантные качества личности и т.п.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1692360" y="285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1692360" y="2637000"/>
            <a:ext cx="0" cy="7207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В ОБРАЗОВАНИИ</a:t>
            </a:r>
            <a:endParaRPr b="0" i="1" lang="en-US" sz="16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066680" y="1752480"/>
          <a:ext cx="7537680" cy="4205520"/>
        </p:xfrm>
        <a:graphic>
          <a:graphicData uri="http://schemas.openxmlformats.org/drawingml/2006/table">
            <a:tbl>
              <a:tblPr/>
              <a:tblGrid>
                <a:gridCol w="2212920"/>
                <a:gridCol w="2373480"/>
                <a:gridCol w="2951280"/>
              </a:tblGrid>
              <a:tr h="52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Е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КОМПЕТЕНТНОС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ращивание объема знани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«формирование разностороннего опыта деятельност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я, умения, навы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компетен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ная ориен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интегратив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11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ичная учебная ситуация, задания репродуктивного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нестандартная учебная ситуация, задания продуктивного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9b8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68" name="Text Box 36"/>
          <p:cNvSpPr/>
          <p:nvPr/>
        </p:nvSpPr>
        <p:spPr>
          <a:xfrm>
            <a:off x="1619280" y="126828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7"/>
          <p:cNvSpPr/>
          <p:nvPr/>
        </p:nvSpPr>
        <p:spPr>
          <a:xfrm>
            <a:off x="1763640" y="836640"/>
            <a:ext cx="64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МПЕТЕНТНОСТНЫЙ ПОДХОД В СООТНОШЕН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 ЗНАНИЕВЫ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87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Black"/>
              </a:rPr>
              <a:t>ЛИТЕРАТУРА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186920" y="1484280"/>
            <a:ext cx="7488360" cy="4392720"/>
          </a:xfrm>
          <a:prstGeom prst="rect">
            <a:avLst/>
          </a:prstGeom>
          <a:gradFill rotWithShape="0">
            <a:gsLst>
              <a:gs pos="0">
                <a:srgbClr val="d69b80">
                  <a:alpha val="74117"/>
                </a:srgbClr>
              </a:gs>
              <a:gs pos="100000">
                <a:srgbClr val="ffffff">
                  <a:alpha val="72156"/>
                </a:srgbClr>
              </a:gs>
            </a:gsLst>
            <a:lin ang="5400000"/>
          </a:gradFill>
          <a:ln w="9360">
            <a:solidFill>
              <a:srgbClr val="caa966"/>
            </a:solidFill>
            <a:miter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Болотов В.А., Сериков В.В. Компетентностная модель: от идеи к образовательной программе.// Педагогика.    2003,   № 10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Гетманская А.А. Формирование ключевых компетентностей у учащихся. Сайт ИД "Первое сентября". Сайт фестиваля. 2003-2004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Зеер Э.Ф., Павлова А.М., Сыманюк Э.Э. Модернизация профессионального образования: компетентностный подход. - М.,  2005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Иванов Д. Компетентности и компетентностный подход в современном образовании. // Воспитание. Образование, Педагогика. Библиотечка «Первого сентября». 2007, №6 (1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Ирхина И.В. Современные ориентиры развития школьного образования в России. // Гуманитарные и социально-экономические науки. 2005, № 2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 Лебедев О.Е. Компетентностный подход в образовании.//Школьные технологии. 2004, №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066680" y="38088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2247840" y="5538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87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 Black"/>
              </a:rPr>
              <a:t>ЛИТЕРАТУРА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16000" y="1483920"/>
            <a:ext cx="7704000" cy="4753080"/>
          </a:xfrm>
          <a:prstGeom prst="rect">
            <a:avLst/>
          </a:prstGeom>
          <a:gradFill rotWithShape="0">
            <a:gsLst>
              <a:gs pos="0">
                <a:srgbClr val="d69b80">
                  <a:alpha val="74117"/>
                </a:srgbClr>
              </a:gs>
              <a:gs pos="100000">
                <a:srgbClr val="ffffff">
                  <a:alpha val="72156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Лебедев О.Е. Компетентностный подход в образовании.// Школьные технологии. 2004, №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Основина В.А. Проектирование и организация учебного процесса на деятельностной основе. – Ульяновск.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Поляков С.Д. Управление развитием личности в учебном процессе. – М.,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Сергеев И.С.,  Блинов В.И.  Как реализовать компетентностный подход на уроке и во внеурочной деятельности. – М: Издательство «Аркти». 2007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1. Хуторской А.В.  Ключевые компетенции и образовательные стандарты. // Интернет-журнал "Эйдос". – 2002. 23 апреля. http://www.eidos.ru/journal/2002/0423.htm. - В надзаг: Центр дистанционного образования "Эйдос", e-mail: list@eidos.ru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2. Шишов С.Е., Агапов И.И.  Компетентностный подход к образованию как необходимость. // Мир образования -образование в мире. 2001, № 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1066680" y="380880"/>
            <a:ext cx="7772400" cy="38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187280" y="16286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СОСТАВЛЯЮЩИЕ (ЭЛЕМЕНТЫ) СОДЕРЖАНИЯ ПОНЯТИЯ «КОМПЕТЕНТНОСТЬ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516720" y="4869000"/>
            <a:ext cx="2160720" cy="642600"/>
          </a:xfrm>
          <a:prstGeom prst="rect">
            <a:avLst/>
          </a:prstGeom>
          <a:gradFill rotWithShape="0">
            <a:gsLst>
              <a:gs pos="0">
                <a:srgbClr val="008000">
                  <a:alpha val="23137"/>
                </a:srgbClr>
              </a:gs>
              <a:gs pos="100000">
                <a:srgbClr val="fbfaf7">
                  <a:alpha val="26274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перационная (как делать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219640" y="2492280"/>
            <a:ext cx="2737080" cy="642600"/>
          </a:xfrm>
          <a:prstGeom prst="rect">
            <a:avLst/>
          </a:prstGeom>
          <a:gradFill rotWithShape="0">
            <a:gsLst>
              <a:gs pos="0">
                <a:srgbClr val="faa0ba">
                  <a:alpha val="74117"/>
                </a:srgbClr>
              </a:gs>
              <a:gs pos="100000">
                <a:srgbClr val="ffffff">
                  <a:alpha val="77254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отивационная (почему? зачем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35280" y="4869000"/>
            <a:ext cx="2592360" cy="916920"/>
          </a:xfrm>
          <a:prstGeom prst="rect">
            <a:avLst/>
          </a:prstGeom>
          <a:gradFill rotWithShape="0">
            <a:gsLst>
              <a:gs pos="0">
                <a:srgbClr val="ff6600">
                  <a:alpha val="36078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Этическая (как к этому отнесутся люди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476360" y="2492280"/>
            <a:ext cx="2736720" cy="642600"/>
          </a:xfrm>
          <a:prstGeom prst="rect">
            <a:avLst/>
          </a:prstGeom>
          <a:gradFill rotWithShape="0">
            <a:gsLst>
              <a:gs pos="0">
                <a:srgbClr val="d69b80">
                  <a:alpha val="67058"/>
                </a:srgbClr>
              </a:gs>
              <a:gs pos="100000">
                <a:srgbClr val="f5e5de">
                  <a:alpha val="6901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гнитив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что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258920" y="4869000"/>
            <a:ext cx="2160720" cy="785520"/>
          </a:xfrm>
          <a:prstGeom prst="rect">
            <a:avLst/>
          </a:prstGeom>
          <a:gradFill rotWithShape="0">
            <a:gsLst>
              <a:gs pos="0">
                <a:srgbClr val="cc99ff">
                  <a:alpha val="36078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циаль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с кем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042920" y="260280"/>
            <a:ext cx="777240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br>
              <a:rPr sz="2000"/>
            </a:b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203640" y="3645000"/>
            <a:ext cx="3241440" cy="368280"/>
          </a:xfrm>
          <a:prstGeom prst="rect">
            <a:avLst/>
          </a:prstGeom>
          <a:gradFill rotWithShape="0">
            <a:gsLst>
              <a:gs pos="0">
                <a:srgbClr val="800000">
                  <a:alpha val="60392"/>
                </a:srgbClr>
              </a:gs>
              <a:gs pos="100000">
                <a:srgbClr val="ffffff">
                  <a:alpha val="7215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МПЕТЕНТ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3"/>
          <p:cNvSpPr/>
          <p:nvPr/>
        </p:nvSpPr>
        <p:spPr>
          <a:xfrm rot="1867200">
            <a:off x="2301480" y="3335040"/>
            <a:ext cx="790560" cy="360360"/>
          </a:xfrm>
          <a:prstGeom prst="rightArrow">
            <a:avLst>
              <a:gd name="adj1" fmla="val 50000"/>
              <a:gd name="adj2" fmla="val 5484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 rot="16200000">
            <a:off x="4464000" y="4328640"/>
            <a:ext cx="647640" cy="289080"/>
          </a:xfrm>
          <a:prstGeom prst="rightArrow">
            <a:avLst>
              <a:gd name="adj1" fmla="val 50000"/>
              <a:gd name="adj2" fmla="val 5600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5"/>
          <p:cNvSpPr/>
          <p:nvPr/>
        </p:nvSpPr>
        <p:spPr>
          <a:xfrm rot="19506000">
            <a:off x="2195280" y="4292280"/>
            <a:ext cx="790560" cy="360360"/>
          </a:xfrm>
          <a:prstGeom prst="rightArrow">
            <a:avLst>
              <a:gd name="adj1" fmla="val 50000"/>
              <a:gd name="adj2" fmla="val 5484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6"/>
          <p:cNvSpPr/>
          <p:nvPr/>
        </p:nvSpPr>
        <p:spPr>
          <a:xfrm rot="9080400">
            <a:off x="6516360" y="3357000"/>
            <a:ext cx="790560" cy="360360"/>
          </a:xfrm>
          <a:prstGeom prst="rightArrow">
            <a:avLst>
              <a:gd name="adj1" fmla="val 50000"/>
              <a:gd name="adj2" fmla="val 5484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7"/>
          <p:cNvSpPr/>
          <p:nvPr/>
        </p:nvSpPr>
        <p:spPr>
          <a:xfrm rot="12467400">
            <a:off x="6516720" y="4292280"/>
            <a:ext cx="830160" cy="360360"/>
          </a:xfrm>
          <a:prstGeom prst="rightArrow">
            <a:avLst>
              <a:gd name="adj1" fmla="val 50000"/>
              <a:gd name="adj2" fmla="val 57592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13"/>
          <p:cNvSpPr/>
          <p:nvPr/>
        </p:nvSpPr>
        <p:spPr>
          <a:xfrm>
            <a:off x="1187280" y="2349360"/>
            <a:ext cx="7344000" cy="3456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69b80">
                  <a:alpha val="70196"/>
                </a:srgbClr>
              </a:gs>
              <a:gs pos="100000">
                <a:srgbClr val="ffffff">
                  <a:alpha val="7333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обеспечить усвоение не «суммы знаний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на сам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е суммы  сведений  из  разных предмет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ей), а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ыработ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ы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озволяющ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действова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овы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неопределен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блем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ситуация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для которых заранее нельзя наработа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ветствующих средств. Их нужно будет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находи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процессе разрешения подобных ситуац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игать требуемых результа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"/>
          <p:cNvSpPr/>
          <p:nvPr/>
        </p:nvSpPr>
        <p:spPr>
          <a:xfrm rot="5400000">
            <a:off x="4608360" y="1734840"/>
            <a:ext cx="718920" cy="649440"/>
          </a:xfrm>
          <a:prstGeom prst="rightArrow">
            <a:avLst>
              <a:gd name="adj1" fmla="val 50000"/>
              <a:gd name="adj2" fmla="val 2767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1042920" y="260280"/>
            <a:ext cx="777240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971640" y="69228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ТОРИЧЕСКИЙ АСПЕКТ ПРОБЛЕМЫ: ЗАРУБЕЖНЫЙ ОПЫ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187280" y="1268280"/>
            <a:ext cx="3745080" cy="733320"/>
          </a:xfrm>
          <a:prstGeom prst="rect">
            <a:avLst/>
          </a:prstGeom>
          <a:gradFill rotWithShape="0">
            <a:gsLst>
              <a:gs pos="0">
                <a:srgbClr val="d69b80">
                  <a:alpha val="75294"/>
                </a:srgbClr>
              </a:gs>
              <a:gs pos="100000">
                <a:srgbClr val="faf9f6">
                  <a:alpha val="75294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ждународная комиссия ЮНЕСКО (1993 г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ловек 21 века должен научиться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076720" y="1268280"/>
            <a:ext cx="3384720" cy="763560"/>
          </a:xfrm>
          <a:prstGeom prst="rect">
            <a:avLst/>
          </a:prstGeom>
          <a:gradFill rotWithShape="0">
            <a:gsLst>
              <a:gs pos="0">
                <a:srgbClr val="d69b80">
                  <a:alpha val="65098"/>
                </a:srgbClr>
              </a:gs>
              <a:gs pos="100000">
                <a:srgbClr val="faf9f6">
                  <a:alpha val="6901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 Европы (1996 г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исок ключевых компетентност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116000" y="2492280"/>
            <a:ext cx="3600360" cy="3501000"/>
          </a:xfrm>
          <a:prstGeom prst="rect">
            <a:avLst/>
          </a:prstGeom>
          <a:gradFill rotWithShape="0">
            <a:gsLst>
              <a:gs pos="0">
                <a:srgbClr val="d69b80">
                  <a:alpha val="70196"/>
                </a:srgbClr>
              </a:gs>
              <a:gs pos="100000">
                <a:srgbClr val="f9f0ec">
                  <a:alpha val="6901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осуществова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осуществлять совместные проекты, разумно и мирно решать конфликты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читьс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очетать широкие общекультурные знания с глубокими узкопредметным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абота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обретать компетентность, дающую возможность справляться с ситуациями, которые нельзя предвидеть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жи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быть самостоятельным, способным к оценке происходящего, ответственным за свой выбор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003640" y="2492280"/>
            <a:ext cx="3672000" cy="3744360"/>
          </a:xfrm>
          <a:prstGeom prst="rect">
            <a:avLst/>
          </a:prstGeom>
          <a:gradFill rotWithShape="0">
            <a:gsLst>
              <a:gs pos="0">
                <a:srgbClr val="d69b80">
                  <a:alpha val="70196"/>
                </a:srgbClr>
              </a:gs>
              <a:gs pos="100000">
                <a:srgbClr val="f9f0ec">
                  <a:alpha val="70196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итическая и социальная компетентность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ность к жизни в поликультурном мир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муникативная культура ( в том числе владение устной и письменной речью более чем на одном языке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ая грамотность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ность учиться всю жизн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численные компетентности  описывают набор требований к выпускнику школы, которые позволяют ему продолжать обучение или работать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1116000" y="260280"/>
            <a:ext cx="7772400" cy="31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8"/>
          <p:cNvSpPr/>
          <p:nvPr/>
        </p:nvSpPr>
        <p:spPr>
          <a:xfrm rot="5400000">
            <a:off x="2735280" y="216828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9"/>
          <p:cNvSpPr/>
          <p:nvPr/>
        </p:nvSpPr>
        <p:spPr>
          <a:xfrm rot="5400000">
            <a:off x="6480000" y="216828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971640" y="69228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ИСТОРИЧЕСКИЙ АСПЕКТ ПРОБЛЕМЫ: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ПЫТ РОССИИ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187280" y="1125360"/>
            <a:ext cx="3529080" cy="1310760"/>
          </a:xfrm>
          <a:prstGeom prst="rect">
            <a:avLst/>
          </a:prstGeom>
          <a:gradFill rotWithShape="0">
            <a:gsLst>
              <a:gs pos="0">
                <a:srgbClr val="d69b80">
                  <a:alpha val="78039"/>
                </a:srgbClr>
              </a:gs>
              <a:gs pos="100000">
                <a:srgbClr val="faf9f6">
                  <a:alpha val="78039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Стратегия модернизации содержания общего образования»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список ключевых компетентнос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932360" y="1125360"/>
            <a:ext cx="3672000" cy="1310760"/>
          </a:xfrm>
          <a:prstGeom prst="rect">
            <a:avLst/>
          </a:prstGeom>
          <a:gradFill rotWithShape="0">
            <a:gsLst>
              <a:gs pos="0">
                <a:srgbClr val="d69b80">
                  <a:alpha val="74117"/>
                </a:srgbClr>
              </a:gs>
              <a:gs pos="100000">
                <a:srgbClr val="faf9f6">
                  <a:alpha val="74117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Ключевые компетентно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в формулировке теоретиков компетентностного подход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187280" y="2924280"/>
            <a:ext cx="3600720" cy="3257640"/>
          </a:xfrm>
          <a:prstGeom prst="rect">
            <a:avLst/>
          </a:prstGeom>
          <a:gradFill rotWithShape="0">
            <a:gsLst>
              <a:gs pos="0">
                <a:srgbClr val="d69b80">
                  <a:alpha val="75294"/>
                </a:srgbClr>
              </a:gs>
              <a:gs pos="100000">
                <a:srgbClr val="f9f0ec">
                  <a:alpha val="75294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етентность в 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сфере самостоятельной познавательной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основана на усвоении способов приобретения знаний из различных источников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етентность 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в сфере гражданско-общественной жизн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етентность в сфере социально-трудовой деятельност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етентность в бытовой сфер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етентность в сфере культурно-досуговой деятельност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003640" y="2924280"/>
            <a:ext cx="3672000" cy="3257640"/>
          </a:xfrm>
          <a:prstGeom prst="rect">
            <a:avLst/>
          </a:prstGeom>
          <a:gradFill rotWithShape="0">
            <a:gsLst>
              <a:gs pos="0">
                <a:srgbClr val="d69b80">
                  <a:alpha val="73333"/>
                </a:srgbClr>
              </a:gs>
              <a:gs pos="100000">
                <a:srgbClr val="faf9f6">
                  <a:alpha val="67058"/>
                </a:srgbClr>
              </a:gs>
            </a:gsLst>
            <a:lin ang="5400000"/>
          </a:gradFill>
          <a:ln w="9360">
            <a:solidFill>
              <a:srgbClr val="d69b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имать и объяснять явления действительност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трудничать с другими людьм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ять собственной жизнью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ентироваться в человеческих ценностя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стоятельно учиться на протяжении всей жиз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А.В.Баранников, В.А.Болотов, И.А.Зимняя, В.В.Краевский, О.Е.Лебедев, С.Д. Поляков, В.В.Сериков, М.А.Холодная, А.В.Хуторской, Т.И.Шамова, др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116000" y="260280"/>
            <a:ext cx="7772400" cy="31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0a1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УЩНОСТЬ КОМПЕТЕНТНОСТНОГО ПОДХОДА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В ОБРАЗОВА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0"/>
          <p:cNvSpPr/>
          <p:nvPr/>
        </p:nvSpPr>
        <p:spPr>
          <a:xfrm rot="5400000">
            <a:off x="2735280" y="26002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1"/>
          <p:cNvSpPr/>
          <p:nvPr/>
        </p:nvSpPr>
        <p:spPr>
          <a:xfrm rot="5400000">
            <a:off x="6551640" y="26002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Национальный план действий </a:t>
            </a:r>
            <a:br>
              <a:rPr sz="2400"/>
            </a:br>
            <a:r>
              <a:rPr b="1" lang="ru-RU" sz="2400" spc="-1" strike="noStrike">
                <a:solidFill>
                  <a:srgbClr val="482400"/>
                </a:solidFill>
                <a:latin typeface="Times New Roman"/>
              </a:rPr>
              <a:t>на 2012-2016 г по формированию функциональной грамотности у школьников</a:t>
            </a:r>
            <a:endParaRPr b="0" i="1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стоящий Национальный план действий на 2012-2016 годы по развитию функциональной грамотности школьников   описывает комплекс мероприятий в Республике Казахстан в нормативной, учебно-методической, информационной областях, системах подготовки и повышения квалификации педагогических кадров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циональный план описывает модель развития системы школьного образования Казахстана на 5-летний период, в котором заинтересованы различные группы общества как внутри, так и вне ее грани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циональный план направлен на позиционирование отечественного образования как фактора прогресса Казахстана, как фундамента и капитала процветания нации, личностного и социального успеха гражда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2400"/>
                </a:solidFill>
                <a:latin typeface="Times New Roman"/>
              </a:rPr>
              <a:t>Национальный план действий </a:t>
            </a:r>
            <a:br>
              <a:rPr sz="3200"/>
            </a:br>
            <a:r>
              <a:rPr b="1" lang="ru-RU" sz="3200" spc="-1" strike="noStrike">
                <a:solidFill>
                  <a:srgbClr val="482400"/>
                </a:solidFill>
                <a:latin typeface="Times New Roman"/>
              </a:rPr>
              <a:t>на 2012-2016 г по формированию </a:t>
            </a:r>
            <a:r>
              <a:rPr b="1" lang="ru-RU" sz="2800" spc="-1" strike="noStrike">
                <a:solidFill>
                  <a:srgbClr val="482400"/>
                </a:solidFill>
                <a:latin typeface="Times New Roman"/>
              </a:rPr>
              <a:t>функциональной</a:t>
            </a:r>
            <a:r>
              <a:rPr b="1" lang="ru-RU" sz="3200" spc="-1" strike="noStrike">
                <a:solidFill>
                  <a:srgbClr val="482400"/>
                </a:solidFill>
                <a:latin typeface="Times New Roman"/>
              </a:rPr>
              <a:t> грамотности у школьников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5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т возможности образования в развитии толерантности, уважения к культурному многообразию, в обеспечении устойчивого развития и безопасности личности, обществу и государству (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разование для мира и согласия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  качественные образовательные услуги должны быть доступны для всех казахстанцев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бразование для всех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  содержание образования должно способствовать профессиональной ориентации, саморазвитию и карьерному росту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бразование для жизни и труд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  образование должно быть инструментом становления, сотворения и развития собственной личности и индивидуальност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бразование в течение всей жизни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   полноценной социализации личности в процессе образования будет способствовать партнерство всего сообщества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бразование как открытая система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07:28:29Z</dcterms:created>
  <dc:creator>tabolina</dc:creator>
  <dc:description/>
  <dc:language>en-US</dc:language>
  <cp:lastModifiedBy>1</cp:lastModifiedBy>
  <dcterms:modified xsi:type="dcterms:W3CDTF">2013-11-07T03:40:45Z</dcterms:modified>
  <cp:revision>110</cp:revision>
  <dc:subject/>
  <dc:title>Слайд 1</dc:title>
</cp:coreProperties>
</file>