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337-9CA3-45E8-8558-C7114D9F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441-B252-4C09-8EEC-427AAB01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237-41E2-4063-ACAF-A23A6F71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7B2-0A55-41FE-B053-43616FB1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F2F6-9A93-4262-87E3-FE8F1769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4A5A-C875-45DC-AE31-E33F6DCD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43A3-9DBC-4CE1-B3DD-2E48CCD0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240A-4B17-4F6B-AD74-5E22326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7DFB-4AEC-4E54-9167-C33A3A6A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8AF1-64FC-48EB-9E76-87797EB5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CC82-A748-4E3B-B84E-41E7C4D2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59A-FA40-4ED2-9371-F8AD3854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FFED-70EE-4465-9EE2-1B09456C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D341-C5FA-4DAB-AC1B-33963F5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9853-85F9-4227-9E16-039BB871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3600-2FD3-486C-AD30-0CF234EC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268B-0BDC-423F-BE69-B5A90E76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7C6-1320-44FB-8753-AAA2351D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894-7953-488C-A2EE-6560B5F7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708-A5E3-41F1-B1D4-0807C758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D00-5C85-4D78-9D3C-83C856ED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AFF-597F-4F45-916E-43F3C366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BE4-F4EB-4BC1-B0BA-3A074A60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CF1-1972-4716-B6F5-2B3C6F57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7721-6465-4A9D-A8BB-2869C08AC7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2409-C619-459D-94F6-DADC8A2923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252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Предмет химии. Веществ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водный инструктаж по технике безопасно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8072280" cy="22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Химия -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это наука о веществах и их превращениях.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6400" y="2999880"/>
            <a:ext cx="8607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Вещество – это, то из  чего состоит тело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9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з данного перечня выпишите отдельно вещества и тела.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Стакан, кислород, ключ, лед, ртуть, свеча, вода, железо, гипс, керамические трубы, учебник, статуя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3716280"/>
          <a:ext cx="8229600" cy="2952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99"/>
                </a:solidFill>
                <a:latin typeface="Arial"/>
              </a:rPr>
              <a:t>Задачи химии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зучить вещество и его свойства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гнозировать использование веществ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лучение различных веществ, необходимых в народном хозяйств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0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характеристики веще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9280" y="1125360"/>
          <a:ext cx="8713800" cy="5513400"/>
        </p:xfrm>
        <a:graphic>
          <a:graphicData uri="http://schemas.openxmlformats.org/drawingml/2006/table">
            <a:tbl>
              <a:tblPr/>
              <a:tblGrid>
                <a:gridCol w="2376720"/>
                <a:gridCol w="1981080"/>
                <a:gridCol w="2178000"/>
                <a:gridCol w="2178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рав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ах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пир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Агрегатн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в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Зап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Бле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Тверд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ластич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Растворимость в вод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 1 (пересказ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Упражнение № 13, 17 (письменно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3 тонкие тетради в клетку (в обложке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2:19:25Z</dcterms:created>
  <dc:creator>soltek</dc:creator>
  <dc:description/>
  <dc:language>en-US</dc:language>
  <cp:lastModifiedBy> </cp:lastModifiedBy>
  <dcterms:modified xsi:type="dcterms:W3CDTF">2009-09-04T01:54:34Z</dcterms:modified>
  <cp:revision>9</cp:revision>
  <dc:subject/>
  <dc:title>Предмет химии. Вещества.</dc:title>
</cp:coreProperties>
</file>