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F23-0D6B-4DE6-95C0-7DF4410D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E38-E179-413C-9430-173D172D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7358-A50A-46CF-91B9-159B6325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15EF-A2DB-4E6D-AC11-D14F4F3B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473-5989-4715-B204-BBA3CDFA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C59-6FFD-483E-89E6-8ACAB75B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BFE-342A-47B9-8DE3-D8680075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EE42-BCA5-4E67-966D-305F8B8D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1C6-6E62-427D-9F57-C983BFDE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943-F2EE-4C5E-903F-77AFAEB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339-B8B7-4FC4-94DE-26FC5FD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363-2278-4AC1-B685-6098CE32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CAF-283C-4934-BF74-8AA66AC79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 стрелкой 12"/>
          <p:cNvCxnSpPr>
            <a:stCxn id="50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Прямая со стрелкой 13"/>
          <p:cNvCxnSpPr>
            <a:endCxn id="45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5"/>
          <p:cNvCxnSpPr>
            <a:endCxn id="47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7"/>
          <p:cNvCxnSpPr>
            <a:endCxn id="48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Прямая со стрелкой 52"/>
          <p:cNvCxnSpPr>
            <a:endCxn id="50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6"/>
          <p:cNvCxnSpPr>
            <a:stCxn id="76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8"/>
          <p:cNvCxnSpPr>
            <a:endCxn id="72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30"/>
          <p:cNvCxnSpPr>
            <a:endCxn id="74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7"/>
          <p:cNvCxnSpPr>
            <a:stCxn id="82" idx="4"/>
            <a:endCxn id="76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50"/>
          <p:cNvCxnSpPr>
            <a:endCxn id="83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12"/>
          <p:cNvCxnSpPr>
            <a:stCxn id="99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2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5"/>
          <p:cNvCxnSpPr>
            <a:stCxn id="99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7"/>
          <p:cNvCxnSpPr>
            <a:endCxn id="99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09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2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51"/>
          <p:cNvCxnSpPr>
            <a:stCxn id="98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6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1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2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Пользователь</cp:lastModifiedBy>
  <dcterms:modified xsi:type="dcterms:W3CDTF">2014-11-27T05:51:32Z</dcterms:modified>
  <cp:revision>19</cp:revision>
  <dc:subject/>
  <dc:title>Операторные скобки Сложные условия</dc:title>
</cp:coreProperties>
</file>