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CDF-E106-472C-9987-8BFFB0B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DB9-321B-4865-A711-10B44CA2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EBF-180F-4AC2-AD4D-9CB0B0DC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96F-984A-4E3E-8B85-D8B3AB48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F5F-AE01-4240-B436-C2A5E634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652-AC87-41F9-B5A0-B30A4D2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886-B60E-4A22-80A9-EF3E2EE0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8E1-C9CC-4CB9-AF8B-3AF0886F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CC3-77B4-4B9A-9BAA-DA42AB8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271-4413-4301-9A0D-0E5E20F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DC1-9051-493D-986F-2EE918AA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7CC-1779-4F37-9595-8B8CC41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BE51-58AA-477F-AC6A-F32BF0D7B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0:29:06Z</dcterms:created>
  <dc:creator>User</dc:creator>
  <dc:description/>
  <dc:language>en-US</dc:language>
  <cp:lastModifiedBy>User</cp:lastModifiedBy>
  <dcterms:modified xsi:type="dcterms:W3CDTF">2008-06-16T10:41:50Z</dcterms:modified>
  <cp:revision>4</cp:revision>
  <dc:subject/>
  <dc:title>Слайд 1</dc:title>
</cp:coreProperties>
</file>