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8.png" ContentType="image/pn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76120" y="1233000"/>
            <a:ext cx="4444920" cy="333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8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8720"/>
            <a:ext cx="29462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E38D-8064-4163-955A-9CDF48183B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674A-92AB-4E26-9D13-51D30B56A1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3E09-69DB-44E8-B3D8-21BC071943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C25C-499A-4822-9BEB-C8A8643D3A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A17B-5FE2-4970-BA7B-BDC4B7331E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63EA-52EF-4138-BB15-653F496625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413A-08AE-4333-82F6-BF6B3972CC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9E21-5282-4A15-8214-D2E5DADBF2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2C77-2AA2-4D4F-9E33-5065102228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75D4-218D-49E4-89DE-05DEFCD87E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B864-9854-47C4-AF5A-71728C4276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7E36-8DD5-49C6-864E-1FDB18C79C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B3A8-B173-4722-AEF7-8E00FFB49C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901B-9352-4876-86B2-5915112826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443B-06CE-41DF-BB5D-4E3A0A379F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F02F-8391-4C98-88E7-98C7F3AEC1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0A40-0AE9-4B76-B3FF-49E7A60171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A6FF-F649-4122-AF21-D1F57375D5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76480" y="1233360"/>
            <a:ext cx="4444920" cy="33339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51280"/>
            <a:ext cx="54388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49840" y="9379080"/>
            <a:ext cx="29462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927D-ECE6-41F8-8AC3-C287E63215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921D-3231-4375-9D45-23BD8013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ED0-CB34-4575-B997-574FB0CF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C940-629A-474C-8CF0-4843F776B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D6D6-DF21-4BDB-A535-B63826F3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A7DD-65FE-4E46-A725-3BAECC5D7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5388-711B-49FB-8FB7-6727577E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0A3A-71E4-4892-A587-6DBEBD80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5231-F975-4912-B8CD-DFBE2875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CA73-42A6-49CA-9FFC-284D1C66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995C-9EA9-413A-AC3C-71700BB2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FCFC-5FDD-4866-90A2-72D92076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6C3-8597-4F81-B462-B8EFC239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99A9-5F20-4D49-A685-0611CFDB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4FC3-7EDF-427A-AE46-B437D0F6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BFAA6-0E90-473A-A58C-F88CFC85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75A6-CC82-48CD-95F9-01E6D090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DCF5-200B-4766-AD67-1A10412D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6939-FC05-4354-B355-3A843932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399B-E97E-4DF2-BC8C-BFF4892E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344-2E5A-4D7A-AC53-89D00925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379-E58F-4B55-943F-40D93FDC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D58-CCAE-4B5B-B32F-43D86FCF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017-CA0C-41BE-AF07-47E24DBD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981-C6E2-429E-8134-ED02DF52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EA72-32CB-4367-B274-5B563B02453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F809-41EA-4115-8706-7EC5BDF1C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F8A7-2018-4C96-AD9D-4A7FB922B04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4356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780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A951-D428-4DFF-96E1-911B6D508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3440" y="1618920"/>
            <a:ext cx="7772400" cy="30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Итоговая аттестация выпускников школ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2017 год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1436760" y="355680"/>
            <a:ext cx="75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инистерство образования и науки Республики Казахст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2813760" y="6097680"/>
            <a:ext cx="31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Астана, </a:t>
            </a:r>
            <a:r>
              <a:rPr b="0" lang="kk-KZ" sz="1800" spc="-1" strike="noStrike">
                <a:solidFill>
                  <a:srgbClr val="002060"/>
                </a:solidFill>
                <a:latin typeface="Arial"/>
                <a:ea typeface="Arial"/>
              </a:rPr>
              <a:t>февраль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2017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http://www.mga.kz/uploads/posts/2011-09/1315811957_gerbrk.gif"/>
          <p:cNvPicPr/>
          <p:nvPr/>
        </p:nvPicPr>
        <p:blipFill>
          <a:blip r:embed="rId1"/>
          <a:stretch/>
        </p:blipFill>
        <p:spPr>
          <a:xfrm>
            <a:off x="379440" y="328680"/>
            <a:ext cx="826920" cy="815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Картинки по запросу картинки выпускные экзамены школьников в Казахстане"/>
          <p:cNvPicPr/>
          <p:nvPr/>
        </p:nvPicPr>
        <p:blipFill>
          <a:blip r:embed="rId2"/>
          <a:stretch/>
        </p:blipFill>
        <p:spPr>
          <a:xfrm>
            <a:off x="2801880" y="3336840"/>
            <a:ext cx="35751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415800" y="1294560"/>
            <a:ext cx="460548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одолжительность экзамена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астрономических час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(без учета инструктажа обучающихся, выдачи экзаменационных материалов, заполнения титульного листа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2"/>
          <p:cNvSpPr/>
          <p:nvPr/>
        </p:nvSpPr>
        <p:spPr>
          <a:xfrm>
            <a:off x="3673440" y="4960800"/>
            <a:ext cx="521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Темы для эссе будут определяться Министерством образования и науки РК и будут опубликованы в открытой печа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позднее 10 марта (100 тем, включая 10 тем, выносимых на экзамен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Прямоугольник 3"/>
          <p:cNvGrpSpPr/>
          <p:nvPr/>
        </p:nvGrpSpPr>
        <p:grpSpPr>
          <a:xfrm>
            <a:off x="622440" y="281160"/>
            <a:ext cx="2736720" cy="614160"/>
            <a:chOff x="622440" y="281160"/>
            <a:chExt cx="2736720" cy="614160"/>
          </a:xfrm>
        </p:grpSpPr>
        <p:pic>
          <p:nvPicPr>
            <p:cNvPr id="135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622440" y="281160"/>
              <a:ext cx="2736720" cy="6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39720" y="295200"/>
              <a:ext cx="270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Э С С Е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Прямоугольник 4"/>
          <p:cNvSpPr/>
          <p:nvPr/>
        </p:nvSpPr>
        <p:spPr>
          <a:xfrm>
            <a:off x="398520" y="4203720"/>
            <a:ext cx="8512200" cy="39888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нверты с темами эссе вскрываются за 15 минут до начала экзам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365040" y="3240000"/>
            <a:ext cx="8529840" cy="70380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На выбор выпускников будут предложе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тем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ять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литературных и </a:t>
            </a:r>
            <a:r>
              <a:rPr b="1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ять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свободны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7" descr="Картинки по запросу картинки на тему эссе"/>
          <p:cNvPicPr/>
          <p:nvPr/>
        </p:nvPicPr>
        <p:blipFill>
          <a:blip r:embed="rId2"/>
          <a:stretch/>
        </p:blipFill>
        <p:spPr>
          <a:xfrm>
            <a:off x="5167440" y="190440"/>
            <a:ext cx="3768480" cy="282744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9"/>
          <p:cNvSpPr/>
          <p:nvPr/>
        </p:nvSpPr>
        <p:spPr>
          <a:xfrm>
            <a:off x="771480" y="5302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мая 2017 года 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(ориентировоч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388800" y="1610280"/>
            <a:ext cx="8467920" cy="454356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Эссе оценивается </a:t>
            </a:r>
            <a:r>
              <a:rPr b="1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вумя оценками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ценивается уровень сформированности следующих ум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Calibri"/>
              </a:rPr>
              <a:t>создавать текст в соответствии с заданной тем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Arial"/>
              </a:rPr>
              <a:t>логично излагать мысли, выстраивая тезисно-доказательную часть эссе- рассужд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Arial"/>
              </a:rPr>
              <a:t>подбирать убедительные аргументы, создавая аргументированное высказывание; выявлять отношение автора к поставленным проблемам,  сопоставлять свою позицию с другой точкой зр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Arial"/>
              </a:rPr>
              <a:t>осуществлять выбор языковых средств в соответствии с родом, жанром и темой эсс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Arial"/>
              </a:rPr>
              <a:t>оформлять текст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в соответствии с нормами литературного язы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Прямоугольник 2"/>
          <p:cNvGrpSpPr/>
          <p:nvPr/>
        </p:nvGrpSpPr>
        <p:grpSpPr>
          <a:xfrm>
            <a:off x="1274760" y="480960"/>
            <a:ext cx="6662880" cy="866880"/>
            <a:chOff x="1274760" y="480960"/>
            <a:chExt cx="6662880" cy="866880"/>
          </a:xfrm>
        </p:grpSpPr>
        <p:pic>
          <p:nvPicPr>
            <p:cNvPr id="14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74760" y="480960"/>
              <a:ext cx="66628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287360" y="498600"/>
              <a:ext cx="6637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Оценивание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Родной язык и литература (эссе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"/>
          <p:cNvSpPr/>
          <p:nvPr/>
        </p:nvSpPr>
        <p:spPr>
          <a:xfrm>
            <a:off x="298440" y="1541160"/>
            <a:ext cx="8686800" cy="31417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2610000"/>
                <a:tab algn="l" pos="3738600"/>
                <a:tab algn="l" pos="4502160"/>
                <a:tab algn="l" pos="570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езультирующие  баллы  за экзаменационную  работу   определяются,   исходя  из следующих положе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977760"/>
                <a:tab algn="l" pos="2610000"/>
                <a:tab algn="l" pos="3738600"/>
                <a:tab algn="l" pos="4502160"/>
                <a:tab algn="l" pos="570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Calibri"/>
              </a:rPr>
              <a:t>если баллы, выставленные как минимум двумя экзаменаторами, совпали, то эти баллы являются окончательны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977760"/>
                <a:tab algn="l" pos="2610000"/>
                <a:tab algn="l" pos="3738600"/>
                <a:tab algn="l" pos="4502160"/>
                <a:tab algn="l" pos="570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Arial"/>
              </a:rPr>
              <a:t>если установлено несущественное расхождение в баллах, выставленных двумя экзаменаторами, то окончательные баллы определяются как среднее арифметическое баллов двух экзаменаторов с округлением в соответствии с правилами округления чисе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Aft>
                <a:spcPts val="1199"/>
              </a:spcAft>
              <a:buClr>
                <a:srgbClr val="1f4e79"/>
              </a:buClr>
              <a:buFont typeface="Times New Roman"/>
              <a:buChar char="•"/>
              <a:tabLst>
                <a:tab algn="l" pos="977760"/>
                <a:tab algn="l" pos="2610000"/>
                <a:tab algn="l" pos="3738600"/>
                <a:tab algn="l" pos="4502160"/>
                <a:tab algn="l" pos="570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Arial"/>
              </a:rPr>
              <a:t>если установлено существенное расхождение в баллах, выставленных двумя экзаменаторами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, то назначается дополнительная (третья) провер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2"/>
          <p:cNvSpPr/>
          <p:nvPr/>
        </p:nvSpPr>
        <p:spPr>
          <a:xfrm>
            <a:off x="423720" y="5027760"/>
            <a:ext cx="8561520" cy="70380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7760"/>
                <a:tab algn="l" pos="2610000"/>
                <a:tab algn="l" pos="3738600"/>
                <a:tab algn="l" pos="4502160"/>
                <a:tab algn="l" pos="570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енным расхождением в баллах, выставленных двумя экзаменаторами, является расхождение в 7 и более балл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298440" y="262080"/>
            <a:ext cx="8686800" cy="70380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2610000"/>
                <a:tab algn="l" pos="3738600"/>
                <a:tab algn="l" pos="4502160"/>
                <a:tab algn="l" pos="570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Times New Roman"/>
                <a:ea typeface="Calibri"/>
              </a:rPr>
              <a:t>Экзаменационная  работа оценивается путем сложения баллов по всем критериям и их перевода в пятибалльную систему оцени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2"/>
          <p:cNvGrpSpPr/>
          <p:nvPr/>
        </p:nvGrpSpPr>
        <p:grpSpPr>
          <a:xfrm>
            <a:off x="103320" y="262080"/>
            <a:ext cx="8723160" cy="738000"/>
            <a:chOff x="103320" y="262080"/>
            <a:chExt cx="8723160" cy="738000"/>
          </a:xfrm>
        </p:grpSpPr>
        <p:pic>
          <p:nvPicPr>
            <p:cNvPr id="149" name="Rectangle 2" descr=""/>
            <p:cNvPicPr/>
            <p:nvPr/>
          </p:nvPicPr>
          <p:blipFill>
            <a:blip r:embed="rId1"/>
            <a:stretch/>
          </p:blipFill>
          <p:spPr>
            <a:xfrm>
              <a:off x="103320" y="262080"/>
              <a:ext cx="8723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19160" y="281520"/>
              <a:ext cx="869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Шкала пересчета балла за эссе в отметку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по пятибалльной системе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Прямая соединительная линия 9"/>
          <p:cNvSpPr/>
          <p:nvPr/>
        </p:nvSpPr>
        <p:spPr>
          <a:xfrm>
            <a:off x="193680" y="3683160"/>
            <a:ext cx="8694720" cy="25200"/>
          </a:xfrm>
          <a:prstGeom prst="line">
            <a:avLst/>
          </a:prstGeom>
          <a:ln w="381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7"/>
          <p:cNvSpPr/>
          <p:nvPr/>
        </p:nvSpPr>
        <p:spPr>
          <a:xfrm>
            <a:off x="182520" y="1770120"/>
            <a:ext cx="8696520" cy="1465560"/>
          </a:xfrm>
          <a:prstGeom prst="rect">
            <a:avLst/>
          </a:prstGeom>
          <a:noFill/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лучае несогласия с оценкой, выставленной за экзамен, обучающийся имеет возможность обратиться до 13 часов следующего дня после объявления экзаменационной оценки в Экзаменационную комиссию по итоговой аттестации обучающихся </a:t>
            </a:r>
            <a:r>
              <a:rPr b="1" i="1" lang="kk-KZ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алее – Комиссия)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созданную при районных, городских отделах образования и областных управлениях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5360" y="4290840"/>
          <a:ext cx="8609040" cy="946440"/>
        </p:xfrm>
        <a:graphic>
          <a:graphicData uri="http://schemas.openxmlformats.org/drawingml/2006/table">
            <a:tbl>
              <a:tblPr/>
              <a:tblGrid>
                <a:gridCol w="5102280"/>
                <a:gridCol w="876240"/>
                <a:gridCol w="878040"/>
                <a:gridCol w="874800"/>
                <a:gridCol w="877680"/>
              </a:tblGrid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метка по пятибалльной системе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0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Грамо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0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"/>
          <p:cNvSpPr/>
          <p:nvPr/>
        </p:nvSpPr>
        <p:spPr>
          <a:xfrm>
            <a:off x="3645000" y="1807560"/>
            <a:ext cx="5499000" cy="161856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личество заданий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заданий для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заданий для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МН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 классов физико-математических школ (углубленное изучение математики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38160" y="3461400"/>
            <a:ext cx="9144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Задания направлены на выявление степени усвоения теоретического материала, понятий и приемов, умения решать задачи, уровня функциональной грамот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Экзаменационные задания составлены согласно направлению обучения (естественно-математического направление, общественно-гуманитарное направление, углубленное изучение математик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одержание экзаменационных заданий охватывает все главы учебной программы для 10-11 классов по алгебре и началам анализа соответственно направлению обуч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Прямоугольник 3"/>
          <p:cNvGrpSpPr/>
          <p:nvPr/>
        </p:nvGrpSpPr>
        <p:grpSpPr>
          <a:xfrm>
            <a:off x="414360" y="353880"/>
            <a:ext cx="8059680" cy="493920"/>
            <a:chOff x="414360" y="353880"/>
            <a:chExt cx="8059680" cy="493920"/>
          </a:xfrm>
        </p:grpSpPr>
        <p:pic>
          <p:nvPicPr>
            <p:cNvPr id="15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414360" y="353880"/>
              <a:ext cx="8059680" cy="4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31640" y="368280"/>
              <a:ext cx="802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Письменный экзамен по</a:t>
              </a:r>
              <a:r>
                <a:rPr b="1" lang="ru-RU" sz="24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4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алгебре и началам анализа</a:t>
              </a:r>
              <a:r>
                <a:rPr b="1" lang="ru-RU" sz="24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" name="Прямоугольник 4"/>
          <p:cNvSpPr/>
          <p:nvPr/>
        </p:nvSpPr>
        <p:spPr>
          <a:xfrm>
            <a:off x="406440" y="1028880"/>
            <a:ext cx="3695760" cy="70380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одолжительность экзамена –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астрономических ча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3" descr="Похожее изображение"/>
          <p:cNvPicPr/>
          <p:nvPr/>
        </p:nvPicPr>
        <p:blipFill>
          <a:blip r:embed="rId2"/>
          <a:stretch/>
        </p:blipFill>
        <p:spPr>
          <a:xfrm>
            <a:off x="1008000" y="2052720"/>
            <a:ext cx="18669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127080" y="222120"/>
            <a:ext cx="8940600" cy="173988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5072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заменационные задания </a:t>
            </a:r>
            <a:r>
              <a:rPr b="0" lang="kk-KZ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онтрольной работы составлены по разделам «Вычисления», «Тождественные преобразования», «Уравнения и их системы», «Неравенства и их системы», «Функция и ее график», «Текстовые задачи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кстовые задачи </a:t>
            </a:r>
            <a:r>
              <a:rPr b="0" lang="kk-KZ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ключают задачи на нахождение площади плоских фигур и объема тел, нахождение наибольшего и наименьшего значения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127080" y="4186080"/>
            <a:ext cx="8940600" cy="256284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аспределение экзменационных задани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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ГН – 5 заданий: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задания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, одно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–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,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дно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–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(3А + 1В+1С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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ЕМН – 6 заданий: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задания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–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дно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задание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(3А + 2В + 1С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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лассы физико-математических школ –  6 заданий: одно 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,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три –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, два – уровн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(1А + 3В + 2С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Рисунки, графики, таблицы и пр. выполняются ручк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127080" y="2193840"/>
            <a:ext cx="8940600" cy="201420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се задания делятся на  уровни </a:t>
            </a:r>
            <a:r>
              <a:rPr b="1" lang="kk-KZ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, В, С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выполнения заданий уровня А ученики должны владеть базовыми знаниями и навыками несложных вычислений и преобразований, стандартными приемами решения зада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ровень В – задания среднего уровня слож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выполнения заданий уровня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Calibri"/>
              </a:rPr>
              <a:t>С ученики должны владеть  глубокими и прочными теоретическими знаниями в объеме, предусмотрен­ном учебной программ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19160" y="906480"/>
          <a:ext cx="8915400" cy="5624640"/>
        </p:xfrm>
        <a:graphic>
          <a:graphicData uri="http://schemas.openxmlformats.org/drawingml/2006/table">
            <a:tbl>
              <a:tblPr/>
              <a:tblGrid>
                <a:gridCol w="2227320"/>
                <a:gridCol w="2228760"/>
                <a:gridCol w="2228760"/>
                <a:gridCol w="2230560"/>
              </a:tblGrid>
              <a:tr h="280800"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метка 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метка «</a:t>
                      </a:r>
                      <a:r>
                        <a:rPr b="1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метка «</a:t>
                      </a:r>
                      <a:r>
                        <a:rPr b="1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метка «</a:t>
                      </a:r>
                      <a:r>
                        <a:rPr b="1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абота выполнена полностью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5 (ОГН), 6(ЕМН, углубленное изучение)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В работе выполнено правильно 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 (ОГН), 4 или 5 (ЕМН, углубленное изучение) заданий (вне зависимости от уровня слож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В р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аботе выполнено </a:t>
                      </a: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правильно не менее 3 зада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(вне зависимости от уровня сложнос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Не выполнено больше половины задан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316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 решении нет математических ошибо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пущена одна ошибка или два-три недочета в преобразованиях и вычислениях, рисунках, чертежах или графика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пущены </a:t>
                      </a: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две-три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 ошибки или три-четыре недочета в выкладках, чертежах или графиках, но учащийся владеет обязательными знаниями и умения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пущено более трех ошибок, показывающих, что учащийся не владеет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бязательными знаниями и умениями по данной теме в полной ме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Логичность и полнота изложения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дельные неточности в изложении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дельные нарушения логики изложения материала, неполнота раскрытия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Нарушена логика изложения материал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" name="Rectangle 1"/>
          <p:cNvGrpSpPr/>
          <p:nvPr/>
        </p:nvGrpSpPr>
        <p:grpSpPr>
          <a:xfrm>
            <a:off x="103320" y="249120"/>
            <a:ext cx="8759520" cy="433440"/>
            <a:chOff x="103320" y="249120"/>
            <a:chExt cx="8759520" cy="433440"/>
          </a:xfrm>
        </p:grpSpPr>
        <p:pic>
          <p:nvPicPr>
            <p:cNvPr id="166" name="Rectangle 1" descr=""/>
            <p:cNvPicPr/>
            <p:nvPr/>
          </p:nvPicPr>
          <p:blipFill>
            <a:blip r:embed="rId1"/>
            <a:stretch/>
          </p:blipFill>
          <p:spPr>
            <a:xfrm>
              <a:off x="103320" y="249120"/>
              <a:ext cx="875952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19160" y="265680"/>
              <a:ext cx="872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85723"/>
                  </a:solidFill>
                  <a:latin typeface="Times New Roman"/>
                  <a:ea typeface="Times New Roman"/>
                </a:rPr>
                <a:t>«Алгебра и начала анализа» </a:t>
              </a:r>
              <a:r>
                <a:rPr b="1" i="1" lang="kk-KZ" sz="20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 критериии оценивани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200400" y="1005840"/>
            <a:ext cx="5791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30 билетов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вопроса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1-й и 2-й  вопросы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одержат материалы курса истории Казахстана с древнейших времен до сегодняшнего дн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3-й  вопрос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– задания практического  характера (работа с исторической картой,  терминологией, характеристика исторической личнос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0" y="4425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f4e79"/>
                </a:solidFill>
                <a:uFillTx/>
                <a:latin typeface="Times New Roman"/>
                <a:ea typeface="Times New Roman"/>
              </a:rPr>
              <a:t>Если обучающийся не ответил на вопросы по билету, Комиссия разрешает ему взять второй билет (оценка в данном случае снижается на 1 балл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241200" y="311040"/>
            <a:ext cx="8674200" cy="398880"/>
          </a:xfrm>
          <a:prstGeom prst="rect">
            <a:avLst/>
          </a:prstGeom>
          <a:solidFill>
            <a:srgbClr val="deebf7"/>
          </a:solidFill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стный экзамен по истории Казахст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Прямоугольник 4"/>
          <p:cNvSpPr/>
          <p:nvPr/>
        </p:nvSpPr>
        <p:spPr>
          <a:xfrm>
            <a:off x="241200" y="5486400"/>
            <a:ext cx="8750520" cy="100872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спользование на экзамене современных технических средств и приспособлений запрещается. Все необходимые дополнительные материалы (карты, схемы, таблицы и т.д.) готовит учител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469800" y="3807000"/>
            <a:ext cx="8521920" cy="398880"/>
          </a:xfrm>
          <a:prstGeom prst="rect">
            <a:avLst/>
          </a:prstGeom>
          <a:solidFill>
            <a:srgbClr val="deebf7"/>
          </a:solidFill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аждому выпускнику отводится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минут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на подготовку отв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3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3" descr="Картинки по запросу картинки на тему экзамены по истории Казахстана"/>
          <p:cNvPicPr/>
          <p:nvPr/>
        </p:nvPicPr>
        <p:blipFill>
          <a:blip r:embed="rId1"/>
          <a:stretch/>
        </p:blipFill>
        <p:spPr>
          <a:xfrm>
            <a:off x="330120" y="1224000"/>
            <a:ext cx="28702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2827440" y="2376360"/>
            <a:ext cx="6146640" cy="3111480"/>
          </a:xfrm>
          <a:prstGeom prst="rect">
            <a:avLst/>
          </a:prstGeom>
          <a:noFill/>
          <a:ln w="936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азовый уровень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знание основных фактов, процессов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 явлений, событий истории Казахстана, периодизации истории Казахста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вышенный уровен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мение анализировать, систематизировать устанавливать причинно-следственные связи событий, характеризовать общественно-политическую ситуацию на основе дополнительных исторических, картографических хронологических источник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бобщать, делать выводы и умозаключ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Картинки по запросу картинки на тему экзамены по истории Казахстана"/>
          <p:cNvPicPr/>
          <p:nvPr/>
        </p:nvPicPr>
        <p:blipFill>
          <a:blip r:embed="rId1"/>
          <a:stretch/>
        </p:blipFill>
        <p:spPr>
          <a:xfrm>
            <a:off x="338040" y="2381400"/>
            <a:ext cx="209556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77" name="Прямоугольник 3"/>
          <p:cNvGrpSpPr/>
          <p:nvPr/>
        </p:nvGrpSpPr>
        <p:grpSpPr>
          <a:xfrm>
            <a:off x="1450800" y="324000"/>
            <a:ext cx="5821560" cy="395280"/>
            <a:chOff x="1450800" y="324000"/>
            <a:chExt cx="5821560" cy="395280"/>
          </a:xfrm>
        </p:grpSpPr>
        <p:pic>
          <p:nvPicPr>
            <p:cNvPr id="178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450800" y="324000"/>
              <a:ext cx="58215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463760" y="336600"/>
              <a:ext cx="57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32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Оценивание. История Казахстана</a:t>
              </a:r>
              <a:r>
                <a:rPr b="0" lang="ru-RU" sz="18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Прямоугольник 5"/>
          <p:cNvSpPr/>
          <p:nvPr/>
        </p:nvSpPr>
        <p:spPr>
          <a:xfrm>
            <a:off x="262080" y="9428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Требования к оцениванию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-го и 2-го вопросов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, каждый из которых оценивается максимально в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баллов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азовый уровень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твета – 1-6 балл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450720" algn="just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вышенный уровень </a:t>
            </a: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твета – 7-10 балл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595440" y="480600"/>
            <a:ext cx="8099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ритерии оценивания ответа на 3-й вопрос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локализация объектов и событий на исторической кар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мение отображать исторические факты и события в схемах и составление хронологических таблиц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сторическая характеристика личности и оценка его рол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Times New Roman"/>
              <a:buChar char="•"/>
              <a:tabLst>
                <a:tab algn="l" pos="20160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мение рассказывать об историческом событии, опираясь на иллюстративный матери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14360" y="2349360"/>
          <a:ext cx="8340840" cy="2840040"/>
        </p:xfrm>
        <a:graphic>
          <a:graphicData uri="http://schemas.openxmlformats.org/drawingml/2006/table">
            <a:tbl>
              <a:tblPr/>
              <a:tblGrid>
                <a:gridCol w="731880"/>
                <a:gridCol w="5838840"/>
                <a:gridCol w="1770120"/>
              </a:tblGrid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Б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бщий уровень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Знание конкретной проблемы и использование исторических источ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5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Логическое и аналитическое мышление, стройность и стиль из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Навыки по раскрытию исторического матери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Способность к конструктивным выводам и умозаключен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06440" y="5581800"/>
          <a:ext cx="8389800" cy="561960"/>
        </p:xfrm>
        <a:graphic>
          <a:graphicData uri="http://schemas.openxmlformats.org/drawingml/2006/table">
            <a:tbl>
              <a:tblPr/>
              <a:tblGrid>
                <a:gridCol w="3809880"/>
                <a:gridCol w="1144800"/>
                <a:gridCol w="1145880"/>
                <a:gridCol w="1144800"/>
                <a:gridCol w="1144440"/>
              </a:tblGrid>
              <a:tr h="280800">
                <a:tc>
                  <a:txBody>
                    <a:bodyPr lIns="0" rIns="0" tIns="0" bIns="0" anchor="t">
                      <a:noAutofit/>
                    </a:bodyPr>
                    <a:p>
                      <a:pPr marL="77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тметка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по пятибал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ьной шка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0" rIns="0" tIns="0" bIns="0" anchor="t">
                      <a:noAutofit/>
                    </a:bodyPr>
                    <a:p>
                      <a:pPr marL="777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Общий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0–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–1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–2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1" lang="ru-RU" sz="1600" spc="-1" strike="noStrike">
                          <a:solidFill>
                            <a:srgbClr val="1f4e7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49"/>
          <p:cNvSpPr/>
          <p:nvPr/>
        </p:nvSpPr>
        <p:spPr>
          <a:xfrm>
            <a:off x="4334040" y="803160"/>
            <a:ext cx="436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e79"/>
                </a:solidFill>
                <a:latin typeface="Arial"/>
              </a:rPr>
              <a:t>Итоговая аттестация обучающихся</a:t>
            </a:r>
            <a:r>
              <a:rPr b="0" lang="ru-RU" sz="1800" spc="-1" strike="noStrike">
                <a:solidFill>
                  <a:srgbClr val="1f4e79"/>
                </a:solidFill>
                <a:latin typeface="Arial"/>
              </a:rPr>
              <a:t> – это  процедура, проводимая с целью определения степени освоения ими объема учебных дисциплин, предусмотренных государственным общеобязательным стандартом соответствующего уровня 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Прямоугольник 49"/>
          <p:cNvGrpSpPr/>
          <p:nvPr/>
        </p:nvGrpSpPr>
        <p:grpSpPr>
          <a:xfrm>
            <a:off x="311040" y="3584520"/>
            <a:ext cx="8425080" cy="689040"/>
            <a:chOff x="311040" y="3584520"/>
            <a:chExt cx="8425080" cy="689040"/>
          </a:xfrm>
        </p:grpSpPr>
        <p:pic>
          <p:nvPicPr>
            <p:cNvPr id="96" name="Прямоугольник 49" descr=""/>
            <p:cNvPicPr/>
            <p:nvPr/>
          </p:nvPicPr>
          <p:blipFill>
            <a:blip r:embed="rId1"/>
            <a:stretch/>
          </p:blipFill>
          <p:spPr>
            <a:xfrm>
              <a:off x="311040" y="3584520"/>
              <a:ext cx="84250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33360" y="3606840"/>
              <a:ext cx="838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f4e79"/>
                  </a:solidFill>
                  <a:latin typeface="Arial"/>
                </a:rPr>
                <a:t>Выпускники школ 2017 года сдают</a:t>
              </a:r>
              <a:r>
                <a:rPr b="0" lang="kk-KZ" sz="1800" spc="-1" strike="noStrike">
                  <a:solidFill>
                    <a:srgbClr val="1f4e79"/>
                  </a:solidFill>
                  <a:latin typeface="Arial"/>
                </a:rPr>
                <a:t> итоговую аттестацию в виде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k-KZ" sz="1800" spc="-1" strike="noStrike">
                  <a:solidFill>
                    <a:srgbClr val="ff0000"/>
                  </a:solidFill>
                  <a:latin typeface="Arial"/>
                </a:rPr>
                <a:t>пяти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 экзамен</a:t>
              </a:r>
              <a:r>
                <a:rPr b="1" i="1" lang="kk-KZ" sz="1800" spc="-1" strike="noStrike">
                  <a:solidFill>
                    <a:srgbClr val="ff0000"/>
                  </a:solidFill>
                  <a:latin typeface="Arial"/>
                </a:rPr>
                <a:t>ов</a:t>
              </a:r>
              <a:r>
                <a:rPr b="0" lang="kk-KZ" sz="1800" spc="-1" strike="noStrike">
                  <a:solidFill>
                    <a:srgbClr val="1f4e79"/>
                  </a:solidFill>
                  <a:latin typeface="Arial"/>
                </a:rPr>
                <a:t>, </a:t>
              </a:r>
              <a:r>
                <a:rPr b="1" i="1" lang="kk-KZ" sz="1800" spc="-1" strike="noStrike">
                  <a:solidFill>
                    <a:srgbClr val="1f4e79"/>
                  </a:solidFill>
                  <a:latin typeface="Arial"/>
                </a:rPr>
                <a:t>один </a:t>
              </a:r>
              <a:r>
                <a:rPr b="0" lang="kk-KZ" sz="1800" spc="-1" strike="noStrike">
                  <a:solidFill>
                    <a:srgbClr val="1f4e79"/>
                  </a:solidFill>
                  <a:latin typeface="Arial"/>
                </a:rPr>
                <a:t>из них –</a:t>
              </a:r>
              <a:r>
                <a:rPr b="0" lang="ru-RU" sz="1800" spc="-1" strike="noStrike">
                  <a:solidFill>
                    <a:srgbClr val="1f4e79"/>
                  </a:solidFill>
                  <a:latin typeface="Arial"/>
                </a:rPr>
                <a:t> </a:t>
              </a:r>
              <a:r>
                <a:rPr b="1" i="1" lang="ru-RU" sz="1800" spc="-1" strike="noStrike">
                  <a:solidFill>
                    <a:srgbClr val="1f4e79"/>
                  </a:solidFill>
                  <a:latin typeface="Arial"/>
                </a:rPr>
                <a:t>по выбору</a:t>
              </a:r>
              <a:r>
                <a:rPr b="0" lang="ru-RU" sz="1800" spc="-1" strike="noStrike">
                  <a:solidFill>
                    <a:srgbClr val="1f4e79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Picture 2" descr="Картинки по запросу картинки выпускные экзамены школьников в Казахстане"/>
          <p:cNvPicPr/>
          <p:nvPr/>
        </p:nvPicPr>
        <p:blipFill>
          <a:blip r:embed="rId2"/>
          <a:stretch/>
        </p:blipFill>
        <p:spPr>
          <a:xfrm>
            <a:off x="365040" y="797040"/>
            <a:ext cx="3733920" cy="2436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"/>
          <p:cNvSpPr/>
          <p:nvPr/>
        </p:nvSpPr>
        <p:spPr>
          <a:xfrm>
            <a:off x="274680" y="5094720"/>
            <a:ext cx="84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1f4e79"/>
                </a:solidFill>
                <a:latin typeface="Arial"/>
                <a:ea typeface="Arial"/>
              </a:rPr>
              <a:t>Сроки итоговой аттестации будут устанавлива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1f4e79"/>
                </a:solidFill>
                <a:latin typeface="Arial"/>
                <a:ea typeface="Arial"/>
              </a:rPr>
              <a:t>приказом Министер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1f4e79"/>
                </a:solidFill>
                <a:latin typeface="Arial"/>
                <a:ea typeface="Arial"/>
              </a:rPr>
              <a:t>«</a:t>
            </a:r>
            <a:r>
              <a:rPr b="0" lang="ru-RU" sz="1800" spc="-1" strike="noStrike">
                <a:solidFill>
                  <a:srgbClr val="1f4e79"/>
                </a:solidFill>
                <a:latin typeface="Arial"/>
                <a:ea typeface="Arial"/>
              </a:rPr>
              <a:t>О завершении 2015-2016 учебного года в организация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Arial"/>
                <a:ea typeface="Arial"/>
              </a:rPr>
              <a:t>среднего образования</a:t>
            </a:r>
            <a:r>
              <a:rPr b="0" lang="kk-KZ" sz="1800" spc="-1" strike="noStrike">
                <a:solidFill>
                  <a:srgbClr val="1f4e79"/>
                </a:solidFill>
                <a:latin typeface="Arial"/>
                <a:ea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ая соединительная линия 15"/>
          <p:cNvSpPr/>
          <p:nvPr/>
        </p:nvSpPr>
        <p:spPr>
          <a:xfrm>
            <a:off x="365040" y="4622760"/>
            <a:ext cx="8321760" cy="33480"/>
          </a:xfrm>
          <a:prstGeom prst="line">
            <a:avLst/>
          </a:prstGeom>
          <a:ln w="648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ая соединительная линия 17"/>
          <p:cNvSpPr/>
          <p:nvPr/>
        </p:nvSpPr>
        <p:spPr>
          <a:xfrm>
            <a:off x="365040" y="6499080"/>
            <a:ext cx="8380440" cy="39960"/>
          </a:xfrm>
          <a:prstGeom prst="line">
            <a:avLst/>
          </a:prstGeom>
          <a:ln w="648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304920" y="2775240"/>
            <a:ext cx="8610480" cy="222840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 вопросов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, разделенных на </a:t>
            </a: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ри блока</a:t>
            </a:r>
            <a:r>
              <a:rPr b="0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Calibri"/>
              </a:rPr>
              <a:t>лексико-грамматический блок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Calibri"/>
              </a:rPr>
              <a:t>–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20 тестовых заданий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Calibri"/>
              </a:rPr>
              <a:t>с выбором одного правильного отве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Arial"/>
              </a:rPr>
              <a:t>блок «Аудирование»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Arial"/>
              </a:rPr>
              <a:t>– 2 текста по 200-250 слов,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10 тестовых заданий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Arial"/>
              </a:rPr>
              <a:t>, которые имеют один правильный ответ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49280">
              <a:lnSpc>
                <a:spcPct val="10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Times New Roman"/>
                <a:ea typeface="Arial"/>
              </a:rPr>
              <a:t>блок «Чтение»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Arial"/>
              </a:rPr>
              <a:t>– 2 текста по 200-250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слов,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Arial"/>
              </a:rPr>
              <a:t>10 тестовых заданий </a:t>
            </a:r>
            <a:r>
              <a:rPr b="1" i="1" lang="ru-RU" sz="2000" spc="-1" strike="noStrike">
                <a:solidFill>
                  <a:srgbClr val="528cc1"/>
                </a:solidFill>
                <a:latin typeface="Times New Roman"/>
                <a:ea typeface="Arial"/>
              </a:rPr>
              <a:t>с одним правильным ответом</a:t>
            </a:r>
            <a:r>
              <a:rPr b="0" lang="ru-RU" sz="2000" spc="-1" strike="noStrike">
                <a:solidFill>
                  <a:srgbClr val="528cc1"/>
                </a:solidFill>
                <a:latin typeface="Times New Roman"/>
                <a:ea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2"/>
          <p:cNvSpPr/>
          <p:nvPr/>
        </p:nvSpPr>
        <p:spPr>
          <a:xfrm>
            <a:off x="317520" y="5359320"/>
            <a:ext cx="5715000" cy="91440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160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одолжительность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80 ми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Прямоугольник 3"/>
          <p:cNvGrpSpPr/>
          <p:nvPr/>
        </p:nvGrpSpPr>
        <p:grpSpPr>
          <a:xfrm>
            <a:off x="225360" y="615960"/>
            <a:ext cx="5072040" cy="1657440"/>
            <a:chOff x="225360" y="615960"/>
            <a:chExt cx="5072040" cy="1657440"/>
          </a:xfrm>
        </p:grpSpPr>
        <p:pic>
          <p:nvPicPr>
            <p:cNvPr id="18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225360" y="615960"/>
              <a:ext cx="50720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41200" y="630360"/>
              <a:ext cx="50421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Тестирование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Казахский язык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в школах с неказахским  языком обучения/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Русский язык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201600"/>
                  <a:tab algn="l" pos="630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в школах с нерусским языком обучени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9" name="Picture 3" descr="Картинки по запросу картинки выпускные экзамены школьников в Казахстане"/>
          <p:cNvPicPr/>
          <p:nvPr/>
        </p:nvPicPr>
        <p:blipFill>
          <a:blip r:embed="rId2"/>
          <a:stretch/>
        </p:blipFill>
        <p:spPr>
          <a:xfrm>
            <a:off x="5416560" y="254160"/>
            <a:ext cx="35114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"/>
          <p:cNvSpPr/>
          <p:nvPr/>
        </p:nvSpPr>
        <p:spPr>
          <a:xfrm>
            <a:off x="0" y="5031000"/>
            <a:ext cx="5529240" cy="158580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остранный язы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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лексико-грамматический –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вопросов с одним возможным ответом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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лок «Аудирование» –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вопросов на основании двух текстов объемом каждый 200-250 слов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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лок «Чтение» –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текста ,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200-250 слов каждый,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тестов 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текс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1"/>
          <p:cNvSpPr/>
          <p:nvPr/>
        </p:nvSpPr>
        <p:spPr>
          <a:xfrm>
            <a:off x="236520" y="3610440"/>
            <a:ext cx="8678880" cy="94644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Тестирование по предметам по выбору (кроме предметов «Иностранный язык» и «Информатика») содержит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 тестовых заданий 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 </a:t>
            </a:r>
            <a:r>
              <a:rPr b="1" i="1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60 баллов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заданий 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удут  с выбором одного правильного ответа (это </a:t>
            </a:r>
            <a:r>
              <a:rPr b="1" i="1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0 баллов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заданий 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– с одним и более правильными ответами (это </a:t>
            </a:r>
            <a:r>
              <a:rPr b="1" i="1" lang="ru-RU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0 баллов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5554800" y="5219640"/>
            <a:ext cx="3403440" cy="11595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орматик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(тестирование и практические задани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тестовых заданий с одним правильным ответо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практических зада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1"/>
          <p:cNvSpPr/>
          <p:nvPr/>
        </p:nvSpPr>
        <p:spPr>
          <a:xfrm>
            <a:off x="0" y="781920"/>
            <a:ext cx="5148360" cy="243828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едметы на выбор</a:t>
            </a:r>
            <a:r>
              <a:rPr b="1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Физик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Химия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иология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География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Геометрия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семирная история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Литератур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ностранный язык (английский, французский, немецкий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нформати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Прямоугольник 5"/>
          <p:cNvSpPr/>
          <p:nvPr/>
        </p:nvSpPr>
        <p:spPr>
          <a:xfrm>
            <a:off x="5283360" y="878040"/>
            <a:ext cx="3665520" cy="1372680"/>
          </a:xfrm>
          <a:prstGeom prst="rect">
            <a:avLst/>
          </a:prstGeom>
          <a:noFill/>
          <a:ln w="936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одолжительность тестир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e7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предметам  </a:t>
            </a:r>
            <a:r>
              <a:rPr b="0" i="1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иология, География, Всемирная история, Литература, Иностранный язык, Информатика ,Физика, Химия, Геометрия</a:t>
            </a:r>
            <a:r>
              <a:rPr b="0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 мину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Прямоугольник 6"/>
          <p:cNvGrpSpPr/>
          <p:nvPr/>
        </p:nvGrpSpPr>
        <p:grpSpPr>
          <a:xfrm>
            <a:off x="2249640" y="268200"/>
            <a:ext cx="4346280" cy="397080"/>
            <a:chOff x="2249640" y="268200"/>
            <a:chExt cx="4346280" cy="397080"/>
          </a:xfrm>
        </p:grpSpPr>
        <p:pic>
          <p:nvPicPr>
            <p:cNvPr id="196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2249640" y="268200"/>
              <a:ext cx="434628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288160" y="281160"/>
              <a:ext cx="427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1f4e79"/>
                  </a:solidFill>
                  <a:latin typeface="Times New Roman"/>
                  <a:ea typeface="Times New Roman"/>
                </a:rPr>
                <a:t>Тестирование по предметам по выбору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0" y="-432000"/>
            <a:ext cx="9016920" cy="7107120"/>
          </a:xfrm>
          <a:prstGeom prst="rect">
            <a:avLst/>
          </a:prstGeom>
          <a:solidFill>
            <a:srgbClr val="deebf7"/>
          </a:solidFill>
          <a:ln w="9360">
            <a:solidFill>
              <a:srgbClr val="52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исьменные экзамены проводятся в просторных классных помещениях, где обучающиеся 11 (12) класса садятся по одному, а обучающиеся 9 (10) класса – по одному или по дво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выполнения письменных работ и подготовки к устным ответам обучающимся выдается бумага со штампом школы. Обучающиеся, выполнившие работу, сдают ее Комиссии вместе с черновика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детей с особыми образовательными потребностями предоставляется более продолжительное время для переры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окончании письменного экзамена и тестирования члены Комиссии проверяют работы обучающихся в здании школы. Непроверенные работы сдаются на хранение руководителю школ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На письменные работы по математике, оцененные на «2» и «5», Комиссией школы даются рецен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вторный письменный экзамен по языку обучения устанавливает Комиссия школ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оверка результатов теста осуществляется в школе Комиссией, формируемой при школе тот же день на основании предоставленных им кодов правильных отве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1771560" y="122400"/>
            <a:ext cx="5961240" cy="398880"/>
          </a:xfrm>
          <a:prstGeom prst="rect">
            <a:avLst/>
          </a:prstGeom>
          <a:solidFill>
            <a:srgbClr val="deebf7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и проведении итоговой аттес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Выгнутая вправо стрелка 7"/>
          <p:cNvSpPr/>
          <p:nvPr/>
        </p:nvSpPr>
        <p:spPr>
          <a:xfrm>
            <a:off x="8166240" y="200160"/>
            <a:ext cx="730080" cy="6083280"/>
          </a:xfrm>
          <a:custGeom>
            <a:avLst/>
            <a:gdLst>
              <a:gd name="textAreaLeft" fmla="*/ 97560 w 730080"/>
              <a:gd name="textAreaRight" fmla="*/ 632520 w 730080"/>
              <a:gd name="textAreaTop" fmla="*/ 1452240 h 6083280"/>
              <a:gd name="textAreaBottom" fmla="*/ 4539600 h 608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314" stAng="-5400000" swAng="5400000"/>
                <a:lnTo>
                  <a:pt x="21600" y="10962"/>
                </a:lnTo>
                <a:arcTo wR="21600" hR="10314" stAng="0" swAng="3695913"/>
                <a:lnTo>
                  <a:pt x="5400" y="21272"/>
                </a:lnTo>
                <a:lnTo>
                  <a:pt x="0" y="20952"/>
                </a:lnTo>
                <a:lnTo>
                  <a:pt x="5400" y="19976"/>
                </a:lnTo>
                <a:lnTo>
                  <a:pt x="5400" y="20300"/>
                </a:lnTo>
                <a:arcTo wR="21600" hR="10314" stAng="3695913" swAng="-3644325"/>
                <a:lnTo>
                  <a:pt x="21589" y="10638"/>
                </a:lnTo>
                <a:arcTo wR="21600" hR="10314" stAng="-51588" swAng="-5348412"/>
                <a:close/>
              </a:path>
              <a:path fill="darkenLess" w="21600" h="21600">
                <a:moveTo>
                  <a:pt x="0" y="0"/>
                </a:moveTo>
                <a:arcTo wR="21600" hR="10314" stAng="-5400000" swAng="5400000"/>
                <a:lnTo>
                  <a:pt x="21600" y="10962"/>
                </a:lnTo>
                <a:arcTo wR="21600" hR="10314" stAng="0" swAng="-51588"/>
                <a:lnTo>
                  <a:pt x="21589" y="10638"/>
                </a:lnTo>
                <a:arcTo wR="21600" hR="10314" stAng="-51588" swAng="-5348412"/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ашивка 8"/>
          <p:cNvSpPr/>
          <p:nvPr/>
        </p:nvSpPr>
        <p:spPr>
          <a:xfrm>
            <a:off x="223920" y="144612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ашивка 11"/>
          <p:cNvSpPr/>
          <p:nvPr/>
        </p:nvSpPr>
        <p:spPr>
          <a:xfrm>
            <a:off x="223920" y="52236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ашивка 12"/>
          <p:cNvSpPr/>
          <p:nvPr/>
        </p:nvSpPr>
        <p:spPr>
          <a:xfrm>
            <a:off x="223920" y="247032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ашивка 13"/>
          <p:cNvSpPr/>
          <p:nvPr/>
        </p:nvSpPr>
        <p:spPr>
          <a:xfrm>
            <a:off x="217440" y="2978280"/>
            <a:ext cx="358920" cy="349200"/>
          </a:xfrm>
          <a:custGeom>
            <a:avLst/>
            <a:gdLst>
              <a:gd name="textAreaLeft" fmla="*/ 0 w 358920"/>
              <a:gd name="textAreaRight" fmla="*/ 359280 w 3589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87" y="0"/>
                </a:lnTo>
                <a:lnTo>
                  <a:pt x="21600" y="10800"/>
                </a:lnTo>
                <a:lnTo>
                  <a:pt x="11087" y="21600"/>
                </a:lnTo>
                <a:lnTo>
                  <a:pt x="0" y="21600"/>
                </a:lnTo>
                <a:lnTo>
                  <a:pt x="10513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ашивка 9"/>
          <p:cNvSpPr/>
          <p:nvPr/>
        </p:nvSpPr>
        <p:spPr>
          <a:xfrm>
            <a:off x="217440" y="4511520"/>
            <a:ext cx="357120" cy="34956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ашивка 10"/>
          <p:cNvSpPr/>
          <p:nvPr/>
        </p:nvSpPr>
        <p:spPr>
          <a:xfrm>
            <a:off x="219240" y="388152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ашивка 14"/>
          <p:cNvSpPr/>
          <p:nvPr/>
        </p:nvSpPr>
        <p:spPr>
          <a:xfrm>
            <a:off x="217440" y="511956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0" y="-126720"/>
            <a:ext cx="9016920" cy="6497280"/>
          </a:xfrm>
          <a:prstGeom prst="rect">
            <a:avLst/>
          </a:prstGeom>
          <a:solidFill>
            <a:srgbClr val="deebf7"/>
          </a:solidFill>
          <a:ln w="9360">
            <a:solidFill>
              <a:srgbClr val="52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ля детей с особыми образовательными потребностями, которые проходят итоговую аттестацию, предоставляется возможность дополнительного времени при сдаче экзамена согласно решению Комиссии в соответствии с рекомендациями школ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бучающийся 9 (10)  и 11 </a:t>
            </a:r>
            <a:r>
              <a:rPr b="0" lang="en-US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(12)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классов, заболевший в период итоговой аттестации, сдает пропущенные экзамены после выздоровл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осрочная итоговая аттестация выпускников 9 (10), 11 (12) классов допускается в случае выезда обучающихся за границу для поступления на учебу или на постоянное место жительства и проводится в форме итоговых выпускных экзаменов или государственных выпускных экзаменов не ранее, чем за 2 месяца до окончания учебного го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Выпускники 11 (12) класса, выезжавшие на учебу за рубеж по линии международного обмена обучающимися и окончившие там образовательные учреждения, итоговую аттестацию за 11 (12) класс проходят в школах Республики Казахстан. После прохождения итоговой аттестации им выдается аттестат об общем среднем образова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1677960" y="361800"/>
            <a:ext cx="5961240" cy="398880"/>
          </a:xfrm>
          <a:prstGeom prst="rect">
            <a:avLst/>
          </a:prstGeom>
          <a:solidFill>
            <a:srgbClr val="deebf7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ри проведении итоговой аттес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Выгнутая вправо стрелка 7"/>
          <p:cNvSpPr/>
          <p:nvPr/>
        </p:nvSpPr>
        <p:spPr>
          <a:xfrm>
            <a:off x="8147160" y="557280"/>
            <a:ext cx="730080" cy="5524560"/>
          </a:xfrm>
          <a:custGeom>
            <a:avLst/>
            <a:gdLst>
              <a:gd name="textAreaLeft" fmla="*/ 97560 w 730080"/>
              <a:gd name="textAreaRight" fmla="*/ 632520 w 730080"/>
              <a:gd name="textAreaTop" fmla="*/ 1312560 h 5524560"/>
              <a:gd name="textAreaBottom" fmla="*/ 4120560 h 552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10265" stAng="-5400000" swAng="5400000"/>
                <a:lnTo>
                  <a:pt x="21600" y="10979"/>
                </a:lnTo>
                <a:arcTo wR="21600" hR="10265" stAng="0" swAng="3688984"/>
                <a:lnTo>
                  <a:pt x="5400" y="21274"/>
                </a:lnTo>
                <a:lnTo>
                  <a:pt x="0" y="20886"/>
                </a:lnTo>
                <a:lnTo>
                  <a:pt x="5400" y="19846"/>
                </a:lnTo>
                <a:lnTo>
                  <a:pt x="5400" y="20203"/>
                </a:lnTo>
                <a:arcTo wR="21600" hR="10265" stAng="3688984" swAng="-3632137"/>
                <a:lnTo>
                  <a:pt x="21587" y="10622"/>
                </a:lnTo>
                <a:arcTo wR="21600" hR="10265" stAng="-56848" swAng="-5343152"/>
                <a:close/>
              </a:path>
              <a:path fill="darkenLess" w="21600" h="21600">
                <a:moveTo>
                  <a:pt x="0" y="0"/>
                </a:moveTo>
                <a:arcTo wR="21600" hR="10265" stAng="-5400000" swAng="5400000"/>
                <a:lnTo>
                  <a:pt x="21600" y="10979"/>
                </a:lnTo>
                <a:arcTo wR="21600" hR="10265" stAng="0" swAng="-56848"/>
                <a:lnTo>
                  <a:pt x="21587" y="10622"/>
                </a:lnTo>
                <a:arcTo wR="21600" hR="10265" stAng="-56848" swAng="-5343152"/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ашивка 8"/>
          <p:cNvSpPr/>
          <p:nvPr/>
        </p:nvSpPr>
        <p:spPr>
          <a:xfrm>
            <a:off x="403200" y="207504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ашивка 11"/>
          <p:cNvSpPr/>
          <p:nvPr/>
        </p:nvSpPr>
        <p:spPr>
          <a:xfrm>
            <a:off x="406440" y="87156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ашивка 12"/>
          <p:cNvSpPr/>
          <p:nvPr/>
        </p:nvSpPr>
        <p:spPr>
          <a:xfrm>
            <a:off x="403200" y="268452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ашивка 13"/>
          <p:cNvSpPr/>
          <p:nvPr/>
        </p:nvSpPr>
        <p:spPr>
          <a:xfrm>
            <a:off x="401760" y="4237200"/>
            <a:ext cx="358560" cy="349200"/>
          </a:xfrm>
          <a:custGeom>
            <a:avLst/>
            <a:gdLst>
              <a:gd name="textAreaLeft" fmla="*/ 0 w 358560"/>
              <a:gd name="textAreaRight" fmla="*/ 358560 w 3585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87" y="0"/>
                </a:lnTo>
                <a:lnTo>
                  <a:pt x="21600" y="10800"/>
                </a:lnTo>
                <a:lnTo>
                  <a:pt x="11087" y="21600"/>
                </a:lnTo>
                <a:lnTo>
                  <a:pt x="0" y="21600"/>
                </a:lnTo>
                <a:lnTo>
                  <a:pt x="10513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468360" y="583560"/>
            <a:ext cx="7711920" cy="5277600"/>
          </a:xfrm>
          <a:prstGeom prst="rect">
            <a:avLst/>
          </a:prstGeom>
          <a:solidFill>
            <a:srgbClr val="deebf7"/>
          </a:solidFill>
          <a:ln w="9360">
            <a:solidFill>
              <a:srgbClr val="52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бучающимся 9 (10) и 11 (12) классов при получении неудовлетворительных оценок по одному или двум предметам разрешается прохождение в школе повторной итоговой аттестации по данным учебным предметам в форме экзаме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О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бучающиеся 9 (10) класса при получении неудовлетворительных оценок по трем и более предметам остаются на повторный год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окончании следующего учебного года обучающимся, получившим справку о прохождении полного курса общего среднего образования, разрешается повторная итоговая аттестация по соответствующим учебным предметам в форме экзамена в организации 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Экзаменационные материалы повторной итоговой аттестации в виде тестирования или в письменной (эссе), устной форме разрабатываются школами самостоятель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оугольник 2"/>
          <p:cNvSpPr/>
          <p:nvPr/>
        </p:nvSpPr>
        <p:spPr>
          <a:xfrm>
            <a:off x="1677960" y="361800"/>
            <a:ext cx="5961240" cy="398880"/>
          </a:xfrm>
          <a:prstGeom prst="rect">
            <a:avLst/>
          </a:prstGeom>
          <a:solidFill>
            <a:srgbClr val="deebf7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результатам итоговой аттес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Параллелограмм 6"/>
          <p:cNvSpPr/>
          <p:nvPr/>
        </p:nvSpPr>
        <p:spPr>
          <a:xfrm>
            <a:off x="2976480" y="5560920"/>
            <a:ext cx="5977080" cy="997200"/>
          </a:xfrm>
          <a:prstGeom prst="parallelogram">
            <a:avLst>
              <a:gd name="adj" fmla="val 25002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ямоугольник 3"/>
          <p:cNvSpPr/>
          <p:nvPr/>
        </p:nvSpPr>
        <p:spPr>
          <a:xfrm>
            <a:off x="3168720" y="5459400"/>
            <a:ext cx="561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e79"/>
                </a:solidFill>
                <a:latin typeface="Times New Roman"/>
                <a:ea typeface="Calibri"/>
              </a:rPr>
              <a:t>обучающимся 11 (12) класса, сдавшим повторную итоговую аттестацию, выдается аттестат об общем среднем образов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Выгнутая вправо стрелка 7"/>
          <p:cNvSpPr/>
          <p:nvPr/>
        </p:nvSpPr>
        <p:spPr>
          <a:xfrm>
            <a:off x="8147160" y="557280"/>
            <a:ext cx="730080" cy="3382920"/>
          </a:xfrm>
          <a:custGeom>
            <a:avLst/>
            <a:gdLst>
              <a:gd name="textAreaLeft" fmla="*/ 97560 w 730080"/>
              <a:gd name="textAreaRight" fmla="*/ 632520 w 730080"/>
              <a:gd name="textAreaTop" fmla="*/ 777240 h 3382920"/>
              <a:gd name="textAreaBottom" fmla="*/ 2514240 h 338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26" stAng="-5400000" swAng="5400000"/>
                <a:lnTo>
                  <a:pt x="21600" y="11091"/>
                </a:lnTo>
                <a:arcTo wR="21600" hR="9926" stAng="0" swAng="3640187"/>
                <a:lnTo>
                  <a:pt x="5400" y="21285"/>
                </a:lnTo>
                <a:lnTo>
                  <a:pt x="0" y="20435"/>
                </a:lnTo>
                <a:lnTo>
                  <a:pt x="5400" y="18954"/>
                </a:lnTo>
                <a:lnTo>
                  <a:pt x="5400" y="19537"/>
                </a:lnTo>
                <a:arcTo wR="21600" hR="9926" stAng="3640187" swAng="-3547342"/>
                <a:lnTo>
                  <a:pt x="21563" y="10509"/>
                </a:lnTo>
                <a:arcTo wR="21600" hR="9926" stAng="-92845" swAng="-5307155"/>
                <a:close/>
              </a:path>
              <a:path fill="darkenLess" w="21600" h="21600">
                <a:moveTo>
                  <a:pt x="0" y="0"/>
                </a:moveTo>
                <a:arcTo wR="21600" hR="9926" stAng="-5400000" swAng="5400000"/>
                <a:lnTo>
                  <a:pt x="21600" y="11091"/>
                </a:lnTo>
                <a:arcTo wR="21600" hR="9926" stAng="0" swAng="-92845"/>
                <a:lnTo>
                  <a:pt x="21563" y="10509"/>
                </a:lnTo>
                <a:arcTo wR="21600" hR="9926" stAng="-92845" swAng="-5307155"/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ашивка 8"/>
          <p:cNvSpPr/>
          <p:nvPr/>
        </p:nvSpPr>
        <p:spPr>
          <a:xfrm>
            <a:off x="628560" y="206856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ашивка 10"/>
          <p:cNvSpPr/>
          <p:nvPr/>
        </p:nvSpPr>
        <p:spPr>
          <a:xfrm>
            <a:off x="628560" y="2946240"/>
            <a:ext cx="358920" cy="349560"/>
          </a:xfrm>
          <a:custGeom>
            <a:avLst/>
            <a:gdLst>
              <a:gd name="textAreaLeft" fmla="*/ 0 w 358920"/>
              <a:gd name="textAreaRight" fmla="*/ 359280 w 35892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87" y="0"/>
                </a:lnTo>
                <a:lnTo>
                  <a:pt x="21600" y="10800"/>
                </a:lnTo>
                <a:lnTo>
                  <a:pt x="11087" y="21600"/>
                </a:lnTo>
                <a:lnTo>
                  <a:pt x="0" y="21600"/>
                </a:lnTo>
                <a:lnTo>
                  <a:pt x="10513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ашивка 11"/>
          <p:cNvSpPr/>
          <p:nvPr/>
        </p:nvSpPr>
        <p:spPr>
          <a:xfrm>
            <a:off x="628560" y="85896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ашивка 13"/>
          <p:cNvSpPr/>
          <p:nvPr/>
        </p:nvSpPr>
        <p:spPr>
          <a:xfrm>
            <a:off x="635040" y="4556160"/>
            <a:ext cx="358560" cy="349200"/>
          </a:xfrm>
          <a:custGeom>
            <a:avLst/>
            <a:gdLst>
              <a:gd name="textAreaLeft" fmla="*/ 0 w 358560"/>
              <a:gd name="textAreaRight" fmla="*/ 358560 w 3585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87" y="0"/>
                </a:lnTo>
                <a:lnTo>
                  <a:pt x="21600" y="10800"/>
                </a:lnTo>
                <a:lnTo>
                  <a:pt x="11087" y="21600"/>
                </a:lnTo>
                <a:lnTo>
                  <a:pt x="0" y="21600"/>
                </a:lnTo>
                <a:lnTo>
                  <a:pt x="10513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ашивка 14"/>
          <p:cNvSpPr/>
          <p:nvPr/>
        </p:nvSpPr>
        <p:spPr>
          <a:xfrm>
            <a:off x="217440" y="4511520"/>
            <a:ext cx="357120" cy="34956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ашивка 15"/>
          <p:cNvSpPr/>
          <p:nvPr/>
        </p:nvSpPr>
        <p:spPr>
          <a:xfrm>
            <a:off x="369720" y="4664160"/>
            <a:ext cx="357480" cy="349200"/>
          </a:xfrm>
          <a:custGeom>
            <a:avLst/>
            <a:gdLst>
              <a:gd name="textAreaLeft" fmla="*/ 0 w 357480"/>
              <a:gd name="textAreaRight" fmla="*/ 357840 w 3574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304560"/>
            <a:ext cx="788688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e75b6"/>
                </a:solidFill>
                <a:latin typeface="Calibri Light"/>
              </a:rPr>
              <a:t>Шкала перевода баллов тестирования в оценки аттестата об общем среднем образовании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25520" y="1073160"/>
          <a:ext cx="8272440" cy="5446800"/>
        </p:xfrm>
        <a:graphic>
          <a:graphicData uri="http://schemas.openxmlformats.org/drawingml/2006/table">
            <a:tbl>
              <a:tblPr/>
              <a:tblGrid>
                <a:gridCol w="569880"/>
                <a:gridCol w="2382840"/>
                <a:gridCol w="1668600"/>
                <a:gridCol w="1523880"/>
                <a:gridCol w="976320"/>
                <a:gridCol w="1150920"/>
              </a:tblGrid>
              <a:tr h="73980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м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неудовлетвор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удовлетворитель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хорош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отличн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874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захский язык для школ с русским,   узбекским, уйгурским</a:t>
                      </a:r>
                      <a:r>
                        <a:rPr b="0" lang="kk-K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таджикским языками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–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– 3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–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3656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ий язык для школ с казахским языком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–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– 3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–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7000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мет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58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62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732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62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76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мирная ист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58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усская 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62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захская 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– 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–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 – 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76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глий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–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– 3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–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58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ранцузс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–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– 3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–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4768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мецкий язы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– 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– 3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– 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2462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орма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–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– 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– 20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– 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228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1236-8E35-44CD-ACCC-3AC446D7E132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Благодарю за внимание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5FFC-452E-4D67-A53B-6F6A53B832F0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12" descr="Картинки по запросу картинки выпускные экзамены школьников в Казахстане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7320" y="196560"/>
            <a:ext cx="8621640" cy="4395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ПРАВИЛА ПРОВЕДЕНИЯ ИТОГОВОЙ АТТЕСТАЦИИ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7800" y="977400"/>
            <a:ext cx="8537760" cy="544860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Согласно приказу Министра образования и науки РК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т 18.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03.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2008 года № 125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«Об утверждении Типовых правил проведения текущего контроля успеваемости, промежуточной и итоговой аттестации обучающихся» (внесен изменений и дополнений приказам № 660 от 16.11.2016 г.)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срок - до 1 февраля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риказом директора школы должна быть создана Экзаменационная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комисс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состав Комиссии </a:t>
            </a:r>
            <a:r>
              <a:rPr b="1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при школе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ключаются учителя-предметники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и заместители директора школы (при наличии), представители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щественных организаций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(при наличии) и родительских комитетов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. </a:t>
            </a:r>
            <a:r>
              <a:rPr b="1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Комиссию возглавляет директор школы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, или лицо, заменяющее е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состав Комиссии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при районном, городском отделе образования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включаются также учителя-предметники,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специалисты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отделов образования,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представители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щественных организаций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и родительских комитетов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, а также секретарь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назначаемый из числа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сотрудника отдела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разования.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Комиссию возглавляет руководитель отдела образования или лицо, заменяющее е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 состав Комиссии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при управлении образования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ключаются </a:t>
            </a:r>
            <a:br>
              <a:rPr sz="1600"/>
            </a:b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учителя-предметники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, специалисты управления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образования,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представители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щественных организаций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и родительских комитетов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, средств массовой информации, а также секретарь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,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назначаемый из числа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сотрудника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управления образования.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Комиссию возглавляет руководитель управления образования или лицо, заменяющее ег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429D-8A6A-4452-81E0-DA3FC5EAFF17}" type="slidenum">
              <a:rPr b="0" lang="ru-RU" sz="1200" spc="-1" strike="noStrike">
                <a:solidFill>
                  <a:srgbClr val="00206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Users\Stella.Ibraeva\Desktop\приказ на русс - копия_Страница_2.jpg"/>
          <p:cNvPicPr/>
          <p:nvPr/>
        </p:nvPicPr>
        <p:blipFill>
          <a:blip r:embed="rId1"/>
          <a:stretch/>
        </p:blipFill>
        <p:spPr>
          <a:xfrm>
            <a:off x="4834080" y="1405080"/>
            <a:ext cx="3357360" cy="4343400"/>
          </a:xfrm>
          <a:prstGeom prst="rect">
            <a:avLst/>
          </a:prstGeom>
          <a:ln w="0">
            <a:noFill/>
          </a:ln>
        </p:spPr>
      </p:pic>
      <p:sp>
        <p:nvSpPr>
          <p:cNvPr id="106" name="Номер слайда 3"/>
          <p:cNvSpPr/>
          <p:nvPr/>
        </p:nvSpPr>
        <p:spPr>
          <a:xfrm>
            <a:off x="691848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C76F-12AA-45FD-8F10-E8DF6D952E6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C:\Users\Stella.Ibraeva\Desktop\приказ на русс - копия_Страница_1.jpg"/>
          <p:cNvPicPr/>
          <p:nvPr/>
        </p:nvPicPr>
        <p:blipFill>
          <a:blip r:embed="rId2"/>
          <a:stretch/>
        </p:blipFill>
        <p:spPr>
          <a:xfrm>
            <a:off x="515880" y="1495440"/>
            <a:ext cx="3774960" cy="488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tella.Ibraeva\Desktop\приказ на русс - копия_Страница_3.jpg"/>
          <p:cNvPicPr/>
          <p:nvPr/>
        </p:nvPicPr>
        <p:blipFill>
          <a:blip r:embed="rId3"/>
          <a:stretch/>
        </p:blipFill>
        <p:spPr>
          <a:xfrm>
            <a:off x="5119560" y="2873520"/>
            <a:ext cx="2786040" cy="36050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274680" y="124200"/>
            <a:ext cx="847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Arial"/>
                <a:ea typeface="Arial"/>
              </a:rPr>
              <a:t>Приказ МОН РК № 45 от 1 февраля 2017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Arial"/>
                <a:ea typeface="Arial"/>
              </a:rPr>
              <a:t>«О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создании Экзаменационной комиссии по итоговой аттестации обучающихся республиканских школ</a:t>
            </a:r>
            <a:r>
              <a:rPr b="0" lang="kk-KZ" sz="1800" spc="-1" strike="noStrike">
                <a:solidFill>
                  <a:srgbClr val="002060"/>
                </a:solidFill>
                <a:latin typeface="Arial"/>
                <a:ea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2640" y="196560"/>
            <a:ext cx="8574120" cy="4395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 ЭКЗАМЕНАЦИОННОЙ КОМИССИИ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68200" y="795240"/>
            <a:ext cx="8537760" cy="5764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2060"/>
                </a:solidFill>
                <a:latin typeface="Arial"/>
                <a:ea typeface="Arial"/>
              </a:rPr>
              <a:t>Комиссией, формируемой при школе, осуществляю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До 1 марта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</a:t>
            </a: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и направление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в филиал НЦТ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списков обучающихся 11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(12)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класса, сдающих итоговую аттестацию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с указанием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перечня предметов, выбранных обучающим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и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ся 11 класса с учетом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профиля их обуч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работы по проведению экзаменов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, а также тестирования, пробных экзаменов по примерным темам эссе, вопросам и задачам итоговой аттеста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формирование состава дежурных и обеспечение кабинетов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необходимым техническим оборудованием </a:t>
            </a: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(для практического задания по истории Казахстана, для аудирования и.т)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на период проведения итоговой аттестации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рассмотрение письменных экзаменационных работ и заслушивание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устных экзаменационных ответов, проверка результат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ов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тестировани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я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обучающихся 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9 (10) и 11 (12) классов, в том числе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претендующих на получение аттестатов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с отличием и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«Алтын белгі»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после завершения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письменных экзаменационных работ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, тестирования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и заслушивания устных экзаменационных ответов </a:t>
            </a: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направляет электронный вариант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П</a:t>
            </a: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ротокола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в отделы или управления образова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перевод баллов результатов тестирования в оценки </a:t>
            </a: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 соответствии со Шкалой перевода 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баллов тестирования в оценки аттестата о среднем общем образовании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рассмотрение обоснованности предложений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, 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поступивших на апелляцию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и принятие реш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до конца мая </a:t>
            </a:r>
            <a:r>
              <a:rPr b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подготовка обучающихся</a:t>
            </a:r>
            <a:r>
              <a:rPr b="0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по пробным экзаменационным материал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Пробные 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экзаменационны</a:t>
            </a: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е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 материал</a:t>
            </a: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ы и 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учебно-методические пособия размещаются</a:t>
            </a:r>
            <a:br>
              <a:rPr sz="1400"/>
            </a:b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а сайте </a:t>
            </a:r>
            <a:r>
              <a:rPr b="0" i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testcenter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r>
              <a:rPr b="0" i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kz</a:t>
            </a: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 и 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а портале </a:t>
            </a:r>
            <a:r>
              <a:rPr b="0" i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kundelik</a:t>
            </a:r>
            <a:r>
              <a:rPr b="0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r>
              <a:rPr b="0" i="1" lang="en-US" sz="1400" spc="-1" strike="noStrike">
                <a:solidFill>
                  <a:srgbClr val="002060"/>
                </a:solidFill>
                <a:latin typeface="Arial"/>
                <a:ea typeface="Arial"/>
              </a:rPr>
              <a:t>kz</a:t>
            </a:r>
            <a:r>
              <a:rPr b="0" i="1" lang="kk-KZ" sz="1400" spc="-1" strike="noStrike">
                <a:solidFill>
                  <a:srgbClr val="002060"/>
                </a:solidFill>
                <a:latin typeface="Arial"/>
                <a:ea typeface="Arial"/>
              </a:rPr>
              <a:t> (срок – до 10 марта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C85E-A1CE-4D05-9751-261BA84E656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196560"/>
            <a:ext cx="8139240" cy="4395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 ЭКЗАМЕНАЦИОННОЙ КОМИССИИ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9400" y="836640"/>
            <a:ext cx="8180280" cy="576432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Заключительное заседание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Комиссии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 подведению итогов работы и принятию решения об утверждении списка обучающихся, награждаемых знаком «Алтын белгі», проводится не позднее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12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июня текущего г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Списки обладателей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видетельства об основном среднем образовании с отличием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,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аттестат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ов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об общем среднем образовании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с отличием и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 общем среднем образовании «Алтын белгі»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и знака «Алтын белгі»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утверждается приказом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а школы </a:t>
            </a:r>
            <a:r>
              <a:rPr b="1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(срок - 12 июн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ручение аттестатов срок – 13-14 ию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Управления образования и республиканские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школы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предоставляют в Министерство итоговые данные о результатах итоговой аттестации обучающихся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(срок - не позднее 20 июн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Результаты итоговой аттестации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обучающися 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бсуждаются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на педсовете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при участии всех членов</a:t>
            </a:r>
            <a:r>
              <a:rPr b="0" lang="kk-KZ" sz="1600" spc="-1" strike="noStrike">
                <a:solidFill>
                  <a:srgbClr val="002060"/>
                </a:solidFill>
                <a:latin typeface="Arial"/>
                <a:ea typeface="Arial"/>
              </a:rPr>
              <a:t> Комиссии по итогам работы за учебный год в августе месяце текущего года. Педсовет</a:t>
            </a:r>
            <a:r>
              <a:rPr b="0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принимает меры по улучшению качества учебно-воспитательной рабо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D0ED-119C-4C52-8A68-BA2C7081675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09480" y="1220400"/>
            <a:ext cx="7886880" cy="523260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се материалы экзаменационных работ будут разработаны  Министерством образования и науки РК в соответствии с действующим ГОСО и учебными программами и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о 23 мая  доставлены до управлений образования областей, городов Астаны и Алматы, республиканских шко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правления образования областей, городов Астаны и Алматы должны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о 27 мая т.г. доставить экзаменационные материалы до каждой школы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, где обучающиеся сдают итоговую аттеста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2060"/>
                </a:solidFill>
                <a:latin typeface="Arial"/>
                <a:ea typeface="Arial"/>
              </a:rPr>
              <a:t>в школах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акеты с темами </a:t>
            </a:r>
            <a:r>
              <a:rPr b="0" lang="kk-KZ" sz="2000" spc="-1" strike="noStrike">
                <a:solidFill>
                  <a:srgbClr val="002060"/>
                </a:solidFill>
                <a:latin typeface="Arial"/>
                <a:ea typeface="Arial"/>
              </a:rPr>
              <a:t>эссе, билетами по Истории Казахстана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скрываются за 15 минут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до начала экзамена, пакеты с материалами по математике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скрываются за 1 час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 присутствии обучающихся и членов Комиссии</a:t>
            </a:r>
            <a:r>
              <a:rPr b="0" lang="kk-KZ" sz="2000" spc="-1" strike="noStrike">
                <a:solidFill>
                  <a:srgbClr val="002060"/>
                </a:solidFill>
                <a:latin typeface="Arial"/>
                <a:ea typeface="Arial"/>
              </a:rPr>
              <a:t> школы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для проверки правильности условий предложенных зада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B288-9081-4FBD-B9E5-B642A8005DCB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6760" y="483840"/>
            <a:ext cx="7824600" cy="439560"/>
          </a:xfrm>
          <a:prstGeom prst="rect">
            <a:avLst/>
          </a:prstGeom>
          <a:solidFill>
            <a:srgbClr val="deeb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 ЭКЗАМЕНАЦИОННОЙ КОМИССИИ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6788160" y="634356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478E-77DB-42F2-A7E7-C505649932B4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33280" y="784080"/>
          <a:ext cx="8732880" cy="5837400"/>
        </p:xfrm>
        <a:graphic>
          <a:graphicData uri="http://schemas.openxmlformats.org/drawingml/2006/table">
            <a:tbl>
              <a:tblPr/>
              <a:tblGrid>
                <a:gridCol w="1847880"/>
                <a:gridCol w="1155600"/>
                <a:gridCol w="3173400"/>
                <a:gridCol w="2556000"/>
              </a:tblGrid>
              <a:tr h="297000"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сто и форма пр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ата и время пр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астники в регион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тветственные за организацию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058760"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 рамках коллегии Министерства образования и науки РК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 филиале  Некоммерческого акционерного общества</a:t>
                      </a:r>
                      <a:r>
                        <a:rPr b="1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«Республиканская физико-математическая школа</a:t>
                      </a: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. Астана, ул: Туркестан 2/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ководители областных, гг. Астана, Алматы департаментов по контролю в сфере образования, руководители областных, гг. Астана, Алматы управлений образования, руководители Назарбаев интеллектуальных школ и республиканских школ, сотрудники АО «НЦПК «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Ө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рлеу», директора институтов повышения квалификации педагогических кадров областей, г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.А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тана и 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лматы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представители издательств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ДСО, Национальный центр тестирования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О им. Ы. Алтынсар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6480"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. Актоб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Ш № 56, мкр. 12 мкр.  д-37 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8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 одному специалисту и методисту управлений образования Атырауской, Актюбинской, Западно-Казахстанской, Жамбылской, Кызылординской, Мангистауской, Южно-Казахстанской облас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ДСО, Национальный центр тестирования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О им. Ы. Алтынсар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тветственный за организацию из региона - руководитель школьного отдела Управления образования Актюбинской области Гүлжан Құлыбекқызы,  тел: (8713) 56-04-61, 87024077875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0560"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. Костана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гимназия им. М. Горького, ул. Баймағанбетова, 154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8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0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 одному специалисту и методисту  управлений Акмолинской, Алматинской, Восточно-Казахстанской, Карагандинской, Костанайской, Павлодарской, Северо-Казахстанской  област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ДСО, Национальный центр тестирования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О им. Ы. Алтынсари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тветственный за организации из региона - заместитель руководителя Управления образования Костанайской обласи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кина Гүлнар Көшкенқызы,   тел: (8714) 2 575-313, 8777 900 99 45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9280">
                <a:tc rowSpan="5"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инансовый центр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 онлайн режиме через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ртал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</a:t>
                      </a:r>
                      <a:r>
                        <a:rPr b="1" lang="en-US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abak</a:t>
                      </a:r>
                      <a:r>
                        <a:rPr b="1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k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абинет министерства»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имечание: школы района/города должны  подключаться к онлайн-конференции с одного сервера, чтобы избежать перегрузки в сети (не более 35 точек из одной области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1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ителя истории Казахстана 11 классов, методисты, директора школ, заместители директоров школ по учебной работ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5">
                  <a:txBody>
                    <a:bodyPr lIns="15840" rIns="15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ДДСО,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АО им. Ы. Алтынсарина, Национальный центр тестир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тветственный з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техническую часть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Ергали Молдабаев, 870292087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2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ителя 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физик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химии, биологи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географи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геометри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всемирн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й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истори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литератур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ы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иностранных языков</a:t>
                      </a:r>
                      <a:r>
                        <a:rPr b="0" lang="ru-RU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, информатик</a:t>
                      </a: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и  11 классов, методисты, директора школ, заместители директоров школ по учебной работе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7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ителя казахского языка и литературы 11 классов, методисты, директора школ, заместители директоров школ по учебной работе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8.02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ителя русского языка и литературы 11 классов, методисты, директора школ, заместители директоров школ по учебной работе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1.03.2017 г.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5.00 ч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5840" rIns="15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чителя математики 11 класс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етодисты, директора школ, заместители директоров школ по учебной работе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5840" marR="15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Прямоугольник 6"/>
          <p:cNvSpPr/>
          <p:nvPr/>
        </p:nvSpPr>
        <p:spPr>
          <a:xfrm>
            <a:off x="233280" y="169920"/>
            <a:ext cx="8742600" cy="459000"/>
          </a:xfrm>
          <a:prstGeom prst="rect">
            <a:avLst/>
          </a:prstGeom>
          <a:solidFill>
            <a:srgbClr val="deebf7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Граф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проведения семинаров по разъяснению нового формата итоговой аттестации и ЕНТ 201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457200" y="1092600"/>
            <a:ext cx="7723080" cy="4057920"/>
          </a:xfrm>
          <a:prstGeom prst="rect">
            <a:avLst/>
          </a:prstGeom>
          <a:solidFill>
            <a:srgbClr val="deebf7"/>
          </a:solidFill>
          <a:ln w="9360">
            <a:solidFill>
              <a:srgbClr val="52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1) письменный экзамен по родному языку и литературе (язык обучения) в форме 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эс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1f4e7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2)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исьменный экзамен по 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а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лгебр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 началам анали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3)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устный экзамен по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стори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и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Казахста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4) тестирование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по казахскому языку в школах с русским, узбекским, уйгурским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и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таджикским языками обучения и 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тестирование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по русскому языку в школах с казахским языком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	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) тестирование</a:t>
            </a:r>
            <a:r>
              <a:rPr b="0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по предметам по выбо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1677960" y="361800"/>
            <a:ext cx="5961240" cy="398880"/>
          </a:xfrm>
          <a:prstGeom prst="rect">
            <a:avLst/>
          </a:prstGeom>
          <a:solidFill>
            <a:srgbClr val="deebf7"/>
          </a:solidFill>
          <a:ln w="93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Формы проведения итоговой аттест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араллелограмм 6"/>
          <p:cNvSpPr/>
          <p:nvPr/>
        </p:nvSpPr>
        <p:spPr>
          <a:xfrm>
            <a:off x="2976480" y="5319720"/>
            <a:ext cx="5977080" cy="1238400"/>
          </a:xfrm>
          <a:prstGeom prst="parallelogram">
            <a:avLst>
              <a:gd name="adj" fmla="val 25004"/>
            </a:avLst>
          </a:prstGeom>
          <a:solidFill>
            <a:srgbClr val="deebf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3241800" y="5459400"/>
            <a:ext cx="535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1f4e79"/>
                </a:solidFill>
                <a:latin typeface="Times New Roman"/>
                <a:ea typeface="Calibri"/>
              </a:rPr>
              <a:t>В музыкальных, художественных школах, а также в школах искусств допускается </a:t>
            </a:r>
            <a:r>
              <a:rPr b="1" i="1" lang="kk-KZ" sz="1800" spc="-1" strike="noStrike">
                <a:solidFill>
                  <a:srgbClr val="1f4e79"/>
                </a:solidFill>
                <a:latin typeface="Times New Roman"/>
                <a:ea typeface="Calibri"/>
              </a:rPr>
              <a:t>дополнительный экзамен творческого характ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Выгнутая вправо стрелка 7"/>
          <p:cNvSpPr/>
          <p:nvPr/>
        </p:nvSpPr>
        <p:spPr>
          <a:xfrm>
            <a:off x="8147160" y="557280"/>
            <a:ext cx="730080" cy="3382920"/>
          </a:xfrm>
          <a:custGeom>
            <a:avLst/>
            <a:gdLst>
              <a:gd name="textAreaLeft" fmla="*/ 97560 w 730080"/>
              <a:gd name="textAreaRight" fmla="*/ 632520 w 730080"/>
              <a:gd name="textAreaTop" fmla="*/ 777240 h 3382920"/>
              <a:gd name="textAreaBottom" fmla="*/ 2514240 h 338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26" stAng="-5400000" swAng="5400000"/>
                <a:lnTo>
                  <a:pt x="21600" y="11091"/>
                </a:lnTo>
                <a:arcTo wR="21600" hR="9926" stAng="0" swAng="3640187"/>
                <a:lnTo>
                  <a:pt x="5400" y="21285"/>
                </a:lnTo>
                <a:lnTo>
                  <a:pt x="0" y="20435"/>
                </a:lnTo>
                <a:lnTo>
                  <a:pt x="5400" y="18954"/>
                </a:lnTo>
                <a:lnTo>
                  <a:pt x="5400" y="19537"/>
                </a:lnTo>
                <a:arcTo wR="21600" hR="9926" stAng="3640187" swAng="-3547342"/>
                <a:lnTo>
                  <a:pt x="21563" y="10509"/>
                </a:lnTo>
                <a:arcTo wR="21600" hR="9926" stAng="-92845" swAng="-5307155"/>
                <a:close/>
              </a:path>
              <a:path fill="darkenLess" w="21600" h="21600">
                <a:moveTo>
                  <a:pt x="0" y="0"/>
                </a:moveTo>
                <a:arcTo wR="21600" hR="9926" stAng="-5400000" swAng="5400000"/>
                <a:lnTo>
                  <a:pt x="21600" y="11091"/>
                </a:lnTo>
                <a:arcTo wR="21600" hR="9926" stAng="0" swAng="-92845"/>
                <a:lnTo>
                  <a:pt x="21563" y="10509"/>
                </a:lnTo>
                <a:arcTo wR="21600" hR="9926" stAng="-92845" swAng="-5307155"/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ашивка 8"/>
          <p:cNvSpPr/>
          <p:nvPr/>
        </p:nvSpPr>
        <p:spPr>
          <a:xfrm>
            <a:off x="955800" y="201924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ашивка 10"/>
          <p:cNvSpPr/>
          <p:nvPr/>
        </p:nvSpPr>
        <p:spPr>
          <a:xfrm>
            <a:off x="941400" y="3219480"/>
            <a:ext cx="358920" cy="349200"/>
          </a:xfrm>
          <a:custGeom>
            <a:avLst/>
            <a:gdLst>
              <a:gd name="textAreaLeft" fmla="*/ 0 w 358920"/>
              <a:gd name="textAreaRight" fmla="*/ 359280 w 3589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87" y="0"/>
                </a:lnTo>
                <a:lnTo>
                  <a:pt x="21600" y="10800"/>
                </a:lnTo>
                <a:lnTo>
                  <a:pt x="11087" y="21600"/>
                </a:lnTo>
                <a:lnTo>
                  <a:pt x="0" y="21600"/>
                </a:lnTo>
                <a:lnTo>
                  <a:pt x="10513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ашивка 11"/>
          <p:cNvSpPr/>
          <p:nvPr/>
        </p:nvSpPr>
        <p:spPr>
          <a:xfrm>
            <a:off x="950760" y="1149480"/>
            <a:ext cx="357480" cy="349200"/>
          </a:xfrm>
          <a:custGeom>
            <a:avLst/>
            <a:gdLst>
              <a:gd name="textAreaLeft" fmla="*/ 0 w 357480"/>
              <a:gd name="textAreaRight" fmla="*/ 357840 w 3574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ашивка 12"/>
          <p:cNvSpPr/>
          <p:nvPr/>
        </p:nvSpPr>
        <p:spPr>
          <a:xfrm>
            <a:off x="966960" y="2671920"/>
            <a:ext cx="357120" cy="349200"/>
          </a:xfrm>
          <a:custGeom>
            <a:avLst/>
            <a:gdLst>
              <a:gd name="textAreaLeft" fmla="*/ 0 w 357120"/>
              <a:gd name="textAreaRight" fmla="*/ 357480 w 3571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40" y="0"/>
                </a:lnTo>
                <a:lnTo>
                  <a:pt x="21600" y="10800"/>
                </a:lnTo>
                <a:lnTo>
                  <a:pt x="11040" y="21600"/>
                </a:lnTo>
                <a:lnTo>
                  <a:pt x="0" y="21600"/>
                </a:lnTo>
                <a:lnTo>
                  <a:pt x="10560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ашивка 13"/>
          <p:cNvSpPr/>
          <p:nvPr/>
        </p:nvSpPr>
        <p:spPr>
          <a:xfrm>
            <a:off x="974880" y="4724280"/>
            <a:ext cx="358560" cy="349200"/>
          </a:xfrm>
          <a:custGeom>
            <a:avLst/>
            <a:gdLst>
              <a:gd name="textAreaLeft" fmla="*/ 0 w 358560"/>
              <a:gd name="textAreaRight" fmla="*/ 358560 w 35856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87" y="0"/>
                </a:lnTo>
                <a:lnTo>
                  <a:pt x="21600" y="10800"/>
                </a:lnTo>
                <a:lnTo>
                  <a:pt x="11087" y="21600"/>
                </a:lnTo>
                <a:lnTo>
                  <a:pt x="0" y="21600"/>
                </a:lnTo>
                <a:lnTo>
                  <a:pt x="10513" y="108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7T14:42:11Z</dcterms:created>
  <dc:creator>Елдос Нурланов</dc:creator>
  <dc:description/>
  <dc:language>en-US</dc:language>
  <cp:lastModifiedBy>Кабатова Ботагоз Амантаевна</cp:lastModifiedBy>
  <cp:lastPrinted>2017-02-22T10:40:35Z</cp:lastPrinted>
  <dcterms:modified xsi:type="dcterms:W3CDTF">2017-02-22T10:41:32Z</dcterms:modified>
  <cp:revision>1331</cp:revision>
  <dc:subject/>
  <dc:title>Презентация PowerPoint</dc:title>
</cp:coreProperties>
</file>