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dt" idx="109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73760" cy="373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ftr" idx="110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 type="sldNum" idx="111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D269-F959-404E-9A14-1210B3FE40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CD05-9C95-43E3-BC07-E1D54F4AEB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217E-15B3-4C5B-9A31-702AAD37E4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BC6-476F-4551-96BC-DCD6291FE1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73760" cy="373068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Номер слайда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4633-4133-4CCA-BFEE-607B4708E3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48E-16D0-4E03-83D0-32CEF307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E4C-DF76-4D0F-98CD-470C468F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92973-6782-4273-A109-79643BA8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B607F-3495-48CC-A4B8-92F0194C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9DEAE-CDF6-45BB-981E-C6393424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FE233-B5F3-4BF5-A72B-D1A561A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F0C0C7-CEB5-425C-B228-F615A4C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937CC-F7A6-47E6-A290-7DED3A9F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2DBAA-14F8-4AB4-9BAA-2971EDB3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435E5-2C71-43A7-8914-27AE22E1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CB498-5860-4D82-A396-5E08118F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142331-3F95-4B08-A792-232C6A52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8824-3C6C-4ABB-BCE6-5C2EE226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8ECEE-5821-41EF-8FAB-F684C4CF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0D5E0-EF50-402B-80C4-788CD69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22CBA-7C89-4AA9-9986-228E6A6D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0CACE-DC1B-478B-B006-E0374C17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15A00-955A-4D83-9F76-EE8C023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76898-AFF5-4C68-B430-AA73A92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479A-673C-4161-B4A8-668B8945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FB1E3-D945-4179-9733-930368B9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06D11-0A30-49EA-BFD1-F1FE4DEB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81FD1-B98C-4875-A620-926E4DEF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954-A79C-40A1-BB6F-1EDC9BF57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A6D78-C8C2-436D-891B-B6353D60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AEF10-71FA-4BB2-8F13-579539F1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97A41-A187-4299-896C-B4E6DB75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13795-EFE0-497B-9FBF-EC177AAC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78B8F-6648-4425-838D-A590F1CF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BE35D-6419-48A4-B572-9245EEAC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D9D06-41C1-4EDB-AAF4-4AF8399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71B0-2054-4A6D-8A7E-DEEE62D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B8887-2C39-4EC5-B232-3E36A05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D773E-2EAF-4A0A-ACDC-5720946C7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6457-7D45-43D2-A953-995C646E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0F87B-5949-4A25-8AA5-DD818BE1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F2A4E-1B62-4EF1-B780-544D86C82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C08A4-0183-4F54-9EDA-2177FBEB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637B9-3249-423B-BF24-FD81AC16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06B1C-E887-479E-AC52-42EE5762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80EBB-80EC-43E1-857D-57DCF8C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272E4-D915-45AD-A5F1-C8599A0A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B813B-BD1D-4FC3-B94B-4660E898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156FE-9BB5-4467-8ACC-75DB7EFA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08A1D-AD65-4E8A-A7AD-B0628977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90FD-F6F6-4571-A8D4-AC61ABEA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2BFD4-39E3-407C-9297-56096FA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0EDEF-096E-494C-B7DF-60D3735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BDA42E-2A23-4925-BD4A-569E227D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F36D1-AE9A-451D-AF61-D487598E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0667B-101A-4C31-96B2-5BC44974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EBA21-DF5D-4FE1-8EE6-18049816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66FB9A-0A57-4EE9-A68A-5BCE3769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4BD66-54F3-4DA6-8387-8D4A213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98B08A-A894-4D26-996D-D3755932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1A01D9-3436-4FB4-9D42-B19A68D6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0407-D97B-46C8-8801-EF66B380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E1E8EF-5EC2-4D3B-8FB5-BF157554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D5A7B-9A1B-4A06-BD90-D52AE535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B4BFE-E23F-413D-9490-BE87CD15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2DFA20-53B5-4E9E-A87C-20DEC320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CF287-7A47-4037-9BA6-78DEC256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19B062-3462-4294-A64A-1FAF028A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7A324-DF76-4ED2-AC33-9BF844BD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88374-B11C-4B30-AD42-8F7F8FE4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618DAF-81D4-43EC-816E-CB5B51D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5A9C2-B9BD-4F15-BB73-6ECE8DB8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3A4B-9CB5-423B-9B91-B34A34E8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C6D5B-651E-4485-8CF9-CDC7007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892D6-4DE0-4D55-8AE9-54B5043B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34CCF-A1A2-48D8-8D2F-72508463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9B2C45-959C-4030-91D2-5BD4C455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FA088-7EE9-4253-8D3D-4CD426D7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1BDD7-8D9C-49C5-BD17-05F507C3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99D4E0-4412-4AF2-9D80-A047201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5E0F9-A987-4EF6-A0C3-160D9C20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4F3601-D91F-4CC4-8AEF-604DE7B2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C0628-CDC2-4FF4-9C03-ED329DC3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94654-4348-4308-B7E2-F06EA62F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249A5-30B4-4A11-B3F5-5725E4F6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2FEB3F-5113-4D90-B77A-CB99C540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E738E6-B240-4437-ACB8-05110747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9A0B9-6FF0-4C8B-B417-8F316029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0E557-0E2B-4EE7-8118-FB2E77B9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749C3-F1DE-44ED-8339-61B2FB49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1A3178-4351-4C40-AC8F-799AAB4F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FFFFB-45CF-4D66-A0D3-207230C3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622A6-5766-475D-9134-BB159A578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8E91B-F890-4E8C-A083-E0BAE0418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C18C-AB0A-4831-947A-84699359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55CC3-17AD-408E-A515-D7E586A8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820370-A837-4501-B9D1-D41FA665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FEC67D-48D4-448F-AE9C-2F231A6C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C3DB0-C892-48DD-A697-20599C53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45FBDF-A065-4CA1-BA74-77C42160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5F4E5-5BBE-40B1-982E-8977F3B5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7E5B2-19AE-494F-B36C-EC0174FB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55240-94D4-4171-9050-A92757AA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517A7-BD6A-45A6-81A6-84979191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DC160-5948-47AF-B503-6933A16E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D832-C1EB-44B5-AE11-AEDF3D84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B86F6-F675-498E-9969-D4C2F2D3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4AEE5B-7455-4823-874E-FA7FC873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4DD8F6-66C7-4D90-9137-3836763D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66480-D88B-455B-B9FD-BC2ED5FC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6239F-476F-4BE6-ADF1-2DF6A4A6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80985-E096-4CFF-956B-86B1447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22CD57-D0A9-4E6C-A788-D784DA34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F3BFE-BDB4-46B1-92B0-76CF30AB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2479A-765A-43D7-AB3F-54BC6FA3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9AA43-A9FF-4318-B341-F6F1276C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7A1-A3D3-4337-87CA-2C515B84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337B-C85D-41AD-9D4F-C232BC1F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34E8B-66E9-437C-8C63-6CA50CF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2AAD6-6BAF-4E45-959A-16F5F28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3998F-826E-42D6-A60F-26E0D781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7FA46C-3CC7-49E7-ABD1-2C860D5E1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DCF2C-23C8-4557-922D-8C628740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05EF3-29E3-4BB1-85B5-DEE97866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EFEE5A-7B13-41B2-996F-9404980B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161DC-75B9-44FB-B6AD-1799BABC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B72FC9-0F1D-4817-B350-8DE46512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2DB29-289E-4DD9-B04C-5BF5E7F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7208-AFF2-4B43-9366-6D16C89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54831-847B-4874-848F-C1B5569B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161447-5C2B-4823-BE13-5B684D78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BEEB28-D0B7-402D-A02B-5DE94F49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867A4C-3170-47DC-A79C-274297E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1EF92C-21D3-4CF0-93B5-A8D15981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50B965-3310-477A-AD1D-D1BA6F8B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2F864-6439-4F06-9F11-310E6A43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8C17B-AD3F-4C59-9C9B-8A40462F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A6E9CC-D47E-44D8-BFF4-CA7B2AF4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2D1046-0669-4F6C-8AE4-4542A751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ED3D-5DB9-468B-8AE9-874F8FDB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9C0FC3-CEFE-43F2-B14C-9136B19F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74255-6651-473B-900F-E46F39B5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03571-288F-494E-8575-055247D2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EE3F2-CE46-4B71-AE03-82908CA7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7BE667-8370-4C24-962E-287AE361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0B432-F486-4464-8D9D-91A970CC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AD789-6329-4969-BF74-E9C227A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DC4457-29F0-456C-ABEF-B7EB9D01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08F94-F467-4B7F-82FE-93B398C3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11F89-E7E9-4EC7-885E-8924061C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94D1-0825-428F-B59E-C4E17A99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9FC60-F737-483A-83A6-C794BC38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CF0AB-7419-4BEA-BEE2-0B8589E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B11CDF-86FA-432C-9A62-8DF602CD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FB0612-4C78-4A1D-BDD5-4B6816F6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339E92-8843-4600-974B-FD92B3BD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1609CC-FFDA-40C7-A6AE-B093369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648444-CD30-48A5-8287-17ECFA7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A7BE5D-DE56-4C3D-AA5A-1BC48BAF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7084D8-4078-496E-8169-B7581065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B05B01-E3DE-436B-AA5A-01648374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6C2F-8378-4A9E-81ED-100B234A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38CB26-82B0-45F3-964D-920CCBA1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47C64B-CC27-49D8-B276-F60F13C4C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1BB969-3B11-41D1-890F-B0A775A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35B07-FE8E-4D0D-B63C-CE799EF0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3F8971-A060-41D1-B911-D9852A7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61B61-B32C-4AAA-BC88-086BA298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D88EDC-A03D-4834-B28B-E1AA35B9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07A770-DC7D-4E79-8EFA-E2F1E4F5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5B25E3-6EBD-472D-8364-ACE48268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82E4DC-F65F-4FA5-AB1F-9C0D5F4A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B109-EC60-49A7-92A3-FC1CCA125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D5223-9FEA-4422-A3C4-F2FD7C51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2CA537-E1F4-44DC-8AF8-BDB9D109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B710B4-8533-46E0-A2BC-19E78725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046339-1C12-4D14-A120-B369B92F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451EDA-2D0F-4AB1-9F0C-BE423D6A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87BD92-AD1E-4266-BCD5-63A6B15A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2FE380-C176-4B8D-8E8E-64FAD96D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4AFA3-F2E4-49E7-8FC0-6454F5AB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8D1CFD-9C89-4FA0-9009-8152B732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52DEF6-D202-4027-B5FF-D2E4DC40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FEAC-8557-4804-A4C8-964BE97B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D55C5-A581-4582-BCAE-EBBA3591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DEB9D4-A668-4EDD-828C-D27E22B2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E1B31-40E4-4D9B-9008-E3BC78A6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F657B7-E7B9-4E0B-80C2-AE8A2CA6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7E0012-C142-4D9F-8DFB-4021C9B55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2C6B79-BCC7-4772-956B-4C59DE34C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B08CC-2D64-4DFF-99A0-DC009CF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54763B-EAB0-4D8B-AC18-75AE1E70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6F4354-ECE1-4D80-A559-2994A2F6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E9764-1790-4391-A72C-1346319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571C7-E9DD-4A22-86B0-3970DC55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D27224-E6EC-466C-B49C-9F7C46FA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74A7C-19F2-48C8-8FD4-F4877EC5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6B958A-D020-45EE-8FBC-31DEE22B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5E3DF-D7B1-4F6F-BED4-E640E1A6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C192CD-C6E9-4D7E-BBE0-467DAF18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C95EF9-7201-46CC-A48A-7301F355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6AEAD6-C08A-4F2D-977B-1E3FB3F0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B37F20-FAF1-41BA-810C-539FBCE2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65FE2-19B8-4D66-A45C-408B8919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5D1D48-A242-4504-BB9B-98CAE5C0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E3C8-2A46-4317-AFEF-F43413C5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80ABC-89EB-4855-A90D-1734EC26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1F36C8-702E-4327-ABC4-8C5F9658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1B8268-E7BB-4239-892E-5379C114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5B0E6E-AA2A-407E-A5C2-E090DBAD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CAF9E9-402A-448E-A370-2057EF7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A985C1-B30C-4D00-8296-AD6B2D31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E24E4F-FCB6-4DD2-B390-2E7828AD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F91A9-2850-49D9-B29C-09CAE58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8B4BDA-B4B5-4206-B449-789036025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F2B0A-6C5F-4D5A-A593-5FD469ECB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06D08-6737-4161-82F2-1DD6F69E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92A334-2BFA-480E-BE47-2D5485A4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9B73F6-9DCD-4A84-9235-AE770A7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1B0191-FC38-49B1-A149-5E3B6163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5FEF12-82D3-421F-A122-4F8415B7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606FEF-EEA9-4770-BF2A-C52D6A4A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6F3F1E-8D5D-481D-A59F-CA23BCFC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1C8DED2-AD6A-4975-A490-DF2CB056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86A2C4-CCA5-43DB-8A03-BD84DC0F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051491-2172-43D6-BF2F-F95614E9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E8BA00-DADC-4512-AF6B-249F2E8D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5399-4322-4B6F-890B-18FFAC5B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B70E2-98C4-4D61-BDF7-1E0930CA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C75D9C-A932-4182-B2D6-B96BF704D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3D41B9D-6961-49C9-934A-82D9BCF4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07B34E-922F-46BD-BF54-C4BD7F3C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32B400-2C03-4E92-B893-45A1E7B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CAC4F3-2E90-467A-94E5-D2EB821C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EBA0A9-9D4D-4C0E-91CF-E624677C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F834E-6008-4B6C-AD72-B31EBD0A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0D6B4D-79D5-47AD-99E0-D73A19CB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825216-1205-49A9-8915-BEF2E4C9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E4F5E0-9199-4D54-8D56-E669E494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8102D-CC34-4C93-87C8-B06CF3C4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CB3A81-287F-4C96-AD9C-D71E2FA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9D6842B-4024-47E4-91C1-CDF7E340B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687104-AB3A-471F-BAEB-7B49F4B4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99C68AC-A42C-4976-85EE-35956AB2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D47D05-43E8-42FB-A50F-23FAB7B8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FCAE36-0099-448D-AEA2-5F23833C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1738E4-9C71-414F-9D13-A434ACB7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F15C7C-4E19-44AD-9731-8B93426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5E9AF9-35BC-45B7-A70F-DDE7C85A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D5843D-F610-4C60-9845-A71774B7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B3569-78C4-404B-B7E6-86BD2E0A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D764A1-D1BF-4706-B035-B154F0EB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9CF405-6FAE-4EE5-B750-2049B2ED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4B1C92-2B8D-40FB-9368-A5A239A5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2E2427-1706-4647-8D19-5D9B693A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C11DE-47BB-43D9-9122-A39D6097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627484-C3AA-4F39-A023-77F4E656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1C46E8-8AF9-45BD-AD6C-FC63D187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5E6C0EF-5961-4312-86F1-B25BCD29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0D0523-4BF9-4159-B58A-94CAD2C5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5B757B-3524-4C14-BA13-AE21E370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EC414-789F-4C36-BFA5-CDA18BD8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694D683-8B71-4C67-9C71-359D8D00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92F38E-029B-409A-B782-9F477C1B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D36CBD-3E3B-4A89-8182-C0A9BBB4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86FC09-76A9-40FF-AE36-893FBDB1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9659BE-DE8A-495E-9A0C-03A80B5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A73171-D390-48D6-A267-6B190CB4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E13CF0-9B57-4EB5-8D1D-5E768F69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9AA04B-BB94-46EF-868C-79F34C65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15240B-A446-4B77-A3BF-67385CB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C0B8C-1B8F-46D0-9B04-622DFA3B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07DF2-7697-4A9D-8635-1309D5CE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7E23374-55EE-41F6-B80E-B93DAF4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7A4B1E-A1BC-4A56-9559-CD194EBF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4C875E-1B48-4FEA-8A5C-CAF4F8E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7C4E95-DF95-4216-ABB8-20B593F0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086E38-FFD1-4B0C-BD45-FCCB76F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43E284-AD8A-47C0-A139-3C049148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4303C4-F4BD-4D05-86FE-909C9DBF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BC8596F-3AC3-42E1-AE7A-CC21FCBF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DA31A2-08AD-4EE1-8BC1-EA416061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AF556F6-AD93-425B-B117-A5E225AE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B0184-1370-4F93-B3E2-AA8AC64AF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22DEBA-F94E-483C-9A24-E697DDF5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CAFE31-36E0-4508-AF8F-58A137E1A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9E1270-8339-4043-8844-A007663A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BE3083-4404-4AFD-A0CC-523F3BE3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4583EA-41E1-4575-830D-A0FAABE7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08283D-A287-4C4E-8FC4-CD6013A2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29318F-A796-49F9-86BD-C3CFCAC9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746711-5BB5-40FE-9EB7-FC50E1E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43AAB7-2001-49AA-9112-BE721B95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B4607F-B135-4BFE-A3DD-38DBD182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2B23-CB67-458D-96D9-A53639602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9B1CD0-1E55-4206-BB5E-C4459A0F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464A50-3D60-4047-B9E1-C3C4CCBF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234F7A2-8241-475A-B487-75B99917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B274B2-F62D-4CC7-B966-86BAB699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2FA2CB-9698-410A-B7C5-85EB99AB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C3816E-94FB-42C5-AD76-A98BCBA8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A12B038-4129-4302-BFBB-377ACFA7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1BFDEC-E7DA-4D1D-A1BE-28D042ED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A9591EA-D0B0-4D22-B4AC-3F3B3D27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E9B3B7-3301-411A-8124-24E20418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DCA9-87F1-49A7-95B3-F622A657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DD96EC-481B-4180-AC88-D1139306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AC8DB6-1FD1-4A40-8CCA-4F0E9F50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619567-47C8-4BE3-A34B-F2CB148B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D5005D-1025-460C-8C75-2B965660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782067-F746-4D34-88E5-2D96856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BBDB73-218E-4680-8D82-FDF90DE4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534AE0-81EE-4244-B432-7CBD9340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D35BD9-F9D8-4BE7-8747-E3F71EC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BEF210-1B87-439C-9503-AC70196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FB30877-E373-4E5F-AE95-9228E4FD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7C755-0B61-49B4-A4BC-7D24A8C9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238555-6F56-4063-B7BE-3AD2AF2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02E3539-67AD-4655-B7BA-00F5955E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530F406-AADD-4B60-B2F0-A2CCEF1E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EE280B-FD30-4732-86E9-9197BC02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F46467-D178-43E0-B44C-B7381BB7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29C8CA-3A0D-4E3F-B934-05AEF443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9B278F-E86D-4904-ADA6-78AFC19A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684288-C488-49DD-ACCD-F9E93558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0B9FBD-8B9D-41DD-BD20-AA0AD793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3109A2-1DC2-48B1-BECB-9900F918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02703-C2AE-4B1A-BF7D-FDA17BF0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C208C-9278-4081-B160-B0F500B4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9C48AF-3AC6-494E-AA4B-21E6D717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A5F6DE-F2A8-4B96-A07F-3B9E632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E8D485-1820-4104-AFF4-4790192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9EB45F-1BFC-473B-8191-18DE4FD0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EA0F71-968F-4A59-BC74-4F88CBA7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B843F0-F49D-45CB-976E-ADECF167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CA4CF6-6C22-4D56-A5EB-B440D75C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4BAEDC-8C42-4749-8DEF-8AE75C94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C09FC1-3970-4D45-8A99-49A60031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9C3-FC25-41BE-BD17-D7647E61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6AE6C-9350-4A90-BD93-11D91ED8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271A38-4931-40FD-B992-8CD4325A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7EBFCE-3A2E-48DB-9305-3F53593D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6D3723-5241-41A3-8939-74C8FCB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6FFC618-B6D0-4DAB-98FB-D19D7E3C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447CB9-E95E-4D59-BB46-64D64100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134350-F0D4-47EC-BB1C-B8DF8836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2CEC9C7-9386-403C-B9FC-100F4454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F29580-DB71-434E-9BAE-E5D82A38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5FA8646-338E-4D01-B9DE-259B5733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379B2C-978C-4F22-9BC6-3BC43CDE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7FEB-E2A4-43C3-A6C3-44797AA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51530CF-DA2E-4B6A-9A9C-B73B9B5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D9EFD2-047D-4659-B950-CDD37035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EA003A-0CD5-4BD0-988D-3120F9E2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9C5E7EE-C419-48E1-AB64-CDE95424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B93341A-9731-4390-BAC8-71EFA2C6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11067A-67AE-4C29-8670-3831DA17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A59E4F-2456-4FD8-BB97-4D602A1E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A12E749-CC89-4135-B144-80F7AF89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EBA59C5-79C2-4D8A-BE48-FE271F49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3E1EC8F-509D-4D2D-B715-3BA44EF8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040DA-2285-4A45-B0FE-C73B1CD4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E7CAA26-A6CD-434F-AF30-AAECA2A0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70618F-0C2A-4EDA-84B5-23F7E260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D47370-D949-43A9-9272-D0ABA584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8A185DB-3BA9-4173-9264-E7000E6D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65D02F-3E78-4291-9E67-138FDCA5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1A8674D-B520-4B18-8B81-CD7E2A9F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AD36DB-70A1-40D4-9257-86275828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03063BC-EB90-4724-BBC3-AFC3499B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55D3CE-EC01-464C-972A-7A562889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8B9E53-40FF-4256-B362-A7192F94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3E42-D1E3-43DF-BD3C-0487CBF7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879D58-EC74-4E93-9F78-A48933D9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3D0B3D-C977-45E4-8EDF-6B976C42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75E7E9-E370-4DDB-A6D8-2071EC1C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7E66-33A0-4905-A285-ED892FDF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4180A-0F97-491B-B5EE-54BE48C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FB663-84A5-49FD-82A4-F23D4E23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F5959-6E95-42D3-A1AC-ED22D7E6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ED05-057F-4079-8090-85955E82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61BF-B836-415A-8DAF-916DEAB5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C13-9AC5-4683-8DD9-2DB50460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AC778-A608-4998-B7F6-855931C8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867EE-4B3B-4FC7-BFB5-A00ACAFB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D037-EDA0-4AA7-A21C-10FA4B62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C25B-3C3E-4D52-BD4A-B8EAF6E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9DAE5-F168-40EF-A6A4-78FE51BC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CAFC4-427A-488C-B985-F0CA908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ECBBD-D370-4135-AE56-0A0CBEE6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1DF5A-16AD-4A15-BEDC-688B2033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578C6-2F32-4AC0-90E8-7D5620A1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4079B-72FE-4EF4-AA58-70136251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E5B-36C5-4C8E-A8F5-49205F87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1641C-273B-4F4D-841E-59F2BBB9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3D327-498B-4EE7-8414-2111A022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5A2F-3435-4734-B452-06095020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50EBC-70A5-4429-92DB-A177CEB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873C4-3829-4B4E-B714-70E0A6A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4A43-D9DB-482B-9960-0744DA99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6842-41BA-4229-834F-CEA08555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44629-309D-4A8C-BCBB-2B25B69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F3A11-27E0-4804-BA18-F51BF8CD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8A0FA-887A-4816-ADA4-BE465CA7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C44B-C953-43C0-91BD-46342E3F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803DC-C747-4B40-9022-6EDC7D0D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A4DB0-EFB0-4EB1-BC7D-AE759555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EDCDD-A732-4C39-8F3E-2A1D0AD1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5E409-1A52-4B1C-A799-482391B3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636F5-8D45-4D19-9525-C1A0A08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BFCF-11B6-4698-B2A8-4871EBF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E77E4-75EE-4D4E-82DC-38B623C1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55E64-E71C-4DC2-B3C0-26D6903D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85DA4-BF63-4DCA-8986-65340076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2F6F1-4A81-48F8-A9C7-601E3D5E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E39-29C6-4E9E-8948-E6F12A9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AC65-6182-4896-B439-A587752E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6524C-15BF-40F6-A281-F2DA58C2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77B94-62C2-4B27-971A-37D99900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CCEAD-C7C5-4973-99F4-7F297057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F53EF-0BD4-47A9-96EE-F99CBBE48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645C-50AD-4511-B7B6-D1B603C3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061AD-32AC-446D-A495-64FAFD79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E3254-D4C1-47D4-84A4-27525C9A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DD5A-69BE-4158-ADF8-757982E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8C94E-C2C1-4AE6-A2B5-9F38F01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9FA2-C5BB-4827-AA42-5DB7861C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431E2-A3D1-4A38-B62D-DF955C06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54EF2-EE30-46F2-B6DE-64AE99F5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3F9A7-47C0-44F8-9C09-17018C5D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ED76D-8356-4476-BAB6-FEB14E2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89D80-9F9C-4F1E-A657-F93EDB2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C5EAC-304B-4403-B7F7-A62C82BA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25020-324B-4D94-8C05-38FB4A20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1A8BE-FD0E-4CB9-B6C2-F3A920AF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69BD6-FDBF-4383-A748-7E0771E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6B1A5-17DD-4A65-ADE4-D1C52B9D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2F3D-07C1-41C5-BD3E-D257B013A36E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128A-1561-471A-8D3A-2786EDF9ABF9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C4D-0748-494E-B0F0-651A4EF72B11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95A-E4FC-45FF-A54F-1931B1CD578B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9787-B994-4765-A646-556F96C5C656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C22F-A69D-4756-923D-0D88D34EC76E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A9D7-DC11-4949-8233-E09D1D2F9824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3F6C-BE77-49A6-A70D-A87FC263EFB1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F37E-9F8E-4B70-A3C1-994666B29DA8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D312-50DA-4C02-8989-560D49DFEBC3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F688-9625-4142-9A5A-1ED4CA2E749F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72FA-6C2E-4F69-8EDA-FA5E7F9B0AA7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E735-D0EA-4C11-85A1-C9A024025D2A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83C6-C3E7-4C1A-A621-E46E78A75E4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289-F14D-40E3-B5F1-872C48D4406B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EB1-3AA4-4273-AD19-D7BA38DACF9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847C-84A7-444C-9CD8-46225E132D5D}" type="datetime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61C7-A43B-4827-9ED8-75ED362D083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FC48-65A9-4064-9850-969CA96684ED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D4C3-F978-4772-8754-27E8830F6BC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AAC7-C5B2-41B8-AE2D-F71C23A0C8CD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1719-C0F1-4221-BA22-B0ECE3F37C1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DC46-3BE4-451E-B834-6D40A4AF2071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7830-C9EF-41A6-B91E-775FEE29ADF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C88D-999C-4F03-8864-DDA590D08E9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214A-2AD5-4662-922C-8D104104B72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9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6D21-0EF4-4CD9-9167-97D187BCD3E4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3466-05F5-4DFD-9FC1-96BF2264A59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2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66E-7141-4FB2-B01D-4F67ED2F9342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0714-8A90-4808-BDCE-2A2FC713B82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F527-4BB8-4599-90C3-FAF4F5A8E46D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6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EF96-DED4-44D2-A05C-07993A2160F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3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DCF2-84A1-4FF8-888C-271E9CF37D33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AD96-BF5F-4389-9C57-958A7206476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8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63F0-1A6B-41BE-9AC5-0DFB707D6C20}" type="datetime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sldNum" idx="7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B3EE-6C21-47D0-BA17-DF637BAB202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D655-AD60-47A5-AD63-045AA8BB95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A512-D97E-4D1A-87F8-8ED7D6DF1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484C-9E47-42F1-8955-BD25336A498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C5B6-1A8B-477C-BD83-ABEFE6177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1B82-32FC-46AA-B626-250A51471AD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3849-A6BA-48EC-8848-74E1FD26B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E01C-46D9-43E5-9238-7F5A255619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8FD9-A3AF-4CEB-AC0F-98305004DF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07E2-9F91-4D07-A00B-5556773EFD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15F8-CA64-48AB-AF61-409002F966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F729-56F3-430E-BFA4-5450DF45D11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81D-0D8D-4E5B-854C-57D0A870B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B35-94C4-4E19-B424-B37B32653E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044C-23C9-493F-A744-8700B099B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315F-0B7A-43D5-88DF-992D99108E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C77-9E43-49C3-8531-1D8E0C4FE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0004-488A-42C8-8F35-362D5E1921A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E551-13F9-4F45-9904-39883B8B57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1AB1-7D7B-4571-8ED4-B59E7C7AFF1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401E-A376-4491-9D25-F7A4605A3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7AFD-E308-4AD2-B84D-08CD1B7E5F2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B979-176D-447C-A31D-7289F0F5F0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C92E-B4D7-4F9F-A4BF-FD02A0CDF3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3212-9D25-42FE-974C-625E4C30A6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B9AB-F949-4D68-A94D-724C0FB1510C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EAF5-41A7-49F0-8173-109AA293F74A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6B49-5490-4825-A924-B4EB2989EA10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777B-C76A-4C3A-89C3-4752CF3F5FF1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80E7-27AC-429D-B395-11B9B54F3975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24A8-405E-4576-A11D-E5933DA9300A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B20C-7F8F-4BF0-90F3-D372F2D25457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0B55-B033-423F-B920-3B9FB18EAC9E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AC13-179A-4C4A-B4C4-6E22A06BEB55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B79A-A656-41E5-A174-12A7333B143F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32003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32003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a9a10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fe00f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f0f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FCEA-E08D-4FE4-B126-DE25DA6C0680}" type="datetime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b7a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661F-B391-4022-A696-2321806C0270}" type="slidenum">
              <a:rPr b="0" lang="ru-RU" sz="1000" spc="-1" strike="noStrike">
                <a:solidFill>
                  <a:srgbClr val="3b7a2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0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Заголовок 1" descr=""/>
          <p:cNvPicPr/>
          <p:nvPr/>
        </p:nvPicPr>
        <p:blipFill>
          <a:blip r:embed="rId1"/>
          <a:stretch/>
        </p:blipFill>
        <p:spPr>
          <a:xfrm>
            <a:off x="542880" y="1378080"/>
            <a:ext cx="830268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CE2-3FB8-432A-854D-B4CECE6C1FEA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1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3" name="TextBox 3"/>
          <p:cNvSpPr/>
          <p:nvPr/>
        </p:nvSpPr>
        <p:spPr>
          <a:xfrm>
            <a:off x="857160" y="73080"/>
            <a:ext cx="828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оғары білім беру мамандықтары бойынша бейінді пәндердің комбинация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4" name=""/>
          <p:cNvGraphicFramePr/>
          <p:nvPr/>
        </p:nvGraphicFramePr>
        <p:xfrm>
          <a:off x="250920" y="890640"/>
          <a:ext cx="8713800" cy="5211720"/>
        </p:xfrm>
        <a:graphic>
          <a:graphicData uri="http://schemas.openxmlformats.org/drawingml/2006/table">
            <a:tbl>
              <a:tblPr/>
              <a:tblGrid>
                <a:gridCol w="771480"/>
                <a:gridCol w="2922480"/>
                <a:gridCol w="3084480"/>
                <a:gridCol w="1935360"/>
              </a:tblGrid>
              <a:tr h="7524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ейінді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ейінді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мандықтар 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т ті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т тіл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ам. Қоғам. Құқ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қыту тілі және әдеби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р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рлығ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өменде көрсетілген марапаттардың иегерлері жалпыға ортақ тәртіпте ҰБТ тапсырады. Бұл тұлғалардың басым құқығы басқа талапкерлермен баллдары бірдей болған жағдайда ғана ескеріледі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6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02EB-7DAB-4E6C-B162-1EE89CACF4A5}" type="slidenum">
              <a:rPr b="0" lang="ru-RU" sz="10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7" name="Схема 2" descr=""/>
          <p:cNvPicPr/>
          <p:nvPr/>
        </p:nvPicPr>
        <p:blipFill>
          <a:blip r:embed="rId1"/>
          <a:stretch/>
        </p:blipFill>
        <p:spPr>
          <a:xfrm>
            <a:off x="596880" y="1414440"/>
            <a:ext cx="8089920" cy="545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8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9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DD95-F958-417D-BE0E-EA350F516D25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1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2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3" name=""/>
          <p:cNvGraphicFramePr/>
          <p:nvPr/>
        </p:nvGraphicFramePr>
        <p:xfrm>
          <a:off x="324000" y="762120"/>
          <a:ext cx="8591400" cy="3957480"/>
        </p:xfrm>
        <a:graphic>
          <a:graphicData uri="http://schemas.openxmlformats.org/drawingml/2006/table">
            <a:tbl>
              <a:tblPr/>
              <a:tblGrid>
                <a:gridCol w="1601640"/>
                <a:gridCol w="582480"/>
                <a:gridCol w="1455840"/>
                <a:gridCol w="2257560"/>
                <a:gridCol w="2693880"/>
              </a:tblGrid>
              <a:tr h="53964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лок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псырмалар 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псырма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ғалау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</a:tr>
              <a:tr h="789120"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алпы </a:t>
                      </a:r>
                      <a:r>
                        <a:rPr b="1" lang="kk-KZ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йіндік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gridSpan="2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лпы базалық пән бойынша академиялық тапсырмал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525240">
                <a:tc row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йіндік пә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a9f2"/>
                    </a:solidFill>
                  </a:tcPr>
                </a:tc>
                <a:tc rowSpan="3"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еңдетілген академиялық біл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78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немесе бірнеше дұрыс жауап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ық бағалау және академиялық білімінің орнықтылы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  <a:tr h="13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тапсырмаға 2 ситуациялық тапсырм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ір дұрыс жауапты таңдауда ситуациялық тапсырмал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2fa"/>
                    </a:solidFill>
                  </a:tcPr>
                </a:tc>
                <a:tc>
                  <a:txBody>
                    <a:bodyPr lIns="67680" rIns="67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адемиялық білімі, икемділігі мен дағдысы негізіндегі пәнді практикалық түсінуін бағал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fc"/>
                    </a:solidFill>
                  </a:tcPr>
                </a:tc>
              </a:tr>
            </a:tbl>
          </a:graphicData>
        </a:graphic>
      </p:graphicFrame>
      <p:sp>
        <p:nvSpPr>
          <p:cNvPr id="1664" name="Прямоугольник 1"/>
          <p:cNvSpPr/>
          <p:nvPr/>
        </p:nvSpPr>
        <p:spPr>
          <a:xfrm>
            <a:off x="358920" y="4700520"/>
            <a:ext cx="84312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k-KZ" sz="1500" spc="-1" strike="noStrike">
                <a:solidFill>
                  <a:srgbClr val="000000"/>
                </a:solidFill>
                <a:latin typeface="Arial"/>
              </a:rPr>
              <a:t>Тапсырмалар саны:  </a:t>
            </a:r>
            <a:r>
              <a:rPr b="1" lang="kk-KZ" sz="1500" spc="-1" strike="noStrike">
                <a:solidFill>
                  <a:srgbClr val="ff0000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аксималды балл саны: </a:t>
            </a:r>
            <a:r>
              <a:rPr b="1" lang="ru-RU" sz="1500" spc="-1" strike="noStrike">
                <a:solidFill>
                  <a:srgbClr val="ff0000"/>
                </a:solidFill>
                <a:latin typeface="Arial"/>
              </a:rPr>
              <a:t>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Шектік деңгей: 35 бал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ір немесе бірнеше дұрыс жауапбы бар тест тапсырмаларын бағалау тәртібі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дұрыс жауаптарын толық таңдау - 2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1 қате (1 дұрыс жауап табылмады немесе 1 дұрыс емес жауап таңдалды) –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 2 немесе одан көп қателер – 0 б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TextBox 3"/>
          <p:cNvSpPr/>
          <p:nvPr/>
        </p:nvSpPr>
        <p:spPr>
          <a:xfrm>
            <a:off x="647640" y="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лледжді аяқтаған қатысушыларға ТКТ тест тапсырмаларының құрылым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қысқартылған бағдарлама бойынша оқу ныса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BCE-A748-4337-B4EB-D43C65146067}" type="slidenum">
              <a:rPr b="0" lang="ru-RU" sz="1000" spc="-1" strike="noStrike">
                <a:solidFill>
                  <a:srgbClr val="3b7a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7" name="Схема 2" descr=""/>
          <p:cNvPicPr/>
          <p:nvPr/>
        </p:nvPicPr>
        <p:blipFill>
          <a:blip r:embed="rId1"/>
          <a:stretch/>
        </p:blipFill>
        <p:spPr>
          <a:xfrm>
            <a:off x="596880" y="365040"/>
            <a:ext cx="8163000" cy="6340680"/>
          </a:xfrm>
          <a:prstGeom prst="rect">
            <a:avLst/>
          </a:prstGeom>
          <a:ln w="0">
            <a:noFill/>
          </a:ln>
        </p:spPr>
      </p:pic>
      <p:sp>
        <p:nvSpPr>
          <p:cNvPr id="1668" name="TextBox 4"/>
          <p:cNvSpPr/>
          <p:nvPr/>
        </p:nvSpPr>
        <p:spPr>
          <a:xfrm>
            <a:off x="1258920" y="5589720"/>
            <a:ext cx="68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ҚР БҒМ 2010 жылғы 21 маусымдағы №316 бұйрығымен бекітілген, ҚР БҒМ 2016 жылғы 4 тамыздағы №489  бұйрығымен өзгерістер мен толықтырулар енгізілг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9" name="Объект 5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0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Номер слайда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523D-7A58-4BE6-A1E7-8A9441281106}" type="slidenum">
              <a:rPr b="0" lang="ru-RU" sz="1000" spc="-1" strike="noStrike">
                <a:solidFill>
                  <a:srgbClr val="3b7a2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Схема 4" descr=""/>
          <p:cNvPicPr/>
          <p:nvPr/>
        </p:nvPicPr>
        <p:blipFill>
          <a:blip r:embed="rId1"/>
          <a:stretch/>
        </p:blipFill>
        <p:spPr>
          <a:xfrm>
            <a:off x="171360" y="858960"/>
            <a:ext cx="8753400" cy="5852880"/>
          </a:xfrm>
          <a:prstGeom prst="rect">
            <a:avLst/>
          </a:prstGeom>
          <a:ln w="0">
            <a:noFill/>
          </a:ln>
        </p:spPr>
      </p:pic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ілеудегі әлемдік тәжірибе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1674" name="Объект 8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5" name="Объект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6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7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8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стілеуді ұйымдастыру және өткізу мерзімі (шама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9" name=""/>
          <p:cNvGraphicFramePr/>
          <p:nvPr/>
        </p:nvGraphicFramePr>
        <p:xfrm>
          <a:off x="500040" y="558720"/>
          <a:ext cx="8400960" cy="5192640"/>
        </p:xfrm>
        <a:graphic>
          <a:graphicData uri="http://schemas.openxmlformats.org/drawingml/2006/table">
            <a:tbl>
              <a:tblPr/>
              <a:tblGrid>
                <a:gridCol w="3067200"/>
                <a:gridCol w="2449440"/>
                <a:gridCol w="1298520"/>
                <a:gridCol w="1585800"/>
              </a:tblGrid>
              <a:tr h="879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р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ізгі тестілеу -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Қайта тапсыру -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Қайта тапсыру -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128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ілеуге қатысуға өтініштерді қабылд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наурыз – 10 мамыр (ҰБ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0 маусым (ТК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8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12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 емтихан тапсыру үшін өтініштерді қабылда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ығармашылық емтихан өткіз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ілд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икалық мамандықтарға қатысуға өтініштерді қабылдау және арнайы емтихан өткіз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18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ілеуді өткізу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аусым – 1 шілде (ҰБ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шілде – 23 шілде (ТК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– 24 тамыз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– 24 қаң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0" name="Прямоугольник 1"/>
          <p:cNvSpPr/>
          <p:nvPr/>
        </p:nvSpPr>
        <p:spPr>
          <a:xfrm>
            <a:off x="468360" y="5867280"/>
            <a:ext cx="84326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** ҰБТ – 165 ҰБТӨ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** ТКТ – 44 базалық ЖОО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**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қты мерзім ҚР БҒМ бұйрығымен анықтала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Номер слайда 2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5EB1-00E7-4B67-82C2-55A2ADBC0232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2" name="Заголовок 1" descr=""/>
          <p:cNvPicPr/>
          <p:nvPr/>
        </p:nvPicPr>
        <p:blipFill>
          <a:blip r:embed="rId1"/>
          <a:stretch/>
        </p:blipFill>
        <p:spPr>
          <a:xfrm>
            <a:off x="2266920" y="2852640"/>
            <a:ext cx="6512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 txBox="1"/>
          <p:nvPr/>
        </p:nvSpPr>
        <p:spPr>
          <a:xfrm>
            <a:off x="717480" y="29512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54a838"/>
                </a:solidFill>
                <a:latin typeface="Arial"/>
              </a:rPr>
              <a:t>Назар аударғандарыңыз үшін рахмет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Номер слайда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75C6-1C4C-4D82-BCBE-82C2519323B1}" type="slidenum">
              <a:rPr b="0" lang="ru-RU" sz="1200" spc="-1" strike="noStrike">
                <a:solidFill>
                  <a:srgbClr val="045c75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4" name="Диаграмма 3"/>
          <p:cNvGraphicFramePr/>
          <p:nvPr/>
        </p:nvGraphicFramePr>
        <p:xfrm>
          <a:off x="57240" y="1362240"/>
          <a:ext cx="5213160" cy="569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1362240"/>
                    <a:ext cx="5213160" cy="56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6" name="Диаграмма 4"/>
          <p:cNvGraphicFramePr/>
          <p:nvPr/>
        </p:nvGraphicFramePr>
        <p:xfrm>
          <a:off x="5025960" y="1290600"/>
          <a:ext cx="4060800" cy="5573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7" name="Диаграмма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5960" y="1290600"/>
                    <a:ext cx="4060800" cy="55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8" name="Заголовок 1" descr=""/>
          <p:cNvPicPr/>
          <p:nvPr/>
        </p:nvPicPr>
        <p:blipFill>
          <a:blip r:embed="rId5"/>
          <a:stretch/>
        </p:blipFill>
        <p:spPr>
          <a:xfrm>
            <a:off x="1504800" y="378000"/>
            <a:ext cx="6480360" cy="11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9" name="Объект 8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00" name="Объект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Text Box 2"/>
          <p:cNvSpPr/>
          <p:nvPr/>
        </p:nvSpPr>
        <p:spPr>
          <a:xfrm>
            <a:off x="468360" y="958680"/>
            <a:ext cx="8354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5b8f5"/>
                </a:solidFill>
                <a:uFillTx/>
                <a:latin typeface="Arial"/>
              </a:rPr>
              <a:t>БІЛІМ АЛУШЫЛАРДЫ ҚОРЫТЫНДЫ АТТЕСТАТТАУ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істі білім беру деңгейінің мемлекеттік жалпыға міндетті стандартында көзделген оқу пәндерінің көлемін олардың меңгеру дәрежесін айқындау мақсатында жүргізілетін рә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та білім беруде білім алушыларды қорытынды аттестаттау мемлекеттік бітіру емтихандары нысанында жүзеге асырыл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5b8f5"/>
                </a:solidFill>
                <a:uFillTx/>
                <a:latin typeface="Arial"/>
              </a:rPr>
              <a:t>ҰЛТТЫҚ БІРЫҢҒАЙ ТЕСТІЛЕ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жоғары оқу орындарына түсуге арналған іріктеу емтихандарының бір ныс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TextBox 4" descr=""/>
          <p:cNvPicPr/>
          <p:nvPr/>
        </p:nvPicPr>
        <p:blipFill>
          <a:blip r:embed="rId1"/>
          <a:stretch/>
        </p:blipFill>
        <p:spPr>
          <a:xfrm>
            <a:off x="249120" y="4730760"/>
            <a:ext cx="8802720" cy="11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3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4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5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1E63-FA3A-49F7-A327-706593D86F2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TextBox 3"/>
          <p:cNvSpPr/>
          <p:nvPr/>
        </p:nvSpPr>
        <p:spPr>
          <a:xfrm>
            <a:off x="468360" y="189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00000"/>
                </a:solidFill>
                <a:latin typeface="Arial Black"/>
              </a:rPr>
              <a:t>Қорытынды аттестаттау пәнд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alibri"/>
              </a:rPr>
              <a:t>(ҚР БҒМ 16.11.2016 ж. №660 бұйрығ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7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9" name="TextBox 2"/>
          <p:cNvSpPr/>
          <p:nvPr/>
        </p:nvSpPr>
        <p:spPr>
          <a:xfrm>
            <a:off x="363600" y="515772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арлық емтихандар мектепте өткізі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стілеу оқушылар білім алатын орында республика бойынша бір күнде өткізіле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Қорытынды аттестаттау мерзімі.Шамамен 2017 жылдың 29 мамыр – 9 маусым аралығы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0" name=""/>
          <p:cNvGraphicFramePr/>
          <p:nvPr/>
        </p:nvGraphicFramePr>
        <p:xfrm>
          <a:off x="465120" y="1562040"/>
          <a:ext cx="8290080" cy="3475080"/>
        </p:xfrm>
        <a:graphic>
          <a:graphicData uri="http://schemas.openxmlformats.org/drawingml/2006/table">
            <a:tbl>
              <a:tblPr/>
              <a:tblGrid>
                <a:gridCol w="4700520"/>
                <a:gridCol w="3589560"/>
              </a:tblGrid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әнд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мтихан ныса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на тілі және әдебиет (оқыту тілі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Жазбаша емтихан – эссе (3 саға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Қазақстан тарих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уызша емтихан (биле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Алгебра және анализ бастамала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Жазбаша емтихан (5 сағат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Қазақ тілі  орыс, өзбек, ұйғыр және тәжік тілінде оқытатын мектептер үші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Орыс тілі қазақ тілінде оқытатын мектептер үші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естілеу 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(1 сағ 20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аңдау пәні 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(</a:t>
                      </a: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физика, химия, биология, география, геометрия, дүниежүзі тарихы, әдебиет, шет тілі (ағылшын, француз, неміс), информатика</a:t>
                      </a:r>
                      <a:r>
                        <a:rPr b="0" lang="kk-KZ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376092"/>
                          </a:solidFill>
                          <a:latin typeface="Calibri"/>
                        </a:rPr>
                        <a:t>Тестілеу (1 сағ 20 мин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1" name="TextBox 6"/>
          <p:cNvSpPr/>
          <p:nvPr/>
        </p:nvSpPr>
        <p:spPr>
          <a:xfrm>
            <a:off x="1476360" y="95076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76092"/>
                </a:solidFill>
                <a:latin typeface="Arial"/>
              </a:rPr>
              <a:t>4 міндетті пән + 1 пән таңдауы бойын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7117-6851-4862-A1C1-8E62383C5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TextBox 3"/>
          <p:cNvSpPr/>
          <p:nvPr/>
        </p:nvSpPr>
        <p:spPr>
          <a:xfrm>
            <a:off x="588960" y="189000"/>
            <a:ext cx="82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Қорытынды аттестаттау барысында тестілеуді өткізу технология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ҚР БҒМ 16.11.2016 ж. №660 бұйрығ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4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6" name="Объект 3" descr=""/>
          <p:cNvPicPr/>
          <p:nvPr/>
        </p:nvPicPr>
        <p:blipFill>
          <a:blip r:embed="rId3"/>
          <a:stretch/>
        </p:blipFill>
        <p:spPr>
          <a:xfrm>
            <a:off x="414360" y="1268280"/>
            <a:ext cx="8242200" cy="5040360"/>
          </a:xfrm>
          <a:prstGeom prst="rect">
            <a:avLst/>
          </a:prstGeom>
          <a:ln w="0">
            <a:noFill/>
          </a:ln>
        </p:spPr>
      </p:pic>
      <p:sp>
        <p:nvSpPr>
          <p:cNvPr id="1617" name="TextBox 17"/>
          <p:cNvSpPr/>
          <p:nvPr/>
        </p:nvSpPr>
        <p:spPr>
          <a:xfrm>
            <a:off x="3837600" y="5559480"/>
            <a:ext cx="35197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тихан материалдары, дұрыс жауаптар к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TextBox 17"/>
          <p:cNvSpPr/>
          <p:nvPr/>
        </p:nvSpPr>
        <p:spPr>
          <a:xfrm>
            <a:off x="5334480" y="1495440"/>
            <a:ext cx="3519720" cy="276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мтихан материалдары, дұрыс жауаптар к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8410-8F77-471E-9E08-E59A255099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07960" y="2050920"/>
            <a:ext cx="8229600" cy="23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лттық бірыңғай тестіле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1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TextBox 3"/>
          <p:cNvSpPr/>
          <p:nvPr/>
        </p:nvSpPr>
        <p:spPr>
          <a:xfrm>
            <a:off x="539640" y="538200"/>
            <a:ext cx="826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ітіруші» деректер базасын қалыптастыру және өтінішті тіркеу технология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4" name="Объект 1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5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6" name="Объект 3" descr=""/>
          <p:cNvPicPr/>
          <p:nvPr/>
        </p:nvPicPr>
        <p:blipFill>
          <a:blip r:embed="rId3"/>
          <a:stretch/>
        </p:blipFill>
        <p:spPr>
          <a:xfrm>
            <a:off x="414360" y="1268280"/>
            <a:ext cx="8327880" cy="5040360"/>
          </a:xfrm>
          <a:prstGeom prst="rect">
            <a:avLst/>
          </a:prstGeom>
          <a:ln w="0">
            <a:noFill/>
          </a:ln>
        </p:spPr>
      </p:pic>
      <p:sp>
        <p:nvSpPr>
          <p:cNvPr id="1627" name="TextBox 17"/>
          <p:cNvSpPr/>
          <p:nvPr/>
        </p:nvSpPr>
        <p:spPr>
          <a:xfrm>
            <a:off x="2778480" y="1268280"/>
            <a:ext cx="2863080" cy="36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ҰБТ – ға қатысуға өтіні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6B87-3E33-459D-B34C-61D8CB1EB7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ҰБТ және ТКТ пәнде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0" name="Объект 4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2" name="Прямоугольник 3" descr=""/>
          <p:cNvPicPr/>
          <p:nvPr/>
        </p:nvPicPr>
        <p:blipFill>
          <a:blip r:embed="rId3"/>
          <a:stretch/>
        </p:blipFill>
        <p:spPr>
          <a:xfrm>
            <a:off x="1554120" y="517680"/>
            <a:ext cx="1414440" cy="604800"/>
          </a:xfrm>
          <a:prstGeom prst="rect">
            <a:avLst/>
          </a:prstGeom>
          <a:ln w="0">
            <a:noFill/>
          </a:ln>
        </p:spPr>
      </p:pic>
      <p:pic>
        <p:nvPicPr>
          <p:cNvPr id="1633" name="Прямоугольник 5" descr=""/>
          <p:cNvPicPr/>
          <p:nvPr/>
        </p:nvPicPr>
        <p:blipFill>
          <a:blip r:embed="rId4"/>
          <a:stretch/>
        </p:blipFill>
        <p:spPr>
          <a:xfrm>
            <a:off x="6076800" y="536400"/>
            <a:ext cx="1787760" cy="609840"/>
          </a:xfrm>
          <a:prstGeom prst="rect">
            <a:avLst/>
          </a:prstGeom>
          <a:ln w="0">
            <a:noFill/>
          </a:ln>
        </p:spPr>
      </p:pic>
      <p:sp>
        <p:nvSpPr>
          <p:cNvPr id="1634" name="Выноска со стрелкой вниз 7"/>
          <p:cNvSpPr/>
          <p:nvPr/>
        </p:nvSpPr>
        <p:spPr>
          <a:xfrm>
            <a:off x="468360" y="984240"/>
            <a:ext cx="3598920" cy="3957480"/>
          </a:xfrm>
          <a:prstGeom prst="pi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1 бло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Қазақстан тарихы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Математикалық сауаттылық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Оқу сауаттылығы – 2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Constantia"/>
              </a:rPr>
              <a:t>2 блок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4. 1-бейінді пән – 3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5. 2-бейінді пән – 30 тапсыр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Выноска со стрелкой вниз 8"/>
          <p:cNvSpPr/>
          <p:nvPr/>
        </p:nvSpPr>
        <p:spPr>
          <a:xfrm>
            <a:off x="4859280" y="984240"/>
            <a:ext cx="3600360" cy="3957480"/>
          </a:xfrm>
          <a:prstGeom prst="pi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Жалпы бейінді п</a:t>
            </a:r>
            <a:r>
              <a:rPr b="0" lang="kk-KZ" sz="1800" spc="-1" strike="noStrike">
                <a:solidFill>
                  <a:srgbClr val="000000"/>
                </a:solidFill>
                <a:latin typeface="Constantia"/>
              </a:rPr>
              <a:t>ә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– 20 тапсы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ейінді  пән– 40 тапсы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Прямая соединительная линия 10"/>
          <p:cNvSpPr/>
          <p:nvPr/>
        </p:nvSpPr>
        <p:spPr>
          <a:xfrm>
            <a:off x="4859280" y="2532240"/>
            <a:ext cx="3600360" cy="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1"/>
          <p:cNvSpPr/>
          <p:nvPr/>
        </p:nvSpPr>
        <p:spPr>
          <a:xfrm>
            <a:off x="4932360" y="25956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ілеу уақыты – 1 сағат 40 минут (10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Прямая соединительная линия 12"/>
          <p:cNvSpPr/>
          <p:nvPr/>
        </p:nvSpPr>
        <p:spPr>
          <a:xfrm>
            <a:off x="468360" y="3429000"/>
            <a:ext cx="3598920" cy="0"/>
          </a:xfrm>
          <a:prstGeom prst="line">
            <a:avLst/>
          </a:prstGeom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TextBox 13"/>
          <p:cNvSpPr/>
          <p:nvPr/>
        </p:nvSpPr>
        <p:spPr>
          <a:xfrm>
            <a:off x="539640" y="34290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ілеу уақыты – 3 сағат 50 минут (230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Прямоугольник 14"/>
          <p:cNvSpPr/>
          <p:nvPr/>
        </p:nvSpPr>
        <p:spPr>
          <a:xfrm>
            <a:off x="468360" y="4941720"/>
            <a:ext cx="359892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Білім гранттарын тағайындау конкурсына қаты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Прямоугольник 15"/>
          <p:cNvSpPr/>
          <p:nvPr/>
        </p:nvSpPr>
        <p:spPr>
          <a:xfrm>
            <a:off x="4859280" y="4941720"/>
            <a:ext cx="3600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Күндізгі қысқартылған оқу нысаны бойынша білім гранттарын тағайындау конкурсына қаты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Прямоугольник 16"/>
          <p:cNvSpPr/>
          <p:nvPr/>
        </p:nvSpPr>
        <p:spPr>
          <a:xfrm>
            <a:off x="468360" y="6021360"/>
            <a:ext cx="7991280" cy="647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қылы негізде ЖОО-ға қабылд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Номер слайда 1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7BD-5C56-4151-9CB1-C75BE3832684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Номер слайда 1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553E-4C15-412E-85C8-01C643DB7374}" type="slidenum">
              <a:rPr b="0" lang="ru-RU" sz="1000" spc="-1" strike="noStrike">
                <a:solidFill>
                  <a:srgbClr val="3b7a2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5" name="Объект 2"/>
          <p:cNvGraphicFramePr/>
          <p:nvPr/>
        </p:nvGraphicFramePr>
        <p:xfrm>
          <a:off x="0" y="73080"/>
          <a:ext cx="928800" cy="49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6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080"/>
                    <a:ext cx="92880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7" name="TextBox 3"/>
          <p:cNvSpPr/>
          <p:nvPr/>
        </p:nvSpPr>
        <p:spPr>
          <a:xfrm>
            <a:off x="468360" y="18900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ктеп бітірушілер үшін ҰБТ/ТКТ тесттерінің құрылы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8" name="Таблица 6" descr=""/>
          <p:cNvPicPr/>
          <p:nvPr/>
        </p:nvPicPr>
        <p:blipFill>
          <a:blip r:embed="rId3"/>
          <a:stretch/>
        </p:blipFill>
        <p:spPr>
          <a:xfrm>
            <a:off x="115920" y="615960"/>
            <a:ext cx="8852040" cy="4370400"/>
          </a:xfrm>
          <a:prstGeom prst="rect">
            <a:avLst/>
          </a:prstGeom>
          <a:ln w="0">
            <a:noFill/>
          </a:ln>
        </p:spPr>
      </p:pic>
      <p:sp>
        <p:nvSpPr>
          <p:cNvPr id="1649" name="Прямоугольник 1"/>
          <p:cNvSpPr/>
          <p:nvPr/>
        </p:nvSpPr>
        <p:spPr>
          <a:xfrm>
            <a:off x="322200" y="5113440"/>
            <a:ext cx="843300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псырмалар саны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ксималды балл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0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Шектік деңгей: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140-тан 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ір немесе бірнеше дұрыс жауапбы бар тест тапсырмаларын бағалау тәртібі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дұрыс жауаптарын толық таңдау - 2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1 қате (1 дұрыс жауап табылмады немесе 1 дұрыс емес жауап таңдалды) – 1 бал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-  2 немесе одан көп қателер – 0 бал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6:12:42Z</dcterms:created>
  <dc:creator>www.PHILka.RU</dc:creator>
  <dc:description/>
  <dc:language>en-US</dc:language>
  <cp:lastModifiedBy>Тогжан Жакыпова</cp:lastModifiedBy>
  <cp:lastPrinted>2017-01-21T10:57:46Z</cp:lastPrinted>
  <dcterms:modified xsi:type="dcterms:W3CDTF">2017-02-21T11:55:23Z</dcterms:modified>
  <cp:revision>791</cp:revision>
  <dc:subject/>
  <dc:title>Слайд 1</dc:title>
</cp:coreProperties>
</file>