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832F-1E95-4795-B1B7-CDB140C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0553-0C90-431F-A02C-BFC39EC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7EA7-CC3F-42E6-B858-C6B42819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1BA3-5757-4591-A02F-C14D1AE7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1F06-1087-4F26-ABEB-338C1357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D22-80F8-4C82-AF26-E53E51B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6376-E226-4A61-B951-7C446C0F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D07-2808-4484-AE39-AE3C1BF6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9CF-16A9-4F01-B605-1BD813E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512F-9182-490D-A712-55AD61EA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197-C256-4E0A-B8C9-184C3B5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1386-E7C5-430C-98CB-E3ECDEF1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EAF3-D241-4523-AC59-4DC8A05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236-1E1B-497E-A891-F9DD778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1D7-375D-40B2-8597-5B9DEFF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F150-0FB1-495C-9E5F-5A6EC741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528-F451-4B99-ACF6-63087B69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789E-7DAC-41AB-89E4-0A6D66F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94F3-9235-4156-8082-A47495E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D728-56E3-4076-847D-1190971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5D94-F2B8-44E6-8A0B-AE013408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7700-6F24-4EED-B5CA-5039F07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E2EF-0505-4EF5-9AB9-86D520C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E6DE-0493-4CF5-B20C-ADF82D6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E12-C369-44CD-9AB8-B7F09A354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A7D-BE0B-477B-AE76-AA1F2F9D37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79280" y="469800"/>
            <a:ext cx="879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Жасырынған әріптер”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514"/>
                </a:solidFill>
                <a:latin typeface="KZ Times New Roman"/>
              </a:rPr>
              <a:t>Көп нүктенің орнына тиісті әріптерді қойып көшіріп жазу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н... т...л...ң  ...р...ң  б...л, ( а; і; ы; ұ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т...ң б...п  т...р б...тт.... (ұ; я; ы; о; ұ; е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00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469800"/>
            <a:ext cx="8790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дасқан әріптер” ойыны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уан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,б,л,а,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ұ,а,з,т,с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н,ф,е,т,о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іңішке 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е,т,р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д,у,а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і,е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41:42Z</dcterms:created>
  <dc:creator>ученик</dc:creator>
  <dc:description/>
  <dc:language>en-US</dc:language>
  <cp:lastModifiedBy>Admin</cp:lastModifiedBy>
  <dcterms:modified xsi:type="dcterms:W3CDTF">2017-03-12T17:13:55Z</dcterms:modified>
  <cp:revision>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