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4630400" cy="10972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0960-D1C2-4A1F-93D9-324891B3F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1880" y="439560"/>
            <a:ext cx="131666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1880" y="2560320"/>
            <a:ext cx="13166640" cy="345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31880" y="6342120"/>
            <a:ext cx="13166640" cy="345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1C6E-8BA7-41F2-9F13-EAC3AA66A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31880" y="439560"/>
            <a:ext cx="131666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1880" y="2560320"/>
            <a:ext cx="6425280" cy="345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478640" y="2560320"/>
            <a:ext cx="6425280" cy="345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31880" y="6342120"/>
            <a:ext cx="6425280" cy="345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478640" y="6342120"/>
            <a:ext cx="6425280" cy="345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B407-4DA1-4D9B-97B2-E382952D9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31880" y="439560"/>
            <a:ext cx="131666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31880" y="2560320"/>
            <a:ext cx="4239360" cy="345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83640" y="2560320"/>
            <a:ext cx="4239360" cy="345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635400" y="2560320"/>
            <a:ext cx="4239360" cy="345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31880" y="6342120"/>
            <a:ext cx="4239360" cy="345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183640" y="6342120"/>
            <a:ext cx="4239360" cy="345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635400" y="6342120"/>
            <a:ext cx="4239360" cy="345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7EB1-714D-44AD-B795-C7D69FB34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31880" y="439560"/>
            <a:ext cx="131666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31880" y="2560320"/>
            <a:ext cx="13166640" cy="724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AC76-B75B-486A-B8BA-F313D97F7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1880" y="439560"/>
            <a:ext cx="131666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1880" y="2560320"/>
            <a:ext cx="13166640" cy="72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A0A7-F59A-4F23-B539-032FBFE89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1880" y="439560"/>
            <a:ext cx="131666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31880" y="2560320"/>
            <a:ext cx="6425280" cy="72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478640" y="2560320"/>
            <a:ext cx="6425280" cy="72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2881-8301-415B-AA2A-817FF7B71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1880" y="439560"/>
            <a:ext cx="131666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CB53-8CDC-4253-918C-DEE4CC6C1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31880" y="439560"/>
            <a:ext cx="13166640" cy="84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CD53-A030-4611-BFA4-FFB1E8744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31880" y="439560"/>
            <a:ext cx="131666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31880" y="2560320"/>
            <a:ext cx="6425280" cy="345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478640" y="2560320"/>
            <a:ext cx="6425280" cy="72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31880" y="6342120"/>
            <a:ext cx="6425280" cy="345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8EBC-E01A-473D-9832-44F0D0E9D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31880" y="439560"/>
            <a:ext cx="131666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31880" y="2560320"/>
            <a:ext cx="6425280" cy="72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478640" y="2560320"/>
            <a:ext cx="6425280" cy="345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478640" y="6342120"/>
            <a:ext cx="6425280" cy="345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04D6-10A7-4CFE-8335-02A000606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31880" y="439560"/>
            <a:ext cx="131666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31880" y="2560320"/>
            <a:ext cx="6425280" cy="345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478640" y="2560320"/>
            <a:ext cx="6425280" cy="345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31880" y="6342120"/>
            <a:ext cx="13166640" cy="345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937E-4F46-45F5-8F77-6FA465255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1880" y="439560"/>
            <a:ext cx="131666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1880" y="2560320"/>
            <a:ext cx="13166640" cy="72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31520" y="9991800"/>
            <a:ext cx="3413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998960" y="9991800"/>
            <a:ext cx="4632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0485000" y="9991800"/>
            <a:ext cx="3413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B1647-2D11-42BF-BF2A-A830A03927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14630400" cy="109728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5753160" y="419040"/>
            <a:ext cx="44956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ff0000"/>
                </a:solidFill>
                <a:latin typeface="Times New Roman"/>
              </a:rPr>
              <a:t>Ой  шақыру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397160" y="1144440"/>
            <a:ext cx="11836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Times New Roman"/>
              </a:rPr>
              <a:t>Бұл суреттер НЕЛЕР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 rot="1890000">
            <a:off x="2552400" y="3428640"/>
            <a:ext cx="25272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4000"/>
                </a:solidFill>
                <a:latin typeface="Times New Roman"/>
              </a:rPr>
              <a:t>құлшылық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4000"/>
                </a:solidFill>
                <a:latin typeface="Times New Roman"/>
              </a:rPr>
              <a:t>ету, сиыну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tempimage24"/>
          <p:cNvPicPr/>
          <p:nvPr/>
        </p:nvPicPr>
        <p:blipFill>
          <a:blip r:embed="rId2"/>
          <a:stretch/>
        </p:blipFill>
        <p:spPr>
          <a:xfrm>
            <a:off x="2768760" y="2577960"/>
            <a:ext cx="2412720" cy="2374920"/>
          </a:xfrm>
          <a:prstGeom prst="rect">
            <a:avLst/>
          </a:prstGeom>
          <a:ln w="0">
            <a:noFill/>
          </a:ln>
        </p:spPr>
      </p:pic>
      <p:sp>
        <p:nvSpPr>
          <p:cNvPr id="46" name="Text Box 7"/>
          <p:cNvSpPr/>
          <p:nvPr/>
        </p:nvSpPr>
        <p:spPr>
          <a:xfrm>
            <a:off x="3543480" y="7365960"/>
            <a:ext cx="177768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4000"/>
                </a:solidFill>
                <a:latin typeface="Times New Roman"/>
              </a:rPr>
              <a:t>мұсылма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tempimage26"/>
          <p:cNvPicPr/>
          <p:nvPr/>
        </p:nvPicPr>
        <p:blipFill>
          <a:blip r:embed="rId3"/>
          <a:stretch/>
        </p:blipFill>
        <p:spPr>
          <a:xfrm>
            <a:off x="2971800" y="5118120"/>
            <a:ext cx="2502000" cy="28828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9"/>
          <p:cNvSpPr/>
          <p:nvPr/>
        </p:nvSpPr>
        <p:spPr>
          <a:xfrm>
            <a:off x="8204040" y="3365640"/>
            <a:ext cx="295920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4000"/>
                </a:solidFill>
                <a:latin typeface="Times New Roman"/>
              </a:rPr>
              <a:t>Құран, діни кітап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tempimage28"/>
          <p:cNvPicPr/>
          <p:nvPr/>
        </p:nvPicPr>
        <p:blipFill>
          <a:blip r:embed="rId4"/>
          <a:stretch/>
        </p:blipFill>
        <p:spPr>
          <a:xfrm>
            <a:off x="7950240" y="2590920"/>
            <a:ext cx="3467160" cy="25146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1"/>
          <p:cNvSpPr/>
          <p:nvPr/>
        </p:nvSpPr>
        <p:spPr>
          <a:xfrm rot="108000">
            <a:off x="8140320" y="6527520"/>
            <a:ext cx="27939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4000"/>
                </a:solidFill>
                <a:latin typeface="Times New Roman"/>
              </a:rPr>
              <a:t> </a:t>
            </a:r>
            <a:r>
              <a:rPr b="1" i="1" lang="ru-RU" sz="2700" spc="-1" strike="noStrike">
                <a:solidFill>
                  <a:srgbClr val="004000"/>
                </a:solidFill>
                <a:latin typeface="Times New Roman"/>
              </a:rPr>
              <a:t>Алланың  үйі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2" descr="tempimage210"/>
          <p:cNvPicPr/>
          <p:nvPr/>
        </p:nvPicPr>
        <p:blipFill>
          <a:blip r:embed="rId5"/>
          <a:stretch/>
        </p:blipFill>
        <p:spPr>
          <a:xfrm>
            <a:off x="7759800" y="5473800"/>
            <a:ext cx="40258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5"/>
          <p:cNvPicPr/>
          <p:nvPr/>
        </p:nvPicPr>
        <p:blipFill>
          <a:blip r:embed="rId1"/>
          <a:stretch/>
        </p:blipFill>
        <p:spPr>
          <a:xfrm>
            <a:off x="0" y="82440"/>
            <a:ext cx="14630400" cy="10972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tempimage51"/>
          <p:cNvPicPr/>
          <p:nvPr/>
        </p:nvPicPr>
        <p:blipFill>
          <a:blip r:embed="rId2"/>
          <a:stretch/>
        </p:blipFill>
        <p:spPr>
          <a:xfrm>
            <a:off x="5689440" y="1460520"/>
            <a:ext cx="2540160" cy="21589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4"/>
          <p:cNvSpPr/>
          <p:nvPr/>
        </p:nvSpPr>
        <p:spPr>
          <a:xfrm>
            <a:off x="1892160" y="4241880"/>
            <a:ext cx="1045224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8000"/>
                </a:solidFill>
                <a:latin typeface="Times New Roman"/>
              </a:rPr>
              <a:t>Құран Кәрім - мұсылман  қауымының  қасиетті кітаб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8000"/>
                </a:solidFill>
                <a:latin typeface="Times New Roman"/>
              </a:rPr>
              <a:t>Құранда  Алла  тағаланың  атынан  айтылатын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i="1" lang="ru-RU" sz="4400" spc="-1" strike="noStrike">
                <a:solidFill>
                  <a:srgbClr val="008000"/>
                </a:solidFill>
                <a:latin typeface="Times New Roman"/>
              </a:rPr>
              <a:t>өсиет- өнегелер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8000"/>
                </a:solidFill>
                <a:latin typeface="Times New Roman"/>
              </a:rPr>
              <a:t>екі  дүниелік ереже -қағидалар  жинақталған.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2095560" y="7518240"/>
            <a:ext cx="11150640" cy="7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8T19:48:52Z</dcterms:created>
  <dc:creator>Admin</dc:creator>
  <dc:description/>
  <dc:language>en-US</dc:language>
  <cp:lastModifiedBy>Admin</cp:lastModifiedBy>
  <dcterms:modified xsi:type="dcterms:W3CDTF">2017-03-12T17:20:33Z</dcterms:modified>
  <cp:revision>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803000000000001024110</vt:lpwstr>
  </property>
</Properties>
</file>