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BC03-09DD-49D0-9F7F-7DE370950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5506-082E-4078-BF8D-6006927F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FBBB-EA72-4F9F-9DD1-EA2825F97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6894-BA33-4AAD-A04F-8764BD542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59B2A-DC9C-4C5E-B993-E0E34CB66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C4EEB-4D30-48F0-A679-BE62C8AB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4406A-93FF-416E-9E41-7FE6D9D9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6B189-BF44-4EB1-B56F-B17463D5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6DEEFE-9089-4D30-B4A6-EC5960D5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E929B-B41B-4648-9061-5849EE7E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E2A98-5883-4918-8C1E-007A55B3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C76D-19F2-4632-A1A7-48C33874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FA3CD-CA33-4CF8-B7A6-7094FE38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13145-F8D8-4D7B-B766-49638A43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9B688-17B0-4CD9-BBBE-CC8C2037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9817B-0442-4163-A807-DEE952DA8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51353-6C77-4A7E-AF8B-793955A6F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5C5D-0461-4633-BA17-C589F4BF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1C3F-D6E6-4F1F-AD33-D69B3D9F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44A5-5022-4CC0-AA10-237B0F30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1D08-4CF4-40BA-B951-8941D547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DEB5-DDA7-4C8C-871B-80F0CA41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A7FB-1C50-4FB7-97D3-9A5FF8CD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7015-96C8-4BDF-ADBC-DBE38C61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E065-D79F-48FC-8F4B-E45583B8C3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92F0-E2B6-4BCD-804C-88DDB44051D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77360" y="2664000"/>
            <a:ext cx="793116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Tahoma"/>
              </a:rPr>
              <a:t>Сабақтың тақырыб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1" lang="kk-KZ" sz="3200" spc="-1" strike="noStrike">
                <a:solidFill>
                  <a:srgbClr val="ffffff"/>
                </a:solidFill>
                <a:latin typeface="Tahoma"/>
              </a:rPr>
              <a:t>Дыбыс үндестігі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01680" y="475920"/>
            <a:ext cx="854064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66"/>
                </a:solidFill>
                <a:latin typeface="Tahoma"/>
              </a:rPr>
              <a:t>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66"/>
                </a:solidFill>
                <a:latin typeface="Tahoma"/>
              </a:rPr>
              <a:t>                                                             </a:t>
            </a:r>
            <a:r>
              <a:rPr b="1" lang="kk-KZ" sz="2400" spc="-1" strike="noStrike">
                <a:solidFill>
                  <a:srgbClr val="ffff66"/>
                </a:solidFill>
                <a:latin typeface="Tahoma"/>
              </a:rPr>
              <a:t>ілгерінді ықпа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66"/>
                </a:solidFill>
                <a:latin typeface="Tahoma"/>
              </a:rPr>
              <a:t>3. Дыбыс үндестіг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66"/>
                </a:solidFill>
                <a:latin typeface="Tahoma"/>
              </a:rPr>
              <a:t>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66"/>
                </a:solidFill>
                <a:latin typeface="Tahoma"/>
              </a:rPr>
              <a:t>                                                      </a:t>
            </a:r>
            <a:r>
              <a:rPr b="1" lang="kk-KZ" sz="2400" spc="-1" strike="noStrike">
                <a:solidFill>
                  <a:srgbClr val="ffff66"/>
                </a:solidFill>
                <a:latin typeface="Tahoma"/>
              </a:rPr>
              <a:t>кейінді ықпа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66"/>
                </a:solidFill>
                <a:latin typeface="Tahoma"/>
              </a:rPr>
              <a:t>а) ілгерінді ықпал- көрші дыбыстардың  алғашқысы соңғысын өзіне ұқсата әсер етуі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66"/>
                </a:solidFill>
                <a:latin typeface="Tahoma"/>
              </a:rPr>
              <a:t>Мысал: бала –дан, қала +ға, әке+г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66"/>
                </a:solidFill>
                <a:latin typeface="Tahoma"/>
              </a:rPr>
              <a:t>Ә) кейінді ықпал- сөз бен қосымшаның, сөз бен сөздің аралығында кейінгі дыбыстың алғашқы дыбысқа әсер етуі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66"/>
                </a:solidFill>
                <a:latin typeface="Tahoma"/>
              </a:rPr>
              <a:t>Мысалы: сабақ –сабағы, кітап –кітабы, есік-есігі, теп-теуіп т.б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Line 4"/>
          <p:cNvSpPr/>
          <p:nvPr/>
        </p:nvSpPr>
        <p:spPr>
          <a:xfrm flipV="1">
            <a:off x="3851280" y="1267920"/>
            <a:ext cx="863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Line 5"/>
          <p:cNvSpPr/>
          <p:nvPr/>
        </p:nvSpPr>
        <p:spPr>
          <a:xfrm>
            <a:off x="3780000" y="1844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630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ahoma"/>
              </a:rPr>
              <a:t>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50920" y="476280"/>
          <a:ext cx="8569080" cy="6310440"/>
        </p:xfrm>
        <a:graphic>
          <a:graphicData uri="http://schemas.openxmlformats.org/drawingml/2006/table">
            <a:tbl>
              <a:tblPr/>
              <a:tblGrid>
                <a:gridCol w="3179520"/>
                <a:gridCol w="538956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Қосымшалар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уын үндестігіне бағынбайтын қосымшаны тап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е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ш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паз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нікі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лар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да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қо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дың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ты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тың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кер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хан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15:29:13Z</dcterms:created>
  <dc:creator>Анар</dc:creator>
  <dc:description/>
  <dc:language>en-US</dc:language>
  <cp:lastModifiedBy>Admin</cp:lastModifiedBy>
  <dcterms:modified xsi:type="dcterms:W3CDTF">2017-03-12T17:14:58Z</dcterms:modified>
  <cp:revision>17</cp:revision>
  <dc:subject/>
  <dc:title>Слайд 1</dc:title>
</cp:coreProperties>
</file>