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6C8-5C48-4C5C-83C0-9C505795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584-F8C6-49D4-A756-8EF8B488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5EE-FB99-4042-A606-097C343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FDE-C98A-43DD-B1EE-5BCD231F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17A7-5E36-4B05-B55D-88041D08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74B2-AC01-4A85-ABD5-313A5195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12C-BF1A-45C2-BA87-B17B506C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8B0D-174E-40D1-8F34-CC24E900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6A60-0A37-4FCC-A10D-C2BD54FE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5F96-3AAD-4258-A95A-077C55BA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B3A-FAAD-48E9-8FB8-34E1D921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4E6-A47E-4A26-AF62-2A3F4895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A181-18A6-4660-A9B2-89BF2E82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AE73-B361-4AB5-913D-887A9F4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1CB0-5FC2-4D73-A057-B653CA0B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77FF-D261-40FD-9928-A04CD62E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935D-7FD6-4ADF-9BDC-B005F431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FEFD-CF56-4AD3-8B06-4B454A93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EB1E-9BFA-4075-BD83-114672C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0E3B-15A8-44A9-99A9-4FAC0DF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4250-B4D8-4600-8E2D-B88CF8E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9ADE-451E-433E-9457-AF6A5788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255-FDAE-485E-85FC-F21CFE9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424B-9070-4E58-8CEA-FD8FAEEB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4AB3-2A2E-4C06-B29E-EEFCEBB7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7D3C-D649-4235-BEBD-2C20E85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2EA2-8B73-4090-B125-EE54F42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5C1F-6807-489D-8B6B-C7D537A8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F0AA-5847-46F2-9CF0-CFFA19BC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A74F-6276-4844-AF69-074B93D8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87863-E627-4BF7-B2C1-A29A5C00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22ECF-B120-46D1-81E0-CC488725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4DDB7-D8FD-43C1-87B7-F5486B51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1F4-6021-4752-A5A6-834D8DA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A4251-9138-4FA1-905A-3E99A16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47EAD-422C-440E-9203-00D7D1F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F42B4-2C85-4184-B163-17B522D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278F7-5033-4040-996C-E2D93EF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DAA53-0A70-47BA-B0B5-7A8CE6C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632CB-0CF4-42B3-91B6-46EB875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6BC9B-E284-431A-B741-499E467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70114-714D-45D0-BED1-62FFADDE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3654A-3279-4F2C-9086-1E3499FB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A12-9287-4644-BA95-7DF19FE8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7EF-AE0C-49AD-AB4F-7E4053A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D92-BD98-4CD8-88E1-3BE3F632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892-1E89-46DC-831E-DDC029B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ECA-355F-4DCD-B972-8256CE7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53E-5FDF-439B-8B76-3EC662D5EA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0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6D8-334B-4DB1-8432-278ABF3F8C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6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6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6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6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7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43F-98C3-4D86-88FD-AD20C43A41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45DF-C7D2-4857-BEBB-FAB158C92D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58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ffcc"/>
                </a:solidFill>
                <a:latin typeface="Monotype Corsiva"/>
              </a:rPr>
              <a:t>Ыбырай Алтынса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ffcc"/>
                </a:solidFill>
                <a:latin typeface="Monotype Corsiva"/>
              </a:rPr>
              <a:t>1841-18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Үміт еткен көзімнің нұры – бала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ныңа жәрдем берсін хақ тағал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Атаң мұнда анаң мен есен – аман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Сүйіп сәлем жазады бүгін саға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Балқож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250920" y="260280"/>
            <a:ext cx="7740720" cy="62643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Өнер – білім бар жұртта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астан сарай салғыз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Айшылық алыс жерлерде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Көзіңді ашып – жұмғанш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ылдам хабар алғыз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...Отынсыз тамақ пісірді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Сусыздан сусын ішірд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еңізге жүзді балықта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Дұниені кезді жалықп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быра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Біз надан боп өсірдік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Иектегі сақал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Өнер – жігіт көркі” деп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Ескермедік мақал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Біз болмасақ, сіз барсыз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Үміт еткен достарым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Сіздерге бердім батамды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Ыбыра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Бір аллаға сыйынып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Кел, балалар, оқылық</a:t>
            </a:r>
            <a:r>
              <a:rPr b="0" i="1" lang="ru-RU" sz="28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Оқығанды көңілг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қыласпен тоқылық</a:t>
            </a:r>
            <a:r>
              <a:rPr b="0" i="1" lang="ru-RU" sz="28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Оқысаңдар, балалар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Шамнан шырақ жағыл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ілегенің алдыңн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Іздемей – ақ табыл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быра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79280" y="260280"/>
            <a:ext cx="7632720" cy="108108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0 h 1081080"/>
              <a:gd name="textAreaBottom" fmla="*/ 946080 h 10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300" spc="-1" strike="noStrike">
                <a:solidFill>
                  <a:srgbClr val="2f1311"/>
                </a:solidFill>
                <a:latin typeface="Monotype Corsiva"/>
              </a:rPr>
              <a:t>Ыбырайдың Алтынсариннің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300" spc="-1" strike="noStrike">
                <a:solidFill>
                  <a:srgbClr val="2f1311"/>
                </a:solidFill>
                <a:latin typeface="Monotype Corsiva"/>
              </a:rPr>
              <a:t>өлеңдері мен шығармалары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50920" y="1628640"/>
            <a:ext cx="7416720" cy="4753080"/>
          </a:xfrm>
          <a:prstGeom prst="wedgeRoundRectCallout">
            <a:avLst>
              <a:gd name="adj1" fmla="val -2611"/>
              <a:gd name="adj2" fmla="val 1389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Өлеңдері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Кел,, балалар, оқылық”, “Өнер – білім бар жұрттар”, “Өзен”, “Жаз”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 “</a:t>
            </a: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Әй, жігіттер”, “Залым төреге” т.б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Әңгімелері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Ағаш үй мен киіз үй”, “Қыпшақ Сейітқұл”,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Асан мен Үсен” т.б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0" lang="kk-KZ" sz="3200" spc="-1" strike="noStrike">
                <a:solidFill>
                  <a:srgbClr val="2f1311"/>
                </a:solidFill>
                <a:latin typeface="Arial"/>
              </a:rPr>
              <a:t>өздікті көшіріп               ж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250920" y="260280"/>
            <a:ext cx="7416720" cy="1081080"/>
          </a:xfrm>
          <a:prstGeom prst="flowChartOnlineStorage">
            <a:avLst/>
          </a:prstGeom>
          <a:solidFill>
            <a:srgbClr val="ccffcc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0000"/>
                </a:solidFill>
                <a:latin typeface="Monotype Corsiva"/>
              </a:rPr>
              <a:t>Сөздікпен жұмы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250920" y="1628640"/>
            <a:ext cx="7416720" cy="4896000"/>
          </a:xfrm>
          <a:prstGeom prst="upArrowCallout">
            <a:avLst>
              <a:gd name="adj1" fmla="val 15949"/>
              <a:gd name="adj2" fmla="val 25128"/>
              <a:gd name="adj3" fmla="val 25551"/>
              <a:gd name="adj4" fmla="val 66660"/>
            </a:avLst>
          </a:prstGeom>
          <a:solidFill>
            <a:srgbClr val="ff99cc"/>
          </a:solidFill>
          <a:ln w="936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Өксіген – бұл жерде: шөлдеген мағынасын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Қынарда – жағасында, маңын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й – орын (жер), қоны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набында – жанында, маңынд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250920" y="189000"/>
            <a:ext cx="7416720" cy="1224000"/>
          </a:xfrm>
          <a:prstGeom prst="irregularSeal1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Monotype Corsiva"/>
              </a:rPr>
              <a:t>Сөзжұмбақ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63520" y="1598760"/>
          <a:ext cx="7381800" cy="4497120"/>
        </p:xfrm>
        <a:graphic>
          <a:graphicData uri="http://schemas.openxmlformats.org/drawingml/2006/table">
            <a:tbl>
              <a:tblPr/>
              <a:tblGrid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Б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4:34:51Z</dcterms:created>
  <dc:creator>User15</dc:creator>
  <dc:description/>
  <dc:language>en-US</dc:language>
  <cp:lastModifiedBy>Admin</cp:lastModifiedBy>
  <dcterms:modified xsi:type="dcterms:W3CDTF">2017-03-12T17:41:28Z</dcterms:modified>
  <cp:revision>15</cp:revision>
  <dc:subject/>
  <dc:title>Слайд 1</dc:title>
</cp:coreProperties>
</file>