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656-B1B1-4CB2-9017-6E895BD1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BAD-FE17-4AF3-BEBB-0D7F820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4CF-7F8B-4713-88EE-96DE27DB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E97-CCCA-411F-AEC9-7677FB36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AA1-35B9-4092-BF75-F227C2D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41D-687D-4230-AB93-43AF8DA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E4E-AA6C-4646-A744-D7ED1B8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95A-224D-4AEB-8B33-7A17F964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10E-3EA0-4C8A-8945-D750C1C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82E-8EDD-4BE1-BB40-D422E85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CF0-D385-40BD-AD84-210625C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933-C7D6-4A32-AEC9-8CC98FB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35B7-5C05-40BD-B83C-C2C170504A1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kk-KZ" sz="3200" spc="-1" strike="noStrike">
                <a:solidFill>
                  <a:srgbClr val="ff0000"/>
                </a:solidFill>
                <a:latin typeface="Calibri"/>
              </a:rPr>
              <a:t>Сөйлемдерді көшіріп ж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1. Ботасы өлген інгендей боздайды да жылай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2. Бір кезде төрдегілер қойдай дүрлігіп, есікке келд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3. Үріккен еліктей елегізе қалған ол төмен қ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</a:rPr>
              <a:t>Тұрақты сөз тіркестерін көшіріп ж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Үріп ауызға сал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Ит арқасы қия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Зәре-құты қалм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мұрнынан шаншылып жү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жүрегінің түгі б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аузы-аузына жұқп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құйып қой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08:49Z</dcterms:created>
  <dc:creator>UserXP</dc:creator>
  <dc:description/>
  <dc:language>en-US</dc:language>
  <cp:lastModifiedBy>Admin</cp:lastModifiedBy>
  <dcterms:modified xsi:type="dcterms:W3CDTF">2017-03-12T17:37:24Z</dcterms:modified>
  <cp:revision>6</cp:revision>
  <dc:subject/>
  <dc:title>Слайд 1</dc:title>
</cp:coreProperties>
</file>